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5333-3227-4DF9-B1A6-5EA37F73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B1F2-E169-49D7-BBC9-B6D60E56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1C87-AD69-4407-887C-B979C5F9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4A38-5C40-452D-8E9F-6BAAED42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F47-1AFE-48C3-919D-4421EA0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5BDD-239D-42EC-BC3B-2ACA30A7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FB15-31BC-4A2D-AA11-A0AB17C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FA88-C6E8-4239-AE1F-F7F60E4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0E0-362E-42E5-9928-78978E7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43F1-4759-49DD-88CC-F9D7C528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3F5-DDC1-4718-AF99-C2FAAF3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5E4D-AAD3-4CD5-A7C4-4906A1D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2AC-EC24-4DB9-AC5D-0CD87A3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150D-8900-4A9C-BEA3-D587163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91B6-D679-42D4-B484-6B7A7E4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1E4A-AE85-4FE2-BB36-CDE41F38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B17-1641-4437-84B7-C6A30462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FBA8-4E8A-4C41-AEDA-F54A34F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A522-D90E-42D6-9F10-C483D3E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8CA5-94E1-481B-8407-DF7C232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D1B9-3424-4580-BE5E-6DD8D81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6872-F7D7-422E-B71D-0C9B213A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3D21-2C88-4EC2-82F4-5EC50B3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2081-DC49-4BA7-AA84-3825660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E24-8458-44BD-AFDB-57D18CAD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6237360"/>
            <a:ext cx="1828800" cy="533160"/>
            <a:chOff x="7010280" y="623736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623736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623736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623736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528-5D15-4B21-8938-DC55A5F9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13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HY울릉도M"/>
                <a:ea typeface="HY울릉도M"/>
              </a:rPr>
              <a:t>KongSaTang</a:t>
            </a:r>
            <a:endParaRPr b="1" lang="en-US" sz="4400" spc="-1" strike="noStrike">
              <a:solidFill>
                <a:srgbClr val="515f7b"/>
              </a:solidFill>
              <a:latin typeface="Arial"/>
            </a:endParaRPr>
          </a:p>
        </p:txBody>
      </p:sp>
      <p:pic>
        <p:nvPicPr>
          <p:cNvPr id="91" name="그림 4" descr="bus_btn.jpg"/>
          <p:cNvPicPr/>
          <p:nvPr/>
        </p:nvPicPr>
        <p:blipFill>
          <a:blip r:embed="rId1"/>
          <a:stretch/>
        </p:blipFill>
        <p:spPr>
          <a:xfrm>
            <a:off x="1332000" y="2276640"/>
            <a:ext cx="6460920" cy="287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56920" y="1693800"/>
            <a:ext cx="26906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부산광역시 시내버스 환승안내 프로그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71640" y="3139920"/>
            <a:ext cx="4248360" cy="144720"/>
          </a:xfrm>
          <a:prstGeom prst="ellipse">
            <a:avLst/>
          </a:prstGeom>
          <a:solidFill>
            <a:srgbClr val="9fcad3"/>
          </a:soli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39640" y="2311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15f7b"/>
                </a:solidFill>
                <a:latin typeface="HY울릉도M"/>
                <a:ea typeface="HY울릉도M"/>
              </a:rPr>
              <a:t> </a:t>
            </a:r>
            <a:r>
              <a:rPr b="0" lang="ko-KR" sz="6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소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소개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48360" cy="3797280"/>
          </a:xfrm>
          <a:prstGeom prst="rect">
            <a:avLst/>
          </a:prstGeom>
          <a:ln cap="rnd" w="57240">
            <a:solidFill>
              <a:srgbClr val="660066"/>
            </a:solidFill>
            <a:custDash>
              <a:ds d="100000" sp="1000"/>
            </a:custDash>
            <a:miter/>
          </a:ln>
        </p:spPr>
      </p:pic>
      <p:graphicFrame>
        <p:nvGraphicFramePr>
          <p:cNvPr id="97" name=""/>
          <p:cNvGraphicFramePr/>
          <p:nvPr/>
        </p:nvGraphicFramePr>
        <p:xfrm>
          <a:off x="1044720" y="5373720"/>
          <a:ext cx="7704000" cy="779400"/>
        </p:xfrm>
        <a:graphic>
          <a:graphicData uri="http://schemas.openxmlformats.org/drawingml/2006/table">
            <a:tbl>
              <a:tblPr/>
              <a:tblGrid>
                <a:gridCol w="1099800"/>
                <a:gridCol w="1101600"/>
                <a:gridCol w="1100160"/>
                <a:gridCol w="1100160"/>
                <a:gridCol w="1100160"/>
                <a:gridCol w="1101960"/>
                <a:gridCol w="1100160"/>
              </a:tblGrid>
              <a:tr h="3762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총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현행유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노선신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노선연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노선변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노선단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바탕"/>
                          <a:ea typeface="바탕"/>
                        </a:rPr>
                        <a:t>노선폐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4bd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바탕"/>
                          <a:ea typeface="바탕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7f5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596400" y="836640"/>
            <a:ext cx="2225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515f7b"/>
                </a:solidFill>
                <a:latin typeface="Arial"/>
              </a:rPr>
              <a:t>버스노선 변경사항</a:t>
            </a: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소개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07960"/>
            <a:ext cx="2847960" cy="420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56000" y="4005360"/>
            <a:ext cx="381636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d17a"/>
              </a:gs>
              <a:gs pos="50000">
                <a:srgbClr val="ffffff"/>
              </a:gs>
              <a:gs pos="100000">
                <a:srgbClr val="f4d17a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현재 부산을 대상으로 하는 정확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웹 상의 노선 정보 서비스의 부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68960" y="4941720"/>
            <a:ext cx="381636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d17a"/>
              </a:gs>
              <a:gs pos="50000">
                <a:srgbClr val="ffffff"/>
              </a:gs>
              <a:gs pos="100000">
                <a:srgbClr val="f4d17a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부산버스 노선 및 환승 체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정보 서비스 필요성 증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6880" y="3073320"/>
            <a:ext cx="381636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d17a"/>
              </a:gs>
              <a:gs pos="50000">
                <a:srgbClr val="ffffff"/>
              </a:gs>
              <a:gs pos="100000">
                <a:srgbClr val="f4d17a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부산 버스 환승제 도입으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버스 및 지하철의 승객 증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197000"/>
            <a:ext cx="4824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d17a"/>
              </a:gs>
              <a:gs pos="50000">
                <a:srgbClr val="ffffff"/>
              </a:gs>
              <a:gs pos="100000">
                <a:srgbClr val="f4d17a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일 부산시내버스 환승제 도입으로 공공기관에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제공하는 서비스보다 좀 더 차별화되고 사용자들의 접근이 편리한 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서비스가 필요함에 따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SaTang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프로그램을 선정하게 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KongSaTang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프로그램은버스별 노선 검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지역별 노선 검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환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정보 검색을 편리하고 정확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S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맵을 통해 사용자들에게 서비스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사용자들 간의 유용한 정보를 전광판을 통해 실시간으로 공유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98640" y="5656320"/>
            <a:ext cx="273672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Arial"/>
              </a:rPr>
              <a:t>부산일보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007.5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0560" y="765000"/>
            <a:ext cx="25668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515f7b"/>
                </a:solidFill>
                <a:latin typeface="Arial"/>
              </a:rPr>
              <a:t>프로젝트 소개 및 목적</a:t>
            </a: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197000"/>
            <a:ext cx="8280360" cy="4896000"/>
          </a:xfrm>
          <a:prstGeom prst="roundRect">
            <a:avLst>
              <a:gd name="adj" fmla="val 6287"/>
            </a:avLst>
          </a:prstGeom>
          <a:noFill/>
          <a:ln w="38160">
            <a:solidFill>
              <a:srgbClr val="660066"/>
            </a:solidFill>
            <a:prstDash val="sysDot"/>
            <a:miter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00360" y="3068640"/>
            <a:ext cx="4248000" cy="144360"/>
          </a:xfrm>
          <a:prstGeom prst="ellipse">
            <a:avLst/>
          </a:prstGeom>
          <a:solidFill>
            <a:srgbClr val="9fcad3"/>
          </a:soli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2311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15f7b"/>
                </a:solidFill>
                <a:latin typeface="HY울릉도M"/>
                <a:ea typeface="HY울릉도M"/>
              </a:rPr>
              <a:t> </a:t>
            </a:r>
            <a:r>
              <a:rPr b="0" lang="ko-KR" sz="6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구성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개요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1571760" y="511668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지역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버스검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5080" y="4432320"/>
            <a:ext cx="1727280" cy="141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96880" y="3789360"/>
            <a:ext cx="1241640" cy="204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606680" cy="1239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08360" y="5241960"/>
            <a:ext cx="2232000" cy="41904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8686ec"/>
              </a:gs>
              <a:gs pos="100000">
                <a:srgbClr val="3d3d6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92360" y="4581360"/>
            <a:ext cx="2232000" cy="36036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510912"/>
                <a:lnTo>
                  <a:pt x="21081" y="13738"/>
                </a:lnTo>
                <a:lnTo>
                  <a:pt x="17280" y="21600"/>
                </a:lnTo>
                <a:lnTo>
                  <a:pt x="12441" y="13738"/>
                </a:lnTo>
                <a:lnTo>
                  <a:pt x="14601" y="13738"/>
                </a:lnTo>
                <a:arcTo wR="7560" hR="21600" stAng="-2889088" swAng="-2153477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8686ec"/>
              </a:gs>
              <a:gs pos="100000">
                <a:srgbClr val="3d3d6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230400">
            <a:off x="5111280" y="3351240"/>
            <a:ext cx="2148120" cy="360360"/>
          </a:xfrm>
          <a:custGeom>
            <a:avLst/>
            <a:gdLst>
              <a:gd name="textAreaLeft" fmla="*/ 375840 w 2148120"/>
              <a:gd name="textAreaRight" fmla="*/ 1557360 w 21481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a787b"/>
              </a:gs>
              <a:gs pos="100000">
                <a:srgbClr val="733738"/>
              </a:gs>
            </a:gsLst>
            <a:lin ang="2172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3234000">
            <a:off x="5447160" y="2740680"/>
            <a:ext cx="2144880" cy="276120"/>
          </a:xfrm>
          <a:custGeom>
            <a:avLst/>
            <a:gdLst>
              <a:gd name="textAreaLeft" fmla="*/ 375120 w 2144880"/>
              <a:gd name="textAreaRight" fmla="*/ 1555200 w 214488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510912"/>
                <a:lnTo>
                  <a:pt x="21081" y="13738"/>
                </a:lnTo>
                <a:lnTo>
                  <a:pt x="17280" y="21600"/>
                </a:lnTo>
                <a:lnTo>
                  <a:pt x="12441" y="13738"/>
                </a:lnTo>
                <a:lnTo>
                  <a:pt x="14601" y="13738"/>
                </a:lnTo>
                <a:arcTo wR="7560" hR="21600" stAng="-2889088" swAng="-2153477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a787b"/>
              </a:gs>
              <a:gs pos="100000">
                <a:srgbClr val="733738"/>
              </a:gs>
            </a:gsLst>
            <a:lin ang="8634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4400" y="3497400"/>
            <a:ext cx="7581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요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79320" y="4073400"/>
            <a:ext cx="7581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2.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요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0400" y="2633760"/>
            <a:ext cx="7581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4.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응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2400" y="5730840"/>
            <a:ext cx="7581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3.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휴먼엑스포"/>
              </a:rPr>
              <a:t>응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240" y="2781360"/>
            <a:ext cx="970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사용자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6760" y="5803920"/>
            <a:ext cx="1162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DB</a:t>
            </a: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서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9040" y="5803920"/>
            <a:ext cx="970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웹서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1880" y="907920"/>
            <a:ext cx="2042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515f7b"/>
                </a:solidFill>
                <a:latin typeface="Arial"/>
              </a:rPr>
              <a:t>프로그램 흐름도</a:t>
            </a: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515f7b"/>
                </a:solidFill>
                <a:latin typeface="HY울릉도M"/>
                <a:ea typeface="HY울릉도M"/>
              </a:rPr>
              <a:t>프로젝트 개요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5400" y="2373480"/>
            <a:ext cx="2232000" cy="69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41fd"/>
              </a:gs>
              <a:gs pos="50000">
                <a:srgbClr val="ffffff"/>
              </a:gs>
              <a:gs pos="100000">
                <a:srgbClr val="7741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환승지역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71960" y="2759040"/>
            <a:ext cx="865080" cy="1584360"/>
          </a:xfrm>
          <a:prstGeom prst="rightArrow">
            <a:avLst>
              <a:gd name="adj1" fmla="val 53102"/>
              <a:gd name="adj2" fmla="val 5725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80200" y="2368440"/>
            <a:ext cx="2968560" cy="3724560"/>
          </a:xfrm>
          <a:prstGeom prst="rect">
            <a:avLst/>
          </a:prstGeom>
          <a:ln w="57240">
            <a:solidFill>
              <a:srgbClr val="660066"/>
            </a:solidFill>
            <a:prstDash val="sysDot"/>
            <a:miter/>
          </a:ln>
        </p:spPr>
      </p:pic>
      <p:sp>
        <p:nvSpPr>
          <p:cNvPr id="131" name=""/>
          <p:cNvSpPr/>
          <p:nvPr/>
        </p:nvSpPr>
        <p:spPr>
          <a:xfrm>
            <a:off x="1265400" y="3365640"/>
            <a:ext cx="2232000" cy="69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41fd"/>
              </a:gs>
              <a:gs pos="50000">
                <a:srgbClr val="ffffff"/>
              </a:gs>
              <a:gs pos="100000">
                <a:srgbClr val="7741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버스노선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65400" y="4356000"/>
            <a:ext cx="2232000" cy="69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41fd"/>
              </a:gs>
              <a:gs pos="50000">
                <a:srgbClr val="ffffff"/>
              </a:gs>
              <a:gs pos="100000">
                <a:srgbClr val="7741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지역별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5400" y="5346720"/>
            <a:ext cx="2232000" cy="69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41fd"/>
              </a:gs>
              <a:gs pos="50000">
                <a:srgbClr val="ffffff"/>
              </a:gs>
              <a:gs pos="100000">
                <a:srgbClr val="7741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주요목적지별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1484280"/>
            <a:ext cx="7129440" cy="647640"/>
          </a:xfrm>
          <a:prstGeom prst="rect">
            <a:avLst/>
          </a:prstGeom>
          <a:gradFill rotWithShape="0">
            <a:gsLst>
              <a:gs pos="0">
                <a:srgbClr val="22bc3c"/>
              </a:gs>
              <a:gs pos="50000">
                <a:srgbClr val="e2f5e5"/>
              </a:gs>
              <a:gs pos="100000">
                <a:srgbClr val="22bc3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수평선M"/>
                <a:ea typeface="HY수평선M"/>
              </a:rPr>
              <a:t>준공영제 시행에 따른 버스노선 변경안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11960" y="907920"/>
            <a:ext cx="1676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515f7b"/>
                </a:solidFill>
                <a:latin typeface="Arial"/>
              </a:rPr>
              <a:t>서비스 항목</a:t>
            </a:r>
            <a:r>
              <a:rPr b="1" lang="en-US" sz="2400" spc="-1" strike="noStrike">
                <a:solidFill>
                  <a:srgbClr val="515f7b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4:20:35Z</dcterms:created>
  <dc:creator>명선용</dc:creator>
  <dc:description/>
  <cp:keywords/>
  <dc:language>en-US</dc:language>
  <cp:lastModifiedBy>sjlee</cp:lastModifiedBy>
  <dcterms:modified xsi:type="dcterms:W3CDTF">2007-11-20T05:44:09Z</dcterms:modified>
  <cp:revision>8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