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1960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2366-BB8B-47D5-AB4F-35C177C29AD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0425-7C6A-4BA1-A7CE-0B7C851E4C8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양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PU 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코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듀오 콘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.66GHz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M : 2G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 언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 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dit Plu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690C-94B4-4F88-8002-56D91DF4777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양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PU 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코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듀오 콘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.66GHz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M : 2G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 언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 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dit Plu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CB1D-EEA5-42AF-A21F-C4561FA37F9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양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PU 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코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듀오 콘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.66GHz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M : 2G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 언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 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dit Plu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2A5C-50FA-44E1-9445-0774AF799F2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양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PU 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코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듀오 콘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.66GHz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M : 2G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 언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 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dit Plu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B1DE-7C7D-4190-8C09-BD1A082383A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FB20-9139-490A-B23E-B8C993CA61C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E40E-BF19-4F80-8BA9-9D58718EDF7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6AB8-5589-4A25-AD89-6FF75342459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모든 상황에서 가장 좋은 알고리즘은 없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각의 정렬 알고리즘 비교 분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황에 맞는 알고리즘 찾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7105-17EE-4CDE-AB4B-2458851255C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양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PU 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코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듀오 콘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.66GHz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M : 2G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 언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 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dit Plu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958D-B882-40CF-974A-2A79D341DB9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모든 상황에서 가장 좋은 알고리즘은 없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각의 정렬 알고리즘 비교 분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황에 맞는 알고리즘 찾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3509-65E8-4CE3-9DDC-F155DDE2B91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양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PU 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코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듀오 콘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.66GHz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M : 2G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 언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 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dit Plu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F6D5-ABC8-4D9A-8F4F-587334BAB3C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양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PU 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코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듀오 콘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.66GHz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M : 2G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 언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 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dit Plu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CC17-24C3-49FB-B26A-CFB7487E415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양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PU 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코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듀오 콘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.66GHz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M : 2G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 언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 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dit Plu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1960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F789-AE42-467E-9D5E-325F9568D39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양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PU 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코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듀오 콘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.66GHz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M : 2G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 언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발 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dit Plu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템플릿디자인6_목차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1" descr="템플릿디자인6_서브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8" descr="템플릿디자인6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41"/>
          <p:cNvSpPr/>
          <p:nvPr/>
        </p:nvSpPr>
        <p:spPr>
          <a:xfrm>
            <a:off x="-684360" y="735120"/>
            <a:ext cx="9360000" cy="1295280"/>
          </a:xfrm>
          <a:prstGeom prst="parallelogram">
            <a:avLst>
              <a:gd name="adj" fmla="val -29094"/>
            </a:avLst>
          </a:prstGeom>
          <a:gradFill rotWithShape="0">
            <a:gsLst>
              <a:gs pos="0">
                <a:srgbClr val="9ac6d6"/>
              </a:gs>
              <a:gs pos="100000">
                <a:srgbClr val="e4f0f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AutoShape 42"/>
          <p:cNvSpPr/>
          <p:nvPr/>
        </p:nvSpPr>
        <p:spPr>
          <a:xfrm>
            <a:off x="4838760" y="2419200"/>
            <a:ext cx="4735440" cy="433440"/>
          </a:xfrm>
          <a:prstGeom prst="parallelogram">
            <a:avLst>
              <a:gd name="adj" fmla="val 625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동의 대학교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년 정지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AutoShape 43"/>
          <p:cNvSpPr/>
          <p:nvPr/>
        </p:nvSpPr>
        <p:spPr>
          <a:xfrm flipV="1">
            <a:off x="539640" y="6307920"/>
            <a:ext cx="8064720" cy="576360"/>
          </a:xfrm>
          <a:prstGeom prst="pie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7cb6ca">
                  <a:alpha val="6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8000" y="1019160"/>
            <a:ext cx="820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Linux GCC Compiler </a:t>
            </a:r>
            <a:r>
              <a:rPr b="1" lang="ko-KR" sz="3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기반</a:t>
            </a:r>
            <a:r>
              <a:rPr b="1" lang="ko-KR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Berlin Sans FB Demi"/>
              </a:rPr>
              <a:t>           </a:t>
            </a:r>
            <a:r>
              <a:rPr b="0" i="1" lang="en-US" sz="4300" spc="-1" strike="noStrike">
                <a:solidFill>
                  <a:srgbClr val="000000"/>
                </a:solidFill>
                <a:latin typeface="Berlin Sans FB Demi"/>
              </a:rPr>
              <a:t>Development Tool G_Stdio</a:t>
            </a:r>
            <a:endParaRPr b="0" lang="en-US" sz="4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71"/>
          <p:cNvSpPr/>
          <p:nvPr/>
        </p:nvSpPr>
        <p:spPr>
          <a:xfrm flipH="1">
            <a:off x="538200" y="1763640"/>
            <a:ext cx="8066160" cy="4681440"/>
          </a:xfrm>
          <a:prstGeom prst="roundRect">
            <a:avLst>
              <a:gd name="adj" fmla="val 2472"/>
            </a:avLst>
          </a:prstGeom>
          <a:gradFill rotWithShape="0">
            <a:gsLst>
              <a:gs pos="0">
                <a:srgbClr val="e8f5fc"/>
              </a:gs>
              <a:gs pos="100000">
                <a:srgbClr val="f3fafd"/>
              </a:gs>
            </a:gsLst>
            <a:lin ang="5400000"/>
          </a:gradFill>
          <a:ln w="3240">
            <a:solidFill>
              <a:srgbClr val="129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3" name="Group 45"/>
          <p:cNvGrpSpPr/>
          <p:nvPr/>
        </p:nvGrpSpPr>
        <p:grpSpPr>
          <a:xfrm>
            <a:off x="504720" y="1158840"/>
            <a:ext cx="5867640" cy="928800"/>
            <a:chOff x="504720" y="1158840"/>
            <a:chExt cx="5867640" cy="928800"/>
          </a:xfrm>
        </p:grpSpPr>
        <p:sp>
          <p:nvSpPr>
            <p:cNvPr id="284" name="AutoShape 3"/>
            <p:cNvSpPr/>
            <p:nvPr/>
          </p:nvSpPr>
          <p:spPr>
            <a:xfrm>
              <a:off x="644400" y="1428840"/>
              <a:ext cx="5727960" cy="479160"/>
            </a:xfrm>
            <a:prstGeom prst="roundRect">
              <a:avLst>
                <a:gd name="adj" fmla="val 16667"/>
              </a:avLst>
            </a:prstGeom>
            <a:solidFill>
              <a:srgbClr val="e7ffe7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 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App Memory stack in File algorithm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85" name="Picture 7" descr="폴더"/>
            <p:cNvPicPr/>
            <p:nvPr/>
          </p:nvPicPr>
          <p:blipFill>
            <a:blip r:embed="rId1"/>
            <a:stretch/>
          </p:blipFill>
          <p:spPr>
            <a:xfrm>
              <a:off x="504720" y="1158840"/>
              <a:ext cx="1279800" cy="928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286" name="Group 46"/>
          <p:cNvGrpSpPr/>
          <p:nvPr/>
        </p:nvGrpSpPr>
        <p:grpSpPr>
          <a:xfrm>
            <a:off x="1258920" y="333360"/>
            <a:ext cx="7921440" cy="1312920"/>
            <a:chOff x="1258920" y="333360"/>
            <a:chExt cx="7921440" cy="1312920"/>
          </a:xfrm>
        </p:grpSpPr>
        <p:sp>
          <p:nvSpPr>
            <p:cNvPr id="287" name="Text Box 75"/>
            <p:cNvSpPr/>
            <p:nvPr/>
          </p:nvSpPr>
          <p:spPr>
            <a:xfrm>
              <a:off x="1258920" y="333360"/>
              <a:ext cx="7885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Berlin Sans FB Demi"/>
                  <a:ea typeface="HY강B"/>
                </a:rPr>
                <a:t>Debugger Value &amp; Address Table 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Line 7"/>
            <p:cNvSpPr/>
            <p:nvPr/>
          </p:nvSpPr>
          <p:spPr>
            <a:xfrm>
              <a:off x="1258920" y="1052640"/>
              <a:ext cx="79214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89" name="Rectangle 24"/>
          <p:cNvGrpSpPr/>
          <p:nvPr/>
        </p:nvGrpSpPr>
        <p:grpSpPr>
          <a:xfrm>
            <a:off x="884160" y="2664000"/>
            <a:ext cx="2335320" cy="439560"/>
            <a:chOff x="884160" y="2664000"/>
            <a:chExt cx="2335320" cy="439560"/>
          </a:xfrm>
        </p:grpSpPr>
        <p:pic>
          <p:nvPicPr>
            <p:cNvPr id="290" name="Rectangle 24" descr=""/>
            <p:cNvPicPr/>
            <p:nvPr/>
          </p:nvPicPr>
          <p:blipFill>
            <a:blip r:embed="rId2"/>
            <a:stretch/>
          </p:blipFill>
          <p:spPr>
            <a:xfrm>
              <a:off x="884160" y="2664000"/>
              <a:ext cx="233532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900000" y="2681280"/>
              <a:ext cx="2295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Function Start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92" name="Rectangle 25"/>
          <p:cNvGrpSpPr/>
          <p:nvPr/>
        </p:nvGrpSpPr>
        <p:grpSpPr>
          <a:xfrm>
            <a:off x="871560" y="4005360"/>
            <a:ext cx="2341440" cy="444240"/>
            <a:chOff x="871560" y="4005360"/>
            <a:chExt cx="2341440" cy="444240"/>
          </a:xfrm>
        </p:grpSpPr>
        <p:pic>
          <p:nvPicPr>
            <p:cNvPr id="293" name="Rectangle 25" descr=""/>
            <p:cNvPicPr/>
            <p:nvPr/>
          </p:nvPicPr>
          <p:blipFill>
            <a:blip r:embed="rId3"/>
            <a:stretch/>
          </p:blipFill>
          <p:spPr>
            <a:xfrm>
              <a:off x="871560" y="4005360"/>
              <a:ext cx="23414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892080" y="4024440"/>
              <a:ext cx="2295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Function Start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5" name="Rectangle 26"/>
          <p:cNvSpPr/>
          <p:nvPr/>
        </p:nvSpPr>
        <p:spPr>
          <a:xfrm>
            <a:off x="890640" y="3132000"/>
            <a:ext cx="2295360" cy="400320"/>
          </a:xfrm>
          <a:prstGeom prst="rect">
            <a:avLst/>
          </a:prstGeom>
          <a:solidFill>
            <a:srgbClr val="808080">
              <a:alpha val="19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lin Sans FB"/>
                <a:ea typeface="HY태백B"/>
              </a:rPr>
              <a:t>Int/a/addr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Rectangle 27"/>
          <p:cNvSpPr/>
          <p:nvPr/>
        </p:nvSpPr>
        <p:spPr>
          <a:xfrm>
            <a:off x="890640" y="3576600"/>
            <a:ext cx="2295360" cy="399960"/>
          </a:xfrm>
          <a:prstGeom prst="rect">
            <a:avLst/>
          </a:prstGeom>
          <a:solidFill>
            <a:srgbClr val="808080">
              <a:alpha val="19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lin Sans FB"/>
                <a:ea typeface="HY태백B"/>
              </a:rPr>
              <a:t>Char/b/addr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Rectangle 28"/>
          <p:cNvSpPr/>
          <p:nvPr/>
        </p:nvSpPr>
        <p:spPr>
          <a:xfrm>
            <a:off x="890640" y="4483080"/>
            <a:ext cx="2295360" cy="399960"/>
          </a:xfrm>
          <a:prstGeom prst="rect">
            <a:avLst/>
          </a:prstGeom>
          <a:solidFill>
            <a:srgbClr val="808080">
              <a:alpha val="19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lin Sans FB"/>
                <a:ea typeface="HY태백B"/>
              </a:rPr>
              <a:t>Int/d/addr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Rectangle 29"/>
          <p:cNvSpPr/>
          <p:nvPr/>
        </p:nvSpPr>
        <p:spPr>
          <a:xfrm>
            <a:off x="890640" y="4927680"/>
            <a:ext cx="2295360" cy="399960"/>
          </a:xfrm>
          <a:prstGeom prst="rect">
            <a:avLst/>
          </a:prstGeom>
          <a:solidFill>
            <a:srgbClr val="808080">
              <a:alpha val="19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lin Sans FB"/>
                <a:ea typeface="HY태백B"/>
              </a:rPr>
              <a:t>Int/e/addr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Rectangle 30"/>
          <p:cNvSpPr/>
          <p:nvPr/>
        </p:nvSpPr>
        <p:spPr>
          <a:xfrm>
            <a:off x="895320" y="5367240"/>
            <a:ext cx="2295720" cy="400320"/>
          </a:xfrm>
          <a:prstGeom prst="rect">
            <a:avLst/>
          </a:prstGeom>
          <a:solidFill>
            <a:srgbClr val="808080">
              <a:alpha val="19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lin Sans FB"/>
                <a:ea typeface="HY태백B"/>
              </a:rPr>
              <a:t>Int/f/addr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Rectangle 31"/>
          <p:cNvSpPr/>
          <p:nvPr/>
        </p:nvSpPr>
        <p:spPr>
          <a:xfrm>
            <a:off x="905040" y="5811840"/>
            <a:ext cx="2295360" cy="399960"/>
          </a:xfrm>
          <a:prstGeom prst="rect">
            <a:avLst/>
          </a:prstGeom>
          <a:solidFill>
            <a:srgbClr val="808080">
              <a:alpha val="19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lin Sans FB"/>
                <a:ea typeface="HY태백B"/>
              </a:rPr>
              <a:t>Double/t/addr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01" name="Group 44"/>
          <p:cNvGrpSpPr/>
          <p:nvPr/>
        </p:nvGrpSpPr>
        <p:grpSpPr>
          <a:xfrm>
            <a:off x="760320" y="2131920"/>
            <a:ext cx="2541600" cy="4249800"/>
            <a:chOff x="760320" y="2131920"/>
            <a:chExt cx="2541600" cy="4249800"/>
          </a:xfrm>
        </p:grpSpPr>
        <p:sp>
          <p:nvSpPr>
            <p:cNvPr id="302" name="Rectangle 22"/>
            <p:cNvSpPr/>
            <p:nvPr/>
          </p:nvSpPr>
          <p:spPr>
            <a:xfrm>
              <a:off x="760320" y="2498760"/>
              <a:ext cx="2541600" cy="3882960"/>
            </a:xfrm>
            <a:prstGeom prst="rect">
              <a:avLst/>
            </a:prstGeom>
            <a:noFill/>
            <a:ln w="57240">
              <a:solidFill>
                <a:srgbClr val="333399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Rectangle 41"/>
            <p:cNvSpPr/>
            <p:nvPr/>
          </p:nvSpPr>
          <p:spPr>
            <a:xfrm>
              <a:off x="765000" y="2131920"/>
              <a:ext cx="638280" cy="370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Fil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04" name="Rectangle 37"/>
          <p:cNvGrpSpPr/>
          <p:nvPr/>
        </p:nvGrpSpPr>
        <p:grpSpPr>
          <a:xfrm>
            <a:off x="4340160" y="5973840"/>
            <a:ext cx="2560680" cy="293760"/>
            <a:chOff x="4340160" y="5973840"/>
            <a:chExt cx="2560680" cy="293760"/>
          </a:xfrm>
        </p:grpSpPr>
        <p:pic>
          <p:nvPicPr>
            <p:cNvPr id="305" name="Rectangle 37" descr=""/>
            <p:cNvPicPr/>
            <p:nvPr/>
          </p:nvPicPr>
          <p:blipFill>
            <a:blip r:embed="rId4"/>
            <a:stretch/>
          </p:blipFill>
          <p:spPr>
            <a:xfrm>
              <a:off x="4340160" y="5973840"/>
              <a:ext cx="2560680" cy="2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356000" y="5991120"/>
              <a:ext cx="25196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Function End Cod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07" name="Group 54"/>
          <p:cNvGrpSpPr/>
          <p:nvPr/>
        </p:nvGrpSpPr>
        <p:grpSpPr>
          <a:xfrm>
            <a:off x="4284720" y="2133720"/>
            <a:ext cx="4108320" cy="4267080"/>
            <a:chOff x="4284720" y="2133720"/>
            <a:chExt cx="4108320" cy="4267080"/>
          </a:xfrm>
        </p:grpSpPr>
        <p:sp>
          <p:nvSpPr>
            <p:cNvPr id="308" name="Rectangle 23"/>
            <p:cNvSpPr/>
            <p:nvPr/>
          </p:nvSpPr>
          <p:spPr>
            <a:xfrm>
              <a:off x="4284720" y="2511360"/>
              <a:ext cx="4108320" cy="3889440"/>
            </a:xfrm>
            <a:prstGeom prst="rect">
              <a:avLst/>
            </a:pr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int main(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int a;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char b;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temp();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    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return 0;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                    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int temp(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Int d, e, f;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Double t;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                        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309" name="Rectangle 34"/>
            <p:cNvGrpSpPr/>
            <p:nvPr/>
          </p:nvGrpSpPr>
          <p:grpSpPr>
            <a:xfrm>
              <a:off x="4773600" y="2938320"/>
              <a:ext cx="3273480" cy="292320"/>
              <a:chOff x="4773600" y="2938320"/>
              <a:chExt cx="3273480" cy="292320"/>
            </a:xfrm>
          </p:grpSpPr>
          <p:pic>
            <p:nvPicPr>
              <p:cNvPr id="310" name="Rectangle 34" descr=""/>
              <p:cNvPicPr/>
              <p:nvPr/>
            </p:nvPicPr>
            <p:blipFill>
              <a:blip r:embed="rId5"/>
              <a:stretch/>
            </p:blipFill>
            <p:spPr>
              <a:xfrm>
                <a:off x="4773600" y="2938320"/>
                <a:ext cx="3273480" cy="29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4793040" y="2954160"/>
                <a:ext cx="3230640" cy="2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erlin Sans FB"/>
                    <a:ea typeface="HY태백B"/>
                  </a:rPr>
                  <a:t>Function Start Code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12" name="Rectangle 35"/>
            <p:cNvGrpSpPr/>
            <p:nvPr/>
          </p:nvGrpSpPr>
          <p:grpSpPr>
            <a:xfrm>
              <a:off x="4359240" y="4309920"/>
              <a:ext cx="2249640" cy="292320"/>
              <a:chOff x="4359240" y="4309920"/>
              <a:chExt cx="2249640" cy="292320"/>
            </a:xfrm>
          </p:grpSpPr>
          <p:pic>
            <p:nvPicPr>
              <p:cNvPr id="313" name="Rectangle 35" descr=""/>
              <p:cNvPicPr/>
              <p:nvPr/>
            </p:nvPicPr>
            <p:blipFill>
              <a:blip r:embed="rId6"/>
              <a:stretch/>
            </p:blipFill>
            <p:spPr>
              <a:xfrm>
                <a:off x="4359240" y="4309920"/>
                <a:ext cx="2249640" cy="29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4375440" y="4330440"/>
                <a:ext cx="2210040" cy="2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erlin Sans FB"/>
                    <a:ea typeface="HY태백B"/>
                  </a:rPr>
                  <a:t>Function End Code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15" name="Rectangle 36"/>
            <p:cNvGrpSpPr/>
            <p:nvPr/>
          </p:nvGrpSpPr>
          <p:grpSpPr>
            <a:xfrm>
              <a:off x="4773600" y="5132520"/>
              <a:ext cx="3273480" cy="291960"/>
              <a:chOff x="4773600" y="5132520"/>
              <a:chExt cx="3273480" cy="291960"/>
            </a:xfrm>
          </p:grpSpPr>
          <p:pic>
            <p:nvPicPr>
              <p:cNvPr id="316" name="Rectangle 36" descr=""/>
              <p:cNvPicPr/>
              <p:nvPr/>
            </p:nvPicPr>
            <p:blipFill>
              <a:blip r:embed="rId7"/>
              <a:stretch/>
            </p:blipFill>
            <p:spPr>
              <a:xfrm>
                <a:off x="4773600" y="5132520"/>
                <a:ext cx="3273480" cy="2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4793040" y="5149440"/>
                <a:ext cx="3230640" cy="24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erlin Sans FB"/>
                    <a:ea typeface="HY태백B"/>
                  </a:rPr>
                  <a:t>Function Start Code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18" name="Rectangle 38"/>
            <p:cNvGrpSpPr/>
            <p:nvPr/>
          </p:nvGrpSpPr>
          <p:grpSpPr>
            <a:xfrm>
              <a:off x="4346640" y="4017960"/>
              <a:ext cx="2255760" cy="291960"/>
              <a:chOff x="4346640" y="4017960"/>
              <a:chExt cx="2255760" cy="291960"/>
            </a:xfrm>
          </p:grpSpPr>
          <p:pic>
            <p:nvPicPr>
              <p:cNvPr id="319" name="Rectangle 38" descr=""/>
              <p:cNvPicPr/>
              <p:nvPr/>
            </p:nvPicPr>
            <p:blipFill>
              <a:blip r:embed="rId8"/>
              <a:stretch/>
            </p:blipFill>
            <p:spPr>
              <a:xfrm>
                <a:off x="4346640" y="4017960"/>
                <a:ext cx="2255760" cy="2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4367160" y="4037400"/>
                <a:ext cx="2210040" cy="24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erlin Sans FB"/>
                    <a:ea typeface="HY태백B"/>
                  </a:rPr>
                  <a:t>Function End Code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321" name="Rectangle 42"/>
            <p:cNvSpPr/>
            <p:nvPr/>
          </p:nvSpPr>
          <p:spPr>
            <a:xfrm>
              <a:off x="4289400" y="2133720"/>
              <a:ext cx="1795320" cy="369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Program Cod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cxnSp>
        <p:nvCxnSpPr>
          <p:cNvPr id="322" name="AutoShape 39"/>
          <p:cNvCxnSpPr/>
          <p:nvPr/>
        </p:nvCxnSpPr>
        <p:spPr>
          <a:xfrm flipH="1" flipV="1">
            <a:off x="3209040" y="2880720"/>
            <a:ext cx="1569240" cy="199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arrow" w="med"/>
          </a:ln>
        </p:spPr>
      </p:cxnSp>
      <p:cxnSp>
        <p:nvCxnSpPr>
          <p:cNvPr id="323" name="AutoShape 40"/>
          <p:cNvCxnSpPr/>
          <p:nvPr/>
        </p:nvCxnSpPr>
        <p:spPr>
          <a:xfrm flipH="1" flipV="1">
            <a:off x="3201120" y="4223880"/>
            <a:ext cx="1577160" cy="1051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8" dur="500" fill="hold"/>
                                        <p:tgtEl>
                                          <p:spTgt spid="304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71"/>
          <p:cNvSpPr/>
          <p:nvPr/>
        </p:nvSpPr>
        <p:spPr>
          <a:xfrm flipH="1">
            <a:off x="538200" y="1700280"/>
            <a:ext cx="8066160" cy="4681440"/>
          </a:xfrm>
          <a:prstGeom prst="roundRect">
            <a:avLst>
              <a:gd name="adj" fmla="val 2472"/>
            </a:avLst>
          </a:prstGeom>
          <a:gradFill rotWithShape="0">
            <a:gsLst>
              <a:gs pos="0">
                <a:srgbClr val="e8f5fc"/>
              </a:gs>
              <a:gs pos="100000">
                <a:srgbClr val="f3fafd"/>
              </a:gs>
            </a:gsLst>
            <a:lin ang="5400000"/>
          </a:gradFill>
          <a:ln w="3240">
            <a:solidFill>
              <a:srgbClr val="129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Line 7"/>
          <p:cNvSpPr/>
          <p:nvPr/>
        </p:nvSpPr>
        <p:spPr>
          <a:xfrm>
            <a:off x="1233360" y="1052640"/>
            <a:ext cx="7921800" cy="0"/>
          </a:xfrm>
          <a:prstGeom prst="line">
            <a:avLst/>
          </a:prstGeom>
          <a:ln w="57240">
            <a:solidFill>
              <a:srgbClr val="00669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6" name="Group 4"/>
          <p:cNvGrpSpPr/>
          <p:nvPr/>
        </p:nvGrpSpPr>
        <p:grpSpPr>
          <a:xfrm>
            <a:off x="504720" y="1120680"/>
            <a:ext cx="4257720" cy="928800"/>
            <a:chOff x="504720" y="1120680"/>
            <a:chExt cx="4257720" cy="928800"/>
          </a:xfrm>
        </p:grpSpPr>
        <p:sp>
          <p:nvSpPr>
            <p:cNvPr id="327" name="AutoShape 3"/>
            <p:cNvSpPr/>
            <p:nvPr/>
          </p:nvSpPr>
          <p:spPr>
            <a:xfrm>
              <a:off x="644400" y="1390680"/>
              <a:ext cx="4118040" cy="479520"/>
            </a:xfrm>
            <a:prstGeom prst="roundRect">
              <a:avLst>
                <a:gd name="adj" fmla="val 16667"/>
              </a:avLst>
            </a:prstGeom>
            <a:solidFill>
              <a:srgbClr val="e7ffe7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 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Functional Algorithm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28" name="Picture 7" descr="폴더"/>
            <p:cNvPicPr/>
            <p:nvPr/>
          </p:nvPicPr>
          <p:blipFill>
            <a:blip r:embed="rId1"/>
            <a:stretch/>
          </p:blipFill>
          <p:spPr>
            <a:xfrm>
              <a:off x="504720" y="1120680"/>
              <a:ext cx="1279440" cy="928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329" name="Text Box 75"/>
          <p:cNvSpPr/>
          <p:nvPr/>
        </p:nvSpPr>
        <p:spPr>
          <a:xfrm>
            <a:off x="1217520" y="33336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erlin Sans FB Demi"/>
                <a:ea typeface="HY강B"/>
              </a:rPr>
              <a:t>Based Technology &amp; Algorithms (1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30" name="Group 16"/>
          <p:cNvGrpSpPr/>
          <p:nvPr/>
        </p:nvGrpSpPr>
        <p:grpSpPr>
          <a:xfrm>
            <a:off x="819000" y="1989000"/>
            <a:ext cx="7620120" cy="4256280"/>
            <a:chOff x="819000" y="1989000"/>
            <a:chExt cx="7620120" cy="4256280"/>
          </a:xfrm>
        </p:grpSpPr>
        <p:sp>
          <p:nvSpPr>
            <p:cNvPr id="331" name="Rectangle 7"/>
            <p:cNvSpPr/>
            <p:nvPr/>
          </p:nvSpPr>
          <p:spPr>
            <a:xfrm>
              <a:off x="819000" y="1989000"/>
              <a:ext cx="7561440" cy="447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2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태백B"/>
                  <a:ea typeface="HY태백B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프로젝트 통합적인 관리를 위한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oject algorith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2" name="AutoShape 17"/>
            <p:cNvSpPr/>
            <p:nvPr/>
          </p:nvSpPr>
          <p:spPr>
            <a:xfrm>
              <a:off x="1251000" y="2460600"/>
              <a:ext cx="7145280" cy="11080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- Project Create &amp; Lode &amp; Sav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- Option List </a:t>
              </a:r>
              <a:r>
                <a:rPr b="1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설정 및 변경</a:t>
              </a:r>
              <a:r>
                <a:rPr b="1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1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적용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- File </a:t>
              </a:r>
              <a:r>
                <a:rPr b="1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추가 및 삭제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- </a:t>
              </a:r>
              <a:r>
                <a:rPr b="1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여러 가지 예외 상황에 대한 예외처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839880" y="3726000"/>
              <a:ext cx="7561080" cy="447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3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Work Space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및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Editor Tab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처리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lgorith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4" name="Rectangle 7"/>
            <p:cNvSpPr/>
            <p:nvPr/>
          </p:nvSpPr>
          <p:spPr>
            <a:xfrm>
              <a:off x="852480" y="4238640"/>
              <a:ext cx="7561440" cy="447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4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Compile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시 마다 자동생성 되는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akefile algorith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5" name="Rectangle 7"/>
            <p:cNvSpPr/>
            <p:nvPr/>
          </p:nvSpPr>
          <p:spPr>
            <a:xfrm>
              <a:off x="865080" y="4764240"/>
              <a:ext cx="7561440" cy="447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5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함수 도움말 기능을 위한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Function Event algorith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6" name="Rectangle 7"/>
            <p:cNvSpPr/>
            <p:nvPr/>
          </p:nvSpPr>
          <p:spPr>
            <a:xfrm>
              <a:off x="878040" y="5281560"/>
              <a:ext cx="7561080" cy="447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6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Coding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시 자동적으로 지정해주는 자동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Tab algorith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7" name="Rectangle 7"/>
            <p:cNvSpPr/>
            <p:nvPr/>
          </p:nvSpPr>
          <p:spPr>
            <a:xfrm>
              <a:off x="878040" y="5797440"/>
              <a:ext cx="7561080" cy="447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7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Gcc Compiler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예약어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igh Lighting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기능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lgorith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AutoShape 71"/>
          <p:cNvSpPr/>
          <p:nvPr/>
        </p:nvSpPr>
        <p:spPr>
          <a:xfrm flipH="1">
            <a:off x="538200" y="1700280"/>
            <a:ext cx="8066160" cy="4681440"/>
          </a:xfrm>
          <a:prstGeom prst="roundRect">
            <a:avLst>
              <a:gd name="adj" fmla="val 2472"/>
            </a:avLst>
          </a:prstGeom>
          <a:gradFill rotWithShape="0">
            <a:gsLst>
              <a:gs pos="0">
                <a:srgbClr val="e8f5fc"/>
              </a:gs>
              <a:gs pos="100000">
                <a:srgbClr val="f3fafd"/>
              </a:gs>
            </a:gsLst>
            <a:lin ang="5400000"/>
          </a:gradFill>
          <a:ln w="3240">
            <a:solidFill>
              <a:srgbClr val="129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39" name="Group 18"/>
          <p:cNvGrpSpPr/>
          <p:nvPr/>
        </p:nvGrpSpPr>
        <p:grpSpPr>
          <a:xfrm>
            <a:off x="504720" y="1120680"/>
            <a:ext cx="4714920" cy="928800"/>
            <a:chOff x="504720" y="1120680"/>
            <a:chExt cx="4714920" cy="928800"/>
          </a:xfrm>
        </p:grpSpPr>
        <p:sp>
          <p:nvSpPr>
            <p:cNvPr id="340" name="AutoShape 3"/>
            <p:cNvSpPr/>
            <p:nvPr/>
          </p:nvSpPr>
          <p:spPr>
            <a:xfrm>
              <a:off x="644400" y="1390680"/>
              <a:ext cx="4575240" cy="479520"/>
            </a:xfrm>
            <a:prstGeom prst="roundRect">
              <a:avLst>
                <a:gd name="adj" fmla="val 16667"/>
              </a:avLst>
            </a:prstGeom>
            <a:solidFill>
              <a:srgbClr val="e7ffe7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 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Communication Algorithm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41" name="Picture 7" descr="폴더"/>
            <p:cNvPicPr/>
            <p:nvPr/>
          </p:nvPicPr>
          <p:blipFill>
            <a:blip r:embed="rId1"/>
            <a:stretch/>
          </p:blipFill>
          <p:spPr>
            <a:xfrm>
              <a:off x="504720" y="1120680"/>
              <a:ext cx="1279800" cy="928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342" name="Group 17"/>
          <p:cNvGrpSpPr/>
          <p:nvPr/>
        </p:nvGrpSpPr>
        <p:grpSpPr>
          <a:xfrm>
            <a:off x="1192320" y="333360"/>
            <a:ext cx="7993080" cy="1312920"/>
            <a:chOff x="1192320" y="333360"/>
            <a:chExt cx="7993080" cy="1312920"/>
          </a:xfrm>
        </p:grpSpPr>
        <p:sp>
          <p:nvSpPr>
            <p:cNvPr id="343" name="Line 7"/>
            <p:cNvSpPr/>
            <p:nvPr/>
          </p:nvSpPr>
          <p:spPr>
            <a:xfrm>
              <a:off x="1208160" y="1052640"/>
              <a:ext cx="79214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4" name="Text Box 75"/>
            <p:cNvSpPr/>
            <p:nvPr/>
          </p:nvSpPr>
          <p:spPr>
            <a:xfrm>
              <a:off x="1192320" y="333360"/>
              <a:ext cx="7993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Berlin Sans FB Demi"/>
                  <a:ea typeface="HY강B"/>
                </a:rPr>
                <a:t>Based Technology &amp; Algorithms (2)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45" name="Group 16"/>
          <p:cNvGrpSpPr/>
          <p:nvPr/>
        </p:nvGrpSpPr>
        <p:grpSpPr>
          <a:xfrm>
            <a:off x="819000" y="1989000"/>
            <a:ext cx="7594920" cy="3311640"/>
            <a:chOff x="819000" y="1989000"/>
            <a:chExt cx="7594920" cy="3311640"/>
          </a:xfrm>
        </p:grpSpPr>
        <p:sp>
          <p:nvSpPr>
            <p:cNvPr id="346" name="Rectangle 7"/>
            <p:cNvSpPr/>
            <p:nvPr/>
          </p:nvSpPr>
          <p:spPr>
            <a:xfrm>
              <a:off x="819000" y="1989000"/>
              <a:ext cx="7561440" cy="447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2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Execution Terminal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을 위한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QProcess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통신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lgorith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7" name="Rectangle 7"/>
            <p:cNvSpPr/>
            <p:nvPr/>
          </p:nvSpPr>
          <p:spPr>
            <a:xfrm>
              <a:off x="839880" y="2514600"/>
              <a:ext cx="7561080" cy="447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3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ake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작업을 위한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QProcess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통신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lgorith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8" name="Rectangle 7"/>
            <p:cNvSpPr/>
            <p:nvPr/>
          </p:nvSpPr>
          <p:spPr>
            <a:xfrm>
              <a:off x="852480" y="3030480"/>
              <a:ext cx="7561440" cy="447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4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Debugging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작업을 위한 통신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lgorith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9" name="AutoShape 17"/>
            <p:cNvSpPr/>
            <p:nvPr/>
          </p:nvSpPr>
          <p:spPr>
            <a:xfrm>
              <a:off x="1251000" y="3548160"/>
              <a:ext cx="7145280" cy="17524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erlin Sans F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Execution file </a:t>
              </a:r>
              <a:r>
                <a:rPr b="1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과의 표준 </a:t>
              </a: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IO </a:t>
              </a:r>
              <a:r>
                <a:rPr b="1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통신을 위한 </a:t>
              </a: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QProcess algorithm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erlin Sans F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Execution file </a:t>
              </a:r>
              <a:r>
                <a:rPr b="1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과의 내부적인 통신을 위한 이중 </a:t>
              </a: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Pipe algorithm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erlin Sans F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erlin Sans F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Execution file </a:t>
              </a:r>
              <a:r>
                <a:rPr b="1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과의 내부 통신 </a:t>
              </a: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Message </a:t>
              </a:r>
              <a:r>
                <a:rPr b="1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구성</a:t>
              </a:r>
              <a:r>
                <a:rPr b="1" lang="ko-KR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algorithm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erlin Sans F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erlin Sans F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체적인</a:t>
              </a:r>
              <a:r>
                <a:rPr b="1" lang="ko-KR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Debugger </a:t>
              </a:r>
              <a:r>
                <a:rPr b="1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구동</a:t>
              </a:r>
              <a:r>
                <a:rPr b="1" lang="ko-KR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algorithm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71"/>
          <p:cNvSpPr/>
          <p:nvPr/>
        </p:nvSpPr>
        <p:spPr>
          <a:xfrm flipH="1">
            <a:off x="538200" y="1700280"/>
            <a:ext cx="8066160" cy="4681440"/>
          </a:xfrm>
          <a:prstGeom prst="roundRect">
            <a:avLst>
              <a:gd name="adj" fmla="val 2472"/>
            </a:avLst>
          </a:prstGeom>
          <a:gradFill rotWithShape="0">
            <a:gsLst>
              <a:gs pos="0">
                <a:srgbClr val="e8f5fc"/>
              </a:gs>
              <a:gs pos="100000">
                <a:srgbClr val="f3fafd"/>
              </a:gs>
            </a:gsLst>
            <a:lin ang="5400000"/>
          </a:gradFill>
          <a:ln w="3240">
            <a:solidFill>
              <a:srgbClr val="129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51" name="Group 15"/>
          <p:cNvGrpSpPr/>
          <p:nvPr/>
        </p:nvGrpSpPr>
        <p:grpSpPr>
          <a:xfrm>
            <a:off x="504720" y="1120680"/>
            <a:ext cx="2338560" cy="928800"/>
            <a:chOff x="504720" y="1120680"/>
            <a:chExt cx="2338560" cy="928800"/>
          </a:xfrm>
        </p:grpSpPr>
        <p:sp>
          <p:nvSpPr>
            <p:cNvPr id="352" name="AutoShape 3"/>
            <p:cNvSpPr/>
            <p:nvPr/>
          </p:nvSpPr>
          <p:spPr>
            <a:xfrm>
              <a:off x="644400" y="1390680"/>
              <a:ext cx="2198880" cy="479520"/>
            </a:xfrm>
            <a:prstGeom prst="roundRect">
              <a:avLst>
                <a:gd name="adj" fmla="val 16667"/>
              </a:avLst>
            </a:prstGeom>
            <a:solidFill>
              <a:srgbClr val="e7ffe7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 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Parser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53" name="Picture 7" descr="폴더"/>
            <p:cNvPicPr/>
            <p:nvPr/>
          </p:nvPicPr>
          <p:blipFill>
            <a:blip r:embed="rId1"/>
            <a:stretch/>
          </p:blipFill>
          <p:spPr>
            <a:xfrm>
              <a:off x="504720" y="1120680"/>
              <a:ext cx="1279800" cy="928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354" name="Group 16"/>
          <p:cNvGrpSpPr/>
          <p:nvPr/>
        </p:nvGrpSpPr>
        <p:grpSpPr>
          <a:xfrm>
            <a:off x="1204920" y="333360"/>
            <a:ext cx="7993080" cy="1312920"/>
            <a:chOff x="1204920" y="333360"/>
            <a:chExt cx="7993080" cy="1312920"/>
          </a:xfrm>
        </p:grpSpPr>
        <p:sp>
          <p:nvSpPr>
            <p:cNvPr id="355" name="Line 7"/>
            <p:cNvSpPr/>
            <p:nvPr/>
          </p:nvSpPr>
          <p:spPr>
            <a:xfrm>
              <a:off x="1220760" y="1052640"/>
              <a:ext cx="79214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6" name="Text Box 75"/>
            <p:cNvSpPr/>
            <p:nvPr/>
          </p:nvSpPr>
          <p:spPr>
            <a:xfrm>
              <a:off x="1204920" y="333360"/>
              <a:ext cx="7993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Berlin Sans FB Demi"/>
                  <a:ea typeface="HY강B"/>
                </a:rPr>
                <a:t>Based Technology &amp; Algorithms (3)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57" name="Group 22"/>
          <p:cNvGrpSpPr/>
          <p:nvPr/>
        </p:nvGrpSpPr>
        <p:grpSpPr>
          <a:xfrm>
            <a:off x="819000" y="1989000"/>
            <a:ext cx="7594920" cy="4176720"/>
            <a:chOff x="819000" y="1989000"/>
            <a:chExt cx="7594920" cy="4176720"/>
          </a:xfrm>
        </p:grpSpPr>
        <p:sp>
          <p:nvSpPr>
            <p:cNvPr id="358" name="Rectangle 7"/>
            <p:cNvSpPr/>
            <p:nvPr/>
          </p:nvSpPr>
          <p:spPr>
            <a:xfrm>
              <a:off x="819000" y="1989000"/>
              <a:ext cx="7561440" cy="447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2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Function parser in Gcc Include fil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839880" y="2514600"/>
              <a:ext cx="7561080" cy="447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3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Function parser in Programmer Header fil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852480" y="3030480"/>
              <a:ext cx="7561440" cy="447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4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Error &amp; Warning Parser after compil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1" name="AutoShape 17"/>
            <p:cNvSpPr/>
            <p:nvPr/>
          </p:nvSpPr>
          <p:spPr>
            <a:xfrm>
              <a:off x="1258920" y="4581360"/>
              <a:ext cx="7145280" cy="1584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3" marL="1600200" indent="-2286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erlin Sans F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Break Point </a:t>
              </a:r>
              <a:r>
                <a:rPr b="1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정을 위한</a:t>
              </a:r>
              <a:r>
                <a:rPr b="1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Pars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erlin Sans F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erlin Sans F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파일상의</a:t>
              </a:r>
              <a:r>
                <a:rPr b="1" lang="ko-KR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memory Stack </a:t>
              </a:r>
              <a:r>
                <a:rPr b="1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구현을 위한 </a:t>
              </a: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Pars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lvl="3" marL="1600200" indent="-2286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erlin Sans F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각 변수 명 및 </a:t>
              </a: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Data type</a:t>
              </a:r>
              <a:r>
                <a:rPr b="1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 주소 테이블 구성을 위한 </a:t>
              </a: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Parser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lvl="3" marL="1600200" indent="-2286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erlin Sans FB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현재</a:t>
              </a:r>
              <a:r>
                <a:rPr b="1" lang="ko-KR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Break Point </a:t>
              </a:r>
              <a:r>
                <a:rPr b="1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위치에서의 변수 값을 보내는 </a:t>
              </a: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Pars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lvl="3" marL="1600200" indent="-2286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2" name="Rectangle 7"/>
            <p:cNvSpPr/>
            <p:nvPr/>
          </p:nvSpPr>
          <p:spPr>
            <a:xfrm>
              <a:off x="852480" y="3548160"/>
              <a:ext cx="7561440" cy="447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5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 Tab parser for the Function of auto Tab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Rectangle 7"/>
            <p:cNvSpPr/>
            <p:nvPr/>
          </p:nvSpPr>
          <p:spPr>
            <a:xfrm>
              <a:off x="852480" y="4064040"/>
              <a:ext cx="7561440" cy="447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6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ogram code parser for Debugging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71"/>
          <p:cNvSpPr/>
          <p:nvPr/>
        </p:nvSpPr>
        <p:spPr>
          <a:xfrm flipH="1">
            <a:off x="565200" y="1611360"/>
            <a:ext cx="8066160" cy="4681440"/>
          </a:xfrm>
          <a:prstGeom prst="roundRect">
            <a:avLst>
              <a:gd name="adj" fmla="val 2472"/>
            </a:avLst>
          </a:prstGeom>
          <a:gradFill rotWithShape="0">
            <a:gsLst>
              <a:gs pos="0">
                <a:srgbClr val="e8f5fc"/>
              </a:gs>
              <a:gs pos="100000">
                <a:srgbClr val="f3fafd"/>
              </a:gs>
            </a:gsLst>
            <a:lin ang="5400000"/>
          </a:gradFill>
          <a:ln w="3240">
            <a:solidFill>
              <a:srgbClr val="129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65" name="Group 52"/>
          <p:cNvGrpSpPr/>
          <p:nvPr/>
        </p:nvGrpSpPr>
        <p:grpSpPr>
          <a:xfrm>
            <a:off x="2987640" y="357120"/>
            <a:ext cx="6192360" cy="1312920"/>
            <a:chOff x="2987640" y="357120"/>
            <a:chExt cx="6192360" cy="1312920"/>
          </a:xfrm>
        </p:grpSpPr>
        <p:sp>
          <p:nvSpPr>
            <p:cNvPr id="366" name="Line 4"/>
            <p:cNvSpPr/>
            <p:nvPr/>
          </p:nvSpPr>
          <p:spPr>
            <a:xfrm>
              <a:off x="3115440" y="1052640"/>
              <a:ext cx="606456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7" name="Text Box 5"/>
            <p:cNvSpPr/>
            <p:nvPr/>
          </p:nvSpPr>
          <p:spPr>
            <a:xfrm>
              <a:off x="2987640" y="357120"/>
              <a:ext cx="6060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Berlin Sans FB Demi"/>
                  <a:ea typeface="HY강B"/>
                </a:rPr>
                <a:t>Finite State Automata (1)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68" name="Group 51"/>
          <p:cNvGrpSpPr/>
          <p:nvPr/>
        </p:nvGrpSpPr>
        <p:grpSpPr>
          <a:xfrm>
            <a:off x="1415160" y="2014560"/>
            <a:ext cx="6234840" cy="3562200"/>
            <a:chOff x="1415160" y="2014560"/>
            <a:chExt cx="6234840" cy="3562200"/>
          </a:xfrm>
        </p:grpSpPr>
        <p:sp>
          <p:nvSpPr>
            <p:cNvPr id="369" name="Oval 9"/>
            <p:cNvSpPr/>
            <p:nvPr/>
          </p:nvSpPr>
          <p:spPr>
            <a:xfrm>
              <a:off x="1757160" y="3365640"/>
              <a:ext cx="771840" cy="771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0" name="Oval 11"/>
            <p:cNvSpPr/>
            <p:nvPr/>
          </p:nvSpPr>
          <p:spPr>
            <a:xfrm>
              <a:off x="3029040" y="3370320"/>
              <a:ext cx="771480" cy="771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1 S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1" name="Oval 12"/>
            <p:cNvSpPr/>
            <p:nvPr/>
          </p:nvSpPr>
          <p:spPr>
            <a:xfrm>
              <a:off x="4375080" y="3375000"/>
              <a:ext cx="771480" cy="771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2 S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2" name="Oval 18"/>
            <p:cNvSpPr/>
            <p:nvPr/>
          </p:nvSpPr>
          <p:spPr>
            <a:xfrm>
              <a:off x="1752480" y="4594320"/>
              <a:ext cx="771480" cy="771480"/>
            </a:xfrm>
            <a:prstGeom prst="ellipse">
              <a:avLst/>
            </a:prstGeom>
            <a:gradFill rotWithShape="0">
              <a:gsLst>
                <a:gs pos="0">
                  <a:srgbClr val="ff0000">
                    <a:alpha val="32156"/>
                  </a:srgbClr>
                </a:gs>
                <a:gs pos="100000">
                  <a:srgbClr val="ff868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Dead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3" name="Text Box 19"/>
            <p:cNvSpPr/>
            <p:nvPr/>
          </p:nvSpPr>
          <p:spPr>
            <a:xfrm>
              <a:off x="1415160" y="4010040"/>
              <a:ext cx="6667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;’ , ‘}’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)’,  ‘(’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4" name="Oval 21"/>
            <p:cNvSpPr/>
            <p:nvPr/>
          </p:nvSpPr>
          <p:spPr>
            <a:xfrm>
              <a:off x="3024000" y="4589280"/>
              <a:ext cx="771840" cy="771840"/>
            </a:xfrm>
            <a:prstGeom prst="ellipse">
              <a:avLst/>
            </a:prstGeom>
            <a:gradFill rotWithShape="0">
              <a:gsLst>
                <a:gs pos="0">
                  <a:srgbClr val="ff0000">
                    <a:alpha val="32156"/>
                  </a:srgbClr>
                </a:gs>
                <a:gs pos="100000">
                  <a:srgbClr val="ff868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Dead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5" name="Text Box 22"/>
            <p:cNvSpPr/>
            <p:nvPr/>
          </p:nvSpPr>
          <p:spPr>
            <a:xfrm>
              <a:off x="3510720" y="4014720"/>
              <a:ext cx="6667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;’ , ‘}’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)’,  ‘(’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6" name="Text Box 23"/>
            <p:cNvSpPr/>
            <p:nvPr/>
          </p:nvSpPr>
          <p:spPr>
            <a:xfrm>
              <a:off x="2416680" y="3300480"/>
              <a:ext cx="808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Text Box 24"/>
            <p:cNvSpPr/>
            <p:nvPr/>
          </p:nvSpPr>
          <p:spPr>
            <a:xfrm>
              <a:off x="3704400" y="3340080"/>
              <a:ext cx="808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8" name="Text Box 26"/>
            <p:cNvSpPr/>
            <p:nvPr/>
          </p:nvSpPr>
          <p:spPr>
            <a:xfrm>
              <a:off x="5132160" y="3384360"/>
              <a:ext cx="32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(’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9" name="Oval 27"/>
            <p:cNvSpPr/>
            <p:nvPr/>
          </p:nvSpPr>
          <p:spPr>
            <a:xfrm>
              <a:off x="5530680" y="3365640"/>
              <a:ext cx="771480" cy="771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3 S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0" name="AutoShape 28"/>
            <p:cNvSpPr/>
            <p:nvPr/>
          </p:nvSpPr>
          <p:spPr>
            <a:xfrm rot="10612800">
              <a:off x="5643360" y="3835080"/>
              <a:ext cx="648000" cy="64764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1" name="Text Box 29"/>
            <p:cNvSpPr/>
            <p:nvPr/>
          </p:nvSpPr>
          <p:spPr>
            <a:xfrm>
              <a:off x="5544360" y="4384800"/>
              <a:ext cx="10418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)’, </a:t>
              </a:r>
              <a:r>
                <a:rPr b="0" lang="en-US" sz="14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count--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2" name="AutoShape 30"/>
            <p:cNvSpPr/>
            <p:nvPr/>
          </p:nvSpPr>
          <p:spPr>
            <a:xfrm>
              <a:off x="5516640" y="3022560"/>
              <a:ext cx="647640" cy="64764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5169960" y="2709720"/>
              <a:ext cx="11300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(’, </a:t>
              </a:r>
              <a:r>
                <a:rPr b="0" lang="en-US" sz="14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count++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4" name="Oval 33"/>
            <p:cNvSpPr/>
            <p:nvPr/>
          </p:nvSpPr>
          <p:spPr>
            <a:xfrm>
              <a:off x="6624720" y="2014560"/>
              <a:ext cx="771480" cy="771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5" name="Text Box 34"/>
            <p:cNvSpPr/>
            <p:nvPr/>
          </p:nvSpPr>
          <p:spPr>
            <a:xfrm>
              <a:off x="6261120" y="2992320"/>
              <a:ext cx="1388880" cy="550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[ ‘)’,‘{‘ ] &amp;&amp;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Count == 0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6" name="Oval 36"/>
            <p:cNvSpPr/>
            <p:nvPr/>
          </p:nvSpPr>
          <p:spPr>
            <a:xfrm>
              <a:off x="6807240" y="4805280"/>
              <a:ext cx="771480" cy="771480"/>
            </a:xfrm>
            <a:prstGeom prst="ellipse">
              <a:avLst/>
            </a:prstGeom>
            <a:gradFill rotWithShape="0">
              <a:gsLst>
                <a:gs pos="0">
                  <a:srgbClr val="ff0000">
                    <a:alpha val="32156"/>
                  </a:srgbClr>
                </a:gs>
                <a:gs pos="100000">
                  <a:srgbClr val="ff868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Dead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7" name="Text Box 37"/>
            <p:cNvSpPr/>
            <p:nvPr/>
          </p:nvSpPr>
          <p:spPr>
            <a:xfrm>
              <a:off x="6251400" y="3916440"/>
              <a:ext cx="1389240" cy="550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String &amp;&amp;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Count == 0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88" name="AutoShape 38"/>
            <p:cNvCxnSpPr>
              <a:stCxn id="369" idx="6"/>
              <a:endCxn id="370" idx="2"/>
            </p:cNvCxnSpPr>
            <p:nvPr/>
          </p:nvCxnSpPr>
          <p:spPr>
            <a:xfrm>
              <a:off x="2538360" y="3750840"/>
              <a:ext cx="481680" cy="54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cxnSp>
          <p:nvCxnSpPr>
            <p:cNvPr id="389" name="AutoShape 40"/>
            <p:cNvCxnSpPr>
              <a:stCxn id="369" idx="4"/>
              <a:endCxn id="372" idx="0"/>
            </p:cNvCxnSpPr>
            <p:nvPr/>
          </p:nvCxnSpPr>
          <p:spPr>
            <a:xfrm flipH="1">
              <a:off x="2137680" y="4146480"/>
              <a:ext cx="5400" cy="448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cxnSp>
          <p:nvCxnSpPr>
            <p:cNvPr id="390" name="AutoShape 42"/>
            <p:cNvCxnSpPr>
              <a:stCxn id="370" idx="6"/>
              <a:endCxn id="371" idx="2"/>
            </p:cNvCxnSpPr>
            <p:nvPr/>
          </p:nvCxnSpPr>
          <p:spPr>
            <a:xfrm>
              <a:off x="3809880" y="3755880"/>
              <a:ext cx="556560" cy="5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cxnSp>
          <p:nvCxnSpPr>
            <p:cNvPr id="391" name="AutoShape 43"/>
            <p:cNvCxnSpPr>
              <a:stCxn id="371" idx="6"/>
              <a:endCxn id="379" idx="2"/>
            </p:cNvCxnSpPr>
            <p:nvPr/>
          </p:nvCxnSpPr>
          <p:spPr>
            <a:xfrm flipV="1">
              <a:off x="5156280" y="3750480"/>
              <a:ext cx="365760" cy="10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cxnSp>
          <p:nvCxnSpPr>
            <p:cNvPr id="392" name="AutoShape 44"/>
            <p:cNvCxnSpPr>
              <a:stCxn id="379" idx="7"/>
              <a:endCxn id="384" idx="3"/>
            </p:cNvCxnSpPr>
            <p:nvPr/>
          </p:nvCxnSpPr>
          <p:spPr>
            <a:xfrm flipV="1">
              <a:off x="6189480" y="2685600"/>
              <a:ext cx="548640" cy="783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cxnSp>
          <p:nvCxnSpPr>
            <p:cNvPr id="393" name="AutoShape 45"/>
            <p:cNvCxnSpPr>
              <a:stCxn id="379" idx="5"/>
              <a:endCxn id="386" idx="1"/>
            </p:cNvCxnSpPr>
            <p:nvPr/>
          </p:nvCxnSpPr>
          <p:spPr>
            <a:xfrm>
              <a:off x="6189120" y="4033800"/>
              <a:ext cx="731160" cy="884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cxnSp>
          <p:nvCxnSpPr>
            <p:cNvPr id="394" name="AutoShape 46"/>
            <p:cNvCxnSpPr>
              <a:stCxn id="370" idx="4"/>
              <a:endCxn id="374" idx="0"/>
            </p:cNvCxnSpPr>
            <p:nvPr/>
          </p:nvCxnSpPr>
          <p:spPr>
            <a:xfrm flipH="1">
              <a:off x="3409200" y="4150800"/>
              <a:ext cx="5400" cy="4388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</p:grpSp>
      <p:grpSp>
        <p:nvGrpSpPr>
          <p:cNvPr id="395" name="Group 56"/>
          <p:cNvGrpSpPr/>
          <p:nvPr/>
        </p:nvGrpSpPr>
        <p:grpSpPr>
          <a:xfrm>
            <a:off x="504720" y="1057320"/>
            <a:ext cx="3851280" cy="928800"/>
            <a:chOff x="504720" y="1057320"/>
            <a:chExt cx="3851280" cy="928800"/>
          </a:xfrm>
        </p:grpSpPr>
        <p:sp>
          <p:nvSpPr>
            <p:cNvPr id="396" name="AutoShape 3"/>
            <p:cNvSpPr/>
            <p:nvPr/>
          </p:nvSpPr>
          <p:spPr>
            <a:xfrm>
              <a:off x="644400" y="1327320"/>
              <a:ext cx="3711600" cy="479520"/>
            </a:xfrm>
            <a:prstGeom prst="roundRect">
              <a:avLst>
                <a:gd name="adj" fmla="val 16667"/>
              </a:avLst>
            </a:prstGeom>
            <a:solidFill>
              <a:srgbClr val="e7ffe7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 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Function Parser FSA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97" name="Picture 7" descr="폴더"/>
            <p:cNvPicPr/>
            <p:nvPr/>
          </p:nvPicPr>
          <p:blipFill>
            <a:blip r:embed="rId1"/>
            <a:stretch/>
          </p:blipFill>
          <p:spPr>
            <a:xfrm>
              <a:off x="504720" y="1057320"/>
              <a:ext cx="1279800" cy="928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AutoShape 71"/>
          <p:cNvSpPr/>
          <p:nvPr/>
        </p:nvSpPr>
        <p:spPr>
          <a:xfrm flipH="1">
            <a:off x="565200" y="1611360"/>
            <a:ext cx="8066160" cy="4681440"/>
          </a:xfrm>
          <a:prstGeom prst="roundRect">
            <a:avLst>
              <a:gd name="adj" fmla="val 2472"/>
            </a:avLst>
          </a:prstGeom>
          <a:gradFill rotWithShape="0">
            <a:gsLst>
              <a:gs pos="0">
                <a:srgbClr val="e8f5fc"/>
              </a:gs>
              <a:gs pos="100000">
                <a:srgbClr val="f3fafd"/>
              </a:gs>
            </a:gsLst>
            <a:lin ang="5400000"/>
          </a:gradFill>
          <a:ln w="3240">
            <a:solidFill>
              <a:srgbClr val="129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99" name="Group 3"/>
          <p:cNvGrpSpPr/>
          <p:nvPr/>
        </p:nvGrpSpPr>
        <p:grpSpPr>
          <a:xfrm>
            <a:off x="2987640" y="357120"/>
            <a:ext cx="6192360" cy="1312920"/>
            <a:chOff x="2987640" y="357120"/>
            <a:chExt cx="6192360" cy="1312920"/>
          </a:xfrm>
        </p:grpSpPr>
        <p:sp>
          <p:nvSpPr>
            <p:cNvPr id="400" name="Line 4"/>
            <p:cNvSpPr/>
            <p:nvPr/>
          </p:nvSpPr>
          <p:spPr>
            <a:xfrm>
              <a:off x="3115440" y="1052640"/>
              <a:ext cx="606456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1" name="Text Box 5"/>
            <p:cNvSpPr/>
            <p:nvPr/>
          </p:nvSpPr>
          <p:spPr>
            <a:xfrm>
              <a:off x="2987640" y="357120"/>
              <a:ext cx="6060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Berlin Sans FB Demi"/>
                  <a:ea typeface="HY강B"/>
                </a:rPr>
                <a:t>Finite State Automata (2)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2" name="Group 66"/>
          <p:cNvGrpSpPr/>
          <p:nvPr/>
        </p:nvGrpSpPr>
        <p:grpSpPr>
          <a:xfrm>
            <a:off x="504720" y="1057320"/>
            <a:ext cx="5867640" cy="928800"/>
            <a:chOff x="504720" y="1057320"/>
            <a:chExt cx="5867640" cy="928800"/>
          </a:xfrm>
        </p:grpSpPr>
        <p:sp>
          <p:nvSpPr>
            <p:cNvPr id="403" name="AutoShape 3"/>
            <p:cNvSpPr/>
            <p:nvPr/>
          </p:nvSpPr>
          <p:spPr>
            <a:xfrm>
              <a:off x="644400" y="1327320"/>
              <a:ext cx="5727960" cy="479160"/>
            </a:xfrm>
            <a:prstGeom prst="roundRect">
              <a:avLst>
                <a:gd name="adj" fmla="val 16667"/>
              </a:avLst>
            </a:prstGeom>
            <a:solidFill>
              <a:srgbClr val="e7ffe7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 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Parser making Value &amp; Address FSA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04" name="Picture 7" descr="폴더"/>
            <p:cNvPicPr/>
            <p:nvPr/>
          </p:nvPicPr>
          <p:blipFill>
            <a:blip r:embed="rId1"/>
            <a:stretch/>
          </p:blipFill>
          <p:spPr>
            <a:xfrm>
              <a:off x="504720" y="1057320"/>
              <a:ext cx="1279800" cy="928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405" name="Group 65"/>
          <p:cNvGrpSpPr/>
          <p:nvPr/>
        </p:nvGrpSpPr>
        <p:grpSpPr>
          <a:xfrm>
            <a:off x="776160" y="2060640"/>
            <a:ext cx="7751880" cy="4735440"/>
            <a:chOff x="776160" y="2060640"/>
            <a:chExt cx="7751880" cy="4735440"/>
          </a:xfrm>
        </p:grpSpPr>
        <p:sp>
          <p:nvSpPr>
            <p:cNvPr id="406" name="Oval 7"/>
            <p:cNvSpPr/>
            <p:nvPr/>
          </p:nvSpPr>
          <p:spPr>
            <a:xfrm>
              <a:off x="2063880" y="3672000"/>
              <a:ext cx="771480" cy="771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1 S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4376880" y="2060640"/>
              <a:ext cx="771480" cy="771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2 S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8" name="Oval 10"/>
            <p:cNvSpPr/>
            <p:nvPr/>
          </p:nvSpPr>
          <p:spPr>
            <a:xfrm>
              <a:off x="784080" y="4946760"/>
              <a:ext cx="771840" cy="771480"/>
            </a:xfrm>
            <a:prstGeom prst="ellipse">
              <a:avLst/>
            </a:prstGeom>
            <a:gradFill rotWithShape="0">
              <a:gsLst>
                <a:gs pos="0">
                  <a:srgbClr val="ff0000">
                    <a:alpha val="32156"/>
                  </a:srgbClr>
                </a:gs>
                <a:gs pos="100000">
                  <a:srgbClr val="ff868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Dead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9" name="Text Box 14"/>
            <p:cNvSpPr/>
            <p:nvPr/>
          </p:nvSpPr>
          <p:spPr>
            <a:xfrm>
              <a:off x="3561480" y="2327400"/>
              <a:ext cx="7430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array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0" name="Text Box 15"/>
            <p:cNvSpPr/>
            <p:nvPr/>
          </p:nvSpPr>
          <p:spPr>
            <a:xfrm>
              <a:off x="4377240" y="3654360"/>
              <a:ext cx="808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1" name="Oval 22"/>
            <p:cNvSpPr/>
            <p:nvPr/>
          </p:nvSpPr>
          <p:spPr>
            <a:xfrm>
              <a:off x="7756560" y="3672000"/>
              <a:ext cx="771480" cy="771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412" name="AutoShape 26"/>
            <p:cNvCxnSpPr>
              <a:stCxn id="406" idx="6"/>
              <a:endCxn id="407" idx="2"/>
            </p:cNvCxnSpPr>
            <p:nvPr/>
          </p:nvCxnSpPr>
          <p:spPr>
            <a:xfrm flipV="1">
              <a:off x="2844360" y="2445840"/>
              <a:ext cx="1523160" cy="1612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cxnSp>
          <p:nvCxnSpPr>
            <p:cNvPr id="413" name="AutoShape 27"/>
            <p:cNvCxnSpPr>
              <a:stCxn id="414" idx="4"/>
              <a:endCxn id="408" idx="0"/>
            </p:cNvCxnSpPr>
            <p:nvPr/>
          </p:nvCxnSpPr>
          <p:spPr>
            <a:xfrm>
              <a:off x="1162080" y="4452840"/>
              <a:ext cx="8640" cy="494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cxnSp>
          <p:nvCxnSpPr>
            <p:cNvPr id="415" name="AutoShape 29"/>
            <p:cNvCxnSpPr>
              <a:stCxn id="407" idx="6"/>
              <a:endCxn id="416" idx="2"/>
            </p:cNvCxnSpPr>
            <p:nvPr/>
          </p:nvCxnSpPr>
          <p:spPr>
            <a:xfrm>
              <a:off x="5157720" y="2446200"/>
              <a:ext cx="1362960" cy="1612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cxnSp>
          <p:nvCxnSpPr>
            <p:cNvPr id="417" name="AutoShape 30"/>
            <p:cNvCxnSpPr>
              <a:stCxn id="416" idx="6"/>
              <a:endCxn id="411" idx="2"/>
            </p:cNvCxnSpPr>
            <p:nvPr/>
          </p:nvCxnSpPr>
          <p:spPr>
            <a:xfrm>
              <a:off x="7310520" y="4057200"/>
              <a:ext cx="434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sp>
          <p:nvSpPr>
            <p:cNvPr id="418" name="Oval 36"/>
            <p:cNvSpPr/>
            <p:nvPr/>
          </p:nvSpPr>
          <p:spPr>
            <a:xfrm>
              <a:off x="4376880" y="3238560"/>
              <a:ext cx="771480" cy="771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2 S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9" name="Oval 37"/>
            <p:cNvSpPr/>
            <p:nvPr/>
          </p:nvSpPr>
          <p:spPr>
            <a:xfrm>
              <a:off x="4376880" y="4145040"/>
              <a:ext cx="771480" cy="771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2 S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0" name="Oval 38"/>
            <p:cNvSpPr/>
            <p:nvPr/>
          </p:nvSpPr>
          <p:spPr>
            <a:xfrm>
              <a:off x="4376880" y="5321160"/>
              <a:ext cx="771480" cy="771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2 S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421" name="AutoShape 39"/>
            <p:cNvCxnSpPr>
              <a:stCxn id="406" idx="6"/>
              <a:endCxn id="418" idx="2"/>
            </p:cNvCxnSpPr>
            <p:nvPr/>
          </p:nvCxnSpPr>
          <p:spPr>
            <a:xfrm flipV="1">
              <a:off x="2844360" y="3623760"/>
              <a:ext cx="1523160" cy="434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cxnSp>
          <p:nvCxnSpPr>
            <p:cNvPr id="422" name="AutoShape 40"/>
            <p:cNvCxnSpPr>
              <a:stCxn id="406" idx="6"/>
              <a:endCxn id="419" idx="2"/>
            </p:cNvCxnSpPr>
            <p:nvPr/>
          </p:nvCxnSpPr>
          <p:spPr>
            <a:xfrm>
              <a:off x="2844360" y="4057560"/>
              <a:ext cx="1523160" cy="473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cxnSp>
          <p:nvCxnSpPr>
            <p:cNvPr id="423" name="AutoShape 41"/>
            <p:cNvCxnSpPr>
              <a:stCxn id="406" idx="6"/>
              <a:endCxn id="420" idx="2"/>
            </p:cNvCxnSpPr>
            <p:nvPr/>
          </p:nvCxnSpPr>
          <p:spPr>
            <a:xfrm>
              <a:off x="2844360" y="4057560"/>
              <a:ext cx="1523160" cy="1650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sp>
          <p:nvSpPr>
            <p:cNvPr id="424" name="Text Box 42"/>
            <p:cNvSpPr/>
            <p:nvPr/>
          </p:nvSpPr>
          <p:spPr>
            <a:xfrm>
              <a:off x="3516480" y="3314880"/>
              <a:ext cx="8632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pointer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Text Box 43"/>
            <p:cNvSpPr/>
            <p:nvPr/>
          </p:nvSpPr>
          <p:spPr>
            <a:xfrm>
              <a:off x="3525840" y="4384800"/>
              <a:ext cx="86364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pointer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array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Text Box 44"/>
            <p:cNvSpPr/>
            <p:nvPr/>
          </p:nvSpPr>
          <p:spPr>
            <a:xfrm>
              <a:off x="3557880" y="5334120"/>
              <a:ext cx="7279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basic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4" name="Oval 46"/>
            <p:cNvSpPr/>
            <p:nvPr/>
          </p:nvSpPr>
          <p:spPr>
            <a:xfrm>
              <a:off x="776160" y="3672000"/>
              <a:ext cx="771480" cy="771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427" name="AutoShape 47"/>
            <p:cNvCxnSpPr>
              <a:stCxn id="414" idx="6"/>
              <a:endCxn id="406" idx="2"/>
            </p:cNvCxnSpPr>
            <p:nvPr/>
          </p:nvCxnSpPr>
          <p:spPr>
            <a:xfrm>
              <a:off x="1557360" y="4057200"/>
              <a:ext cx="4975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sp>
          <p:nvSpPr>
            <p:cNvPr id="428" name="Text Box 48"/>
            <p:cNvSpPr/>
            <p:nvPr/>
          </p:nvSpPr>
          <p:spPr>
            <a:xfrm>
              <a:off x="1469880" y="3382920"/>
              <a:ext cx="65916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Text Box 49"/>
            <p:cNvSpPr/>
            <p:nvPr/>
          </p:nvSpPr>
          <p:spPr>
            <a:xfrm>
              <a:off x="1083240" y="4503600"/>
              <a:ext cx="9169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Others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6" name="Oval 54"/>
            <p:cNvSpPr/>
            <p:nvPr/>
          </p:nvSpPr>
          <p:spPr>
            <a:xfrm>
              <a:off x="6529320" y="3672000"/>
              <a:ext cx="771480" cy="771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3 S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430" name="AutoShape 55"/>
            <p:cNvCxnSpPr>
              <a:stCxn id="418" idx="6"/>
              <a:endCxn id="416" idx="2"/>
            </p:cNvCxnSpPr>
            <p:nvPr/>
          </p:nvCxnSpPr>
          <p:spPr>
            <a:xfrm>
              <a:off x="5157720" y="3624120"/>
              <a:ext cx="1362960" cy="434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cxnSp>
          <p:nvCxnSpPr>
            <p:cNvPr id="431" name="AutoShape 56"/>
            <p:cNvCxnSpPr>
              <a:stCxn id="419" idx="6"/>
              <a:endCxn id="416" idx="2"/>
            </p:cNvCxnSpPr>
            <p:nvPr/>
          </p:nvCxnSpPr>
          <p:spPr>
            <a:xfrm flipV="1">
              <a:off x="5157720" y="4057200"/>
              <a:ext cx="1362960" cy="473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cxnSp>
          <p:nvCxnSpPr>
            <p:cNvPr id="432" name="AutoShape 57"/>
            <p:cNvCxnSpPr>
              <a:stCxn id="420" idx="6"/>
              <a:endCxn id="416" idx="2"/>
            </p:cNvCxnSpPr>
            <p:nvPr/>
          </p:nvCxnSpPr>
          <p:spPr>
            <a:xfrm flipV="1">
              <a:off x="5157720" y="4057200"/>
              <a:ext cx="1362960" cy="1650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</p:cxnSp>
        <p:sp>
          <p:nvSpPr>
            <p:cNvPr id="433" name="Text Box 60"/>
            <p:cNvSpPr/>
            <p:nvPr/>
          </p:nvSpPr>
          <p:spPr>
            <a:xfrm>
              <a:off x="5213160" y="3718080"/>
              <a:ext cx="7736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mak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434" name="AutoShape 62"/>
            <p:cNvCxnSpPr>
              <a:stCxn id="416" idx="4"/>
              <a:endCxn id="406" idx="4"/>
            </p:cNvCxnSpPr>
            <p:nvPr/>
          </p:nvCxnSpPr>
          <p:spPr>
            <a:xfrm rot="5400000">
              <a:off x="4680720" y="2220480"/>
              <a:ext cx="2520" cy="4466520"/>
            </a:xfrm>
            <a:prstGeom prst="bentConnector3">
              <a:avLst>
                <a:gd name="adj1" fmla="val 108500000"/>
              </a:avLst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35" name="Text Box 63"/>
            <p:cNvSpPr/>
            <p:nvPr/>
          </p:nvSpPr>
          <p:spPr>
            <a:xfrm>
              <a:off x="7406280" y="3638520"/>
              <a:ext cx="241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Text Box 64"/>
            <p:cNvSpPr/>
            <p:nvPr/>
          </p:nvSpPr>
          <p:spPr>
            <a:xfrm>
              <a:off x="6942960" y="4653000"/>
              <a:ext cx="241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AutoShape 71"/>
          <p:cNvSpPr/>
          <p:nvPr/>
        </p:nvSpPr>
        <p:spPr>
          <a:xfrm flipH="1">
            <a:off x="565200" y="1311120"/>
            <a:ext cx="8246880" cy="5332680"/>
          </a:xfrm>
          <a:prstGeom prst="roundRect">
            <a:avLst>
              <a:gd name="adj" fmla="val 2472"/>
            </a:avLst>
          </a:prstGeom>
          <a:gradFill rotWithShape="0">
            <a:gsLst>
              <a:gs pos="0">
                <a:srgbClr val="e8f5fc"/>
              </a:gs>
              <a:gs pos="100000">
                <a:srgbClr val="f3fafd"/>
              </a:gs>
            </a:gsLst>
            <a:lin ang="5400000"/>
          </a:gradFill>
          <a:ln w="3240">
            <a:solidFill>
              <a:srgbClr val="129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38" name="Group 3"/>
          <p:cNvGrpSpPr/>
          <p:nvPr/>
        </p:nvGrpSpPr>
        <p:grpSpPr>
          <a:xfrm>
            <a:off x="5715000" y="357120"/>
            <a:ext cx="3465000" cy="703440"/>
            <a:chOff x="5715000" y="357120"/>
            <a:chExt cx="3465000" cy="703440"/>
          </a:xfrm>
        </p:grpSpPr>
        <p:sp>
          <p:nvSpPr>
            <p:cNvPr id="439" name="Line 4"/>
            <p:cNvSpPr/>
            <p:nvPr/>
          </p:nvSpPr>
          <p:spPr>
            <a:xfrm>
              <a:off x="5786280" y="1052640"/>
              <a:ext cx="33937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Text Box 5"/>
            <p:cNvSpPr/>
            <p:nvPr/>
          </p:nvSpPr>
          <p:spPr>
            <a:xfrm>
              <a:off x="5715000" y="357120"/>
              <a:ext cx="3391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Berlin Sans FB Demi"/>
                  <a:ea typeface="HY강B"/>
                </a:rPr>
                <a:t>Final Output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41" name="그룹 111"/>
          <p:cNvGrpSpPr/>
          <p:nvPr/>
        </p:nvGrpSpPr>
        <p:grpSpPr>
          <a:xfrm>
            <a:off x="720720" y="1378080"/>
            <a:ext cx="7997760" cy="5126040"/>
            <a:chOff x="720720" y="1378080"/>
            <a:chExt cx="7997760" cy="5126040"/>
          </a:xfrm>
        </p:grpSpPr>
        <p:sp>
          <p:nvSpPr>
            <p:cNvPr id="442" name="Rectangle 7"/>
            <p:cNvSpPr/>
            <p:nvPr/>
          </p:nvSpPr>
          <p:spPr>
            <a:xfrm>
              <a:off x="2836800" y="5535720"/>
              <a:ext cx="5878080" cy="447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1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- G_Report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기능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Rectangle 7"/>
            <p:cNvSpPr/>
            <p:nvPr/>
          </p:nvSpPr>
          <p:spPr>
            <a:xfrm>
              <a:off x="2563560" y="6056640"/>
              <a:ext cx="6153120" cy="447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2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-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프로그램 코드 검색 기능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Rectangle 7"/>
            <p:cNvSpPr/>
            <p:nvPr/>
          </p:nvSpPr>
          <p:spPr>
            <a:xfrm>
              <a:off x="2497680" y="1378080"/>
              <a:ext cx="6188040" cy="447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3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-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프로젝트 단위의 통합관리 기능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Rectangle 7"/>
            <p:cNvSpPr/>
            <p:nvPr/>
          </p:nvSpPr>
          <p:spPr>
            <a:xfrm>
              <a:off x="2820960" y="1903320"/>
              <a:ext cx="5878080" cy="447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4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-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실시간 오류 체크 및 수정 기능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Rectangle 7"/>
            <p:cNvSpPr/>
            <p:nvPr/>
          </p:nvSpPr>
          <p:spPr>
            <a:xfrm>
              <a:off x="2833560" y="2419200"/>
              <a:ext cx="5878080" cy="447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5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- Debugger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기능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Rectangle 7"/>
            <p:cNvSpPr/>
            <p:nvPr/>
          </p:nvSpPr>
          <p:spPr>
            <a:xfrm>
              <a:off x="2833560" y="2936880"/>
              <a:ext cx="5878080" cy="447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6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- Gcc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컴파일 옵션 설정 기능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833560" y="3452760"/>
              <a:ext cx="5878080" cy="447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7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-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함수 도움말 기능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Rectangle 7"/>
            <p:cNvSpPr/>
            <p:nvPr/>
          </p:nvSpPr>
          <p:spPr>
            <a:xfrm>
              <a:off x="2838240" y="3973680"/>
              <a:ext cx="5878080" cy="447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8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- Gcc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예약어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igh Lighting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기능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Rectangle 7"/>
            <p:cNvSpPr/>
            <p:nvPr/>
          </p:nvSpPr>
          <p:spPr>
            <a:xfrm>
              <a:off x="2838240" y="4497480"/>
              <a:ext cx="5878080" cy="447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9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-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동 탭 설정 기능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1" name="Rectangle 7"/>
            <p:cNvSpPr/>
            <p:nvPr/>
          </p:nvSpPr>
          <p:spPr>
            <a:xfrm>
              <a:off x="2565360" y="5018400"/>
              <a:ext cx="6153120" cy="447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10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-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최근 프로젝트 목록 표시 기능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52" name="그룹 109"/>
            <p:cNvGrpSpPr/>
            <p:nvPr/>
          </p:nvGrpSpPr>
          <p:grpSpPr>
            <a:xfrm>
              <a:off x="720720" y="1487520"/>
              <a:ext cx="3995280" cy="4883400"/>
              <a:chOff x="720720" y="1487520"/>
              <a:chExt cx="3995280" cy="4883400"/>
            </a:xfrm>
          </p:grpSpPr>
          <p:grpSp>
            <p:nvGrpSpPr>
              <p:cNvPr id="453" name="그룹 104"/>
              <p:cNvGrpSpPr/>
              <p:nvPr/>
            </p:nvGrpSpPr>
            <p:grpSpPr>
              <a:xfrm>
                <a:off x="720720" y="1487520"/>
                <a:ext cx="3995280" cy="4883400"/>
                <a:chOff x="720720" y="1487520"/>
                <a:chExt cx="3995280" cy="4883400"/>
              </a:xfrm>
            </p:grpSpPr>
            <p:sp>
              <p:nvSpPr>
                <p:cNvPr id="454" name="타원 99"/>
                <p:cNvSpPr/>
                <p:nvPr/>
              </p:nvSpPr>
              <p:spPr>
                <a:xfrm>
                  <a:off x="720720" y="1487520"/>
                  <a:ext cx="3995280" cy="4883400"/>
                </a:xfrm>
                <a:prstGeom prst="ellipse">
                  <a:avLst/>
                </a:pr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5" name="타원 93"/>
                <p:cNvSpPr/>
                <p:nvPr/>
              </p:nvSpPr>
              <p:spPr>
                <a:xfrm>
                  <a:off x="782640" y="1557360"/>
                  <a:ext cx="3863160" cy="4721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6" name="타원 94"/>
                <p:cNvSpPr/>
                <p:nvPr/>
              </p:nvSpPr>
              <p:spPr>
                <a:xfrm>
                  <a:off x="1024200" y="1829160"/>
                  <a:ext cx="3419640" cy="4179600"/>
                </a:xfrm>
                <a:prstGeom prst="ellipse">
                  <a:avLst/>
                </a:prstGeom>
                <a:solidFill>
                  <a:srgbClr val="92d050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0" spc="-1" strike="noStrike">
                      <a:solidFill>
                        <a:srgbClr val="92d050"/>
                      </a:solidFill>
                      <a:latin typeface="Showcard Gothic"/>
                    </a:rPr>
                    <a:t>G</a:t>
                  </a:r>
                  <a:r>
                    <a:rPr b="0" lang="en-US" sz="14000" spc="-1" strike="noStrike">
                      <a:solidFill>
                        <a:srgbClr val="92d050"/>
                      </a:solidFill>
                      <a:latin typeface="Showcard Gothic"/>
                    </a:rPr>
                    <a:t>   </a:t>
                  </a:r>
                  <a:endParaRPr b="0" lang="en-US" sz="14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57" name="TextBox 103"/>
              <p:cNvSpPr/>
              <p:nvPr/>
            </p:nvSpPr>
            <p:spPr>
              <a:xfrm>
                <a:off x="2797200" y="48067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howcard Gothic"/>
                  </a:rPr>
                  <a:t>Studio</a:t>
                </a:r>
                <a:endParaRPr b="0" lang="en-US" sz="2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AutoShape 71"/>
          <p:cNvSpPr/>
          <p:nvPr/>
        </p:nvSpPr>
        <p:spPr>
          <a:xfrm flipH="1">
            <a:off x="565200" y="1611360"/>
            <a:ext cx="8066160" cy="4681440"/>
          </a:xfrm>
          <a:prstGeom prst="roundRect">
            <a:avLst>
              <a:gd name="adj" fmla="val 2472"/>
            </a:avLst>
          </a:prstGeom>
          <a:gradFill rotWithShape="0">
            <a:gsLst>
              <a:gs pos="0">
                <a:srgbClr val="e8f5fc"/>
              </a:gs>
              <a:gs pos="100000">
                <a:srgbClr val="f3fafd"/>
              </a:gs>
            </a:gsLst>
            <a:lin ang="5400000"/>
          </a:gradFill>
          <a:ln w="3240">
            <a:solidFill>
              <a:srgbClr val="129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59" name="Group 228"/>
          <p:cNvGrpSpPr/>
          <p:nvPr/>
        </p:nvGrpSpPr>
        <p:grpSpPr>
          <a:xfrm>
            <a:off x="504720" y="1057320"/>
            <a:ext cx="3851280" cy="928800"/>
            <a:chOff x="504720" y="1057320"/>
            <a:chExt cx="3851280" cy="928800"/>
          </a:xfrm>
        </p:grpSpPr>
        <p:sp>
          <p:nvSpPr>
            <p:cNvPr id="460" name="AutoShape 3"/>
            <p:cNvSpPr/>
            <p:nvPr/>
          </p:nvSpPr>
          <p:spPr>
            <a:xfrm>
              <a:off x="644400" y="1327320"/>
              <a:ext cx="3711600" cy="479520"/>
            </a:xfrm>
            <a:prstGeom prst="roundRect">
              <a:avLst>
                <a:gd name="adj" fmla="val 16667"/>
              </a:avLst>
            </a:prstGeom>
            <a:solidFill>
              <a:srgbClr val="e7ffe7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 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What is Demo list ??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61" name="Picture 7" descr="폴더"/>
            <p:cNvPicPr/>
            <p:nvPr/>
          </p:nvPicPr>
          <p:blipFill>
            <a:blip r:embed="rId1"/>
            <a:stretch/>
          </p:blipFill>
          <p:spPr>
            <a:xfrm>
              <a:off x="504720" y="1057320"/>
              <a:ext cx="1279800" cy="928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462" name="Group 8"/>
          <p:cNvGrpSpPr/>
          <p:nvPr/>
        </p:nvGrpSpPr>
        <p:grpSpPr>
          <a:xfrm>
            <a:off x="4572000" y="351000"/>
            <a:ext cx="4608360" cy="703440"/>
            <a:chOff x="4572000" y="351000"/>
            <a:chExt cx="4608360" cy="703440"/>
          </a:xfrm>
        </p:grpSpPr>
        <p:sp>
          <p:nvSpPr>
            <p:cNvPr id="463" name="Line 4"/>
            <p:cNvSpPr/>
            <p:nvPr/>
          </p:nvSpPr>
          <p:spPr>
            <a:xfrm>
              <a:off x="4859280" y="1052640"/>
              <a:ext cx="432108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4" name="Text Box 5"/>
            <p:cNvSpPr/>
            <p:nvPr/>
          </p:nvSpPr>
          <p:spPr>
            <a:xfrm>
              <a:off x="4572000" y="351000"/>
              <a:ext cx="453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Berlin Sans FB Demi"/>
                  <a:ea typeface="HY강B"/>
                </a:rPr>
                <a:t>G_Studdio Demo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5" name="Rectangle 7"/>
          <p:cNvSpPr/>
          <p:nvPr/>
        </p:nvSpPr>
        <p:spPr>
          <a:xfrm>
            <a:off x="882720" y="2349360"/>
            <a:ext cx="7561080" cy="44784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irst Dem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AutoShape 17"/>
          <p:cNvSpPr/>
          <p:nvPr/>
        </p:nvSpPr>
        <p:spPr>
          <a:xfrm>
            <a:off x="1314360" y="2820960"/>
            <a:ext cx="7145280" cy="11080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erlin Sans FB"/>
                <a:ea typeface="HY태백B"/>
              </a:rPr>
              <a:t>- Project Create &amp; Lode &amp; Sav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erlin Sans FB"/>
                <a:ea typeface="HY태백B"/>
              </a:rPr>
              <a:t>- Option List </a:t>
            </a:r>
            <a:r>
              <a:rPr b="1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설정 및 변경</a:t>
            </a:r>
            <a:r>
              <a:rPr b="1" lang="en-US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erlin Sans FB"/>
                <a:ea typeface="HY태백B"/>
              </a:rPr>
              <a:t>- File </a:t>
            </a:r>
            <a:r>
              <a:rPr b="1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추가 및 삭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erlin Sans FB"/>
                <a:ea typeface="HY태백B"/>
              </a:rPr>
              <a:t>- G_Studio </a:t>
            </a:r>
            <a:r>
              <a:rPr b="1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여러 기능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900000" y="4292640"/>
            <a:ext cx="7561440" cy="44748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Second Dem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AutoShape 17"/>
          <p:cNvSpPr/>
          <p:nvPr/>
        </p:nvSpPr>
        <p:spPr>
          <a:xfrm>
            <a:off x="1332000" y="4802040"/>
            <a:ext cx="7145280" cy="6130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erlin Sans FB"/>
                <a:ea typeface="HY태백B"/>
              </a:rPr>
              <a:t>- Debugger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5"/>
          <p:cNvGrpSpPr/>
          <p:nvPr/>
        </p:nvGrpSpPr>
        <p:grpSpPr>
          <a:xfrm>
            <a:off x="565200" y="1971720"/>
            <a:ext cx="8066160" cy="1962000"/>
            <a:chOff x="565200" y="1971720"/>
            <a:chExt cx="8066160" cy="1962000"/>
          </a:xfrm>
        </p:grpSpPr>
        <p:sp>
          <p:nvSpPr>
            <p:cNvPr id="470" name="AutoShape 71"/>
            <p:cNvSpPr/>
            <p:nvPr/>
          </p:nvSpPr>
          <p:spPr>
            <a:xfrm flipH="1">
              <a:off x="565200" y="1971720"/>
              <a:ext cx="8066160" cy="1962000"/>
            </a:xfrm>
            <a:prstGeom prst="roundRect">
              <a:avLst>
                <a:gd name="adj" fmla="val 2472"/>
              </a:avLst>
            </a:prstGeom>
            <a:gradFill rotWithShape="0">
              <a:gsLst>
                <a:gs pos="0">
                  <a:srgbClr val="e8f5fc"/>
                </a:gs>
                <a:gs pos="100000">
                  <a:srgbClr val="f3fafd"/>
                </a:gs>
              </a:gsLst>
              <a:lin ang="5400000"/>
            </a:gradFill>
            <a:ln w="3240">
              <a:solidFill>
                <a:srgbClr val="129b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77840" indent="266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1" name="Text Box 4"/>
            <p:cNvSpPr/>
            <p:nvPr/>
          </p:nvSpPr>
          <p:spPr>
            <a:xfrm>
              <a:off x="1692360" y="2401920"/>
              <a:ext cx="5832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Berlin Sans FB"/>
                </a:rPr>
                <a:t>Thank You !</a:t>
              </a:r>
              <a:endParaRPr b="0" lang="en-US" sz="6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8"/>
          <p:cNvGrpSpPr/>
          <p:nvPr/>
        </p:nvGrpSpPr>
        <p:grpSpPr>
          <a:xfrm>
            <a:off x="1766880" y="1341360"/>
            <a:ext cx="5547600" cy="433440"/>
            <a:chOff x="1766880" y="1341360"/>
            <a:chExt cx="5547600" cy="433440"/>
          </a:xfrm>
        </p:grpSpPr>
        <p:grpSp>
          <p:nvGrpSpPr>
            <p:cNvPr id="89" name="Group 21"/>
            <p:cNvGrpSpPr/>
            <p:nvPr/>
          </p:nvGrpSpPr>
          <p:grpSpPr>
            <a:xfrm>
              <a:off x="1766880" y="1341360"/>
              <a:ext cx="5547600" cy="431640"/>
              <a:chOff x="1766880" y="1341360"/>
              <a:chExt cx="5547600" cy="431640"/>
            </a:xfrm>
          </p:grpSpPr>
          <p:sp>
            <p:nvSpPr>
              <p:cNvPr id="90" name="AutoShape 22"/>
              <p:cNvSpPr/>
              <p:nvPr/>
            </p:nvSpPr>
            <p:spPr>
              <a:xfrm>
                <a:off x="1766880" y="1341360"/>
                <a:ext cx="5547600" cy="431640"/>
              </a:xfrm>
              <a:prstGeom prst="roundRect">
                <a:avLst>
                  <a:gd name="adj" fmla="val 28167"/>
                </a:avLst>
              </a:prstGeom>
              <a:gradFill rotWithShape="0">
                <a:gsLst>
                  <a:gs pos="0">
                    <a:srgbClr val="37587d"/>
                  </a:gs>
                  <a:gs pos="50000">
                    <a:srgbClr val="7d9fc5"/>
                  </a:gs>
                  <a:gs pos="100000">
                    <a:srgbClr val="37587d"/>
                  </a:gs>
                </a:gsLst>
                <a:lin ang="0"/>
              </a:gradFill>
              <a:ln w="1908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1" name="AutoShape 23"/>
              <p:cNvSpPr/>
              <p:nvPr/>
            </p:nvSpPr>
            <p:spPr>
              <a:xfrm>
                <a:off x="1876680" y="1345680"/>
                <a:ext cx="5322960" cy="11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beeff">
                      <a:alpha val="4117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92" name="Text Box 24"/>
            <p:cNvSpPr/>
            <p:nvPr/>
          </p:nvSpPr>
          <p:spPr>
            <a:xfrm>
              <a:off x="1838520" y="1403280"/>
              <a:ext cx="54007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Berlin Sans FB Demi"/>
                  <a:ea typeface="HY강B"/>
                </a:rPr>
                <a:t>Outline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93" name="Group 47"/>
          <p:cNvGrpSpPr/>
          <p:nvPr/>
        </p:nvGrpSpPr>
        <p:grpSpPr>
          <a:xfrm>
            <a:off x="1766880" y="1989000"/>
            <a:ext cx="5547600" cy="431640"/>
            <a:chOff x="1766880" y="1989000"/>
            <a:chExt cx="5547600" cy="431640"/>
          </a:xfrm>
        </p:grpSpPr>
        <p:grpSp>
          <p:nvGrpSpPr>
            <p:cNvPr id="94" name="Group 55"/>
            <p:cNvGrpSpPr/>
            <p:nvPr/>
          </p:nvGrpSpPr>
          <p:grpSpPr>
            <a:xfrm>
              <a:off x="1766880" y="1989000"/>
              <a:ext cx="5547600" cy="431640"/>
              <a:chOff x="1766880" y="1989000"/>
              <a:chExt cx="5547600" cy="431640"/>
            </a:xfrm>
          </p:grpSpPr>
          <p:sp>
            <p:nvSpPr>
              <p:cNvPr id="95" name="AutoShape 56"/>
              <p:cNvSpPr/>
              <p:nvPr/>
            </p:nvSpPr>
            <p:spPr>
              <a:xfrm>
                <a:off x="1766880" y="1989000"/>
                <a:ext cx="5547600" cy="431640"/>
              </a:xfrm>
              <a:prstGeom prst="roundRect">
                <a:avLst>
                  <a:gd name="adj" fmla="val 28167"/>
                </a:avLst>
              </a:prstGeom>
              <a:gradFill rotWithShape="0">
                <a:gsLst>
                  <a:gs pos="0">
                    <a:srgbClr val="37587d"/>
                  </a:gs>
                  <a:gs pos="50000">
                    <a:srgbClr val="7d9fc5"/>
                  </a:gs>
                  <a:gs pos="100000">
                    <a:srgbClr val="37587d"/>
                  </a:gs>
                </a:gsLst>
                <a:lin ang="0"/>
              </a:gradFill>
              <a:ln w="1908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6" name="AutoShape 57"/>
              <p:cNvSpPr/>
              <p:nvPr/>
            </p:nvSpPr>
            <p:spPr>
              <a:xfrm>
                <a:off x="1876680" y="1993320"/>
                <a:ext cx="5322960" cy="11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beeff">
                      <a:alpha val="4117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97" name="Text Box 58"/>
            <p:cNvSpPr/>
            <p:nvPr/>
          </p:nvSpPr>
          <p:spPr>
            <a:xfrm>
              <a:off x="1838160" y="2038320"/>
              <a:ext cx="54007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Berlin Sans FB Demi"/>
                  <a:ea typeface="HY강B"/>
                </a:rPr>
                <a:t>Development motive &amp; Object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98" name="Group 46"/>
          <p:cNvGrpSpPr/>
          <p:nvPr/>
        </p:nvGrpSpPr>
        <p:grpSpPr>
          <a:xfrm>
            <a:off x="1766880" y="2637000"/>
            <a:ext cx="5547600" cy="431640"/>
            <a:chOff x="1766880" y="2637000"/>
            <a:chExt cx="5547600" cy="431640"/>
          </a:xfrm>
        </p:grpSpPr>
        <p:grpSp>
          <p:nvGrpSpPr>
            <p:cNvPr id="99" name="Group 60"/>
            <p:cNvGrpSpPr/>
            <p:nvPr/>
          </p:nvGrpSpPr>
          <p:grpSpPr>
            <a:xfrm>
              <a:off x="1766880" y="2637000"/>
              <a:ext cx="5547600" cy="431640"/>
              <a:chOff x="1766880" y="2637000"/>
              <a:chExt cx="5547600" cy="431640"/>
            </a:xfrm>
          </p:grpSpPr>
          <p:sp>
            <p:nvSpPr>
              <p:cNvPr id="100" name="AutoShape 61"/>
              <p:cNvSpPr/>
              <p:nvPr/>
            </p:nvSpPr>
            <p:spPr>
              <a:xfrm>
                <a:off x="1766880" y="2637000"/>
                <a:ext cx="5547600" cy="431640"/>
              </a:xfrm>
              <a:prstGeom prst="roundRect">
                <a:avLst>
                  <a:gd name="adj" fmla="val 28167"/>
                </a:avLst>
              </a:prstGeom>
              <a:gradFill rotWithShape="0">
                <a:gsLst>
                  <a:gs pos="0">
                    <a:srgbClr val="37587d"/>
                  </a:gs>
                  <a:gs pos="50000">
                    <a:srgbClr val="7d9fc5"/>
                  </a:gs>
                  <a:gs pos="100000">
                    <a:srgbClr val="37587d"/>
                  </a:gs>
                </a:gsLst>
                <a:lin ang="0"/>
              </a:gradFill>
              <a:ln w="1908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AutoShape 62"/>
              <p:cNvSpPr/>
              <p:nvPr/>
            </p:nvSpPr>
            <p:spPr>
              <a:xfrm>
                <a:off x="1876680" y="2641320"/>
                <a:ext cx="5322960" cy="11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beeff">
                      <a:alpha val="4117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02" name="Text Box 63"/>
            <p:cNvSpPr/>
            <p:nvPr/>
          </p:nvSpPr>
          <p:spPr>
            <a:xfrm>
              <a:off x="1838160" y="2686320"/>
              <a:ext cx="54007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Berlin Sans FB Demi"/>
                  <a:ea typeface="HY강B"/>
                </a:rPr>
                <a:t>All system architecture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3" name="Group 45"/>
          <p:cNvGrpSpPr/>
          <p:nvPr/>
        </p:nvGrpSpPr>
        <p:grpSpPr>
          <a:xfrm>
            <a:off x="1766880" y="3284640"/>
            <a:ext cx="5547600" cy="431640"/>
            <a:chOff x="1766880" y="3284640"/>
            <a:chExt cx="5547600" cy="431640"/>
          </a:xfrm>
        </p:grpSpPr>
        <p:grpSp>
          <p:nvGrpSpPr>
            <p:cNvPr id="104" name="Group 65"/>
            <p:cNvGrpSpPr/>
            <p:nvPr/>
          </p:nvGrpSpPr>
          <p:grpSpPr>
            <a:xfrm>
              <a:off x="1766880" y="3284640"/>
              <a:ext cx="5547600" cy="431640"/>
              <a:chOff x="1766880" y="3284640"/>
              <a:chExt cx="5547600" cy="431640"/>
            </a:xfrm>
          </p:grpSpPr>
          <p:sp>
            <p:nvSpPr>
              <p:cNvPr id="105" name="AutoShape 66"/>
              <p:cNvSpPr/>
              <p:nvPr/>
            </p:nvSpPr>
            <p:spPr>
              <a:xfrm>
                <a:off x="1766880" y="3284640"/>
                <a:ext cx="5547600" cy="431640"/>
              </a:xfrm>
              <a:prstGeom prst="roundRect">
                <a:avLst>
                  <a:gd name="adj" fmla="val 28167"/>
                </a:avLst>
              </a:prstGeom>
              <a:gradFill rotWithShape="0">
                <a:gsLst>
                  <a:gs pos="0">
                    <a:srgbClr val="37587d"/>
                  </a:gs>
                  <a:gs pos="50000">
                    <a:srgbClr val="7d9fc5"/>
                  </a:gs>
                  <a:gs pos="100000">
                    <a:srgbClr val="37587d"/>
                  </a:gs>
                </a:gsLst>
                <a:lin ang="0"/>
              </a:gradFill>
              <a:ln w="1908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6" name="AutoShape 67"/>
              <p:cNvSpPr/>
              <p:nvPr/>
            </p:nvSpPr>
            <p:spPr>
              <a:xfrm>
                <a:off x="1876680" y="3288960"/>
                <a:ext cx="5322960" cy="11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beeff">
                      <a:alpha val="4117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07" name="Text Box 68"/>
            <p:cNvSpPr/>
            <p:nvPr/>
          </p:nvSpPr>
          <p:spPr>
            <a:xfrm>
              <a:off x="1838160" y="3321000"/>
              <a:ext cx="54007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Berlin Sans FB Demi"/>
                  <a:ea typeface="HY강B"/>
                </a:rPr>
                <a:t>Debugger system architecture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8" name="Group 44"/>
          <p:cNvGrpSpPr/>
          <p:nvPr/>
        </p:nvGrpSpPr>
        <p:grpSpPr>
          <a:xfrm>
            <a:off x="1766880" y="3933720"/>
            <a:ext cx="5547600" cy="433440"/>
            <a:chOff x="1766880" y="3933720"/>
            <a:chExt cx="5547600" cy="433440"/>
          </a:xfrm>
        </p:grpSpPr>
        <p:grpSp>
          <p:nvGrpSpPr>
            <p:cNvPr id="109" name="Group 70"/>
            <p:cNvGrpSpPr/>
            <p:nvPr/>
          </p:nvGrpSpPr>
          <p:grpSpPr>
            <a:xfrm>
              <a:off x="1766880" y="3933720"/>
              <a:ext cx="5547600" cy="431640"/>
              <a:chOff x="1766880" y="3933720"/>
              <a:chExt cx="5547600" cy="431640"/>
            </a:xfrm>
          </p:grpSpPr>
          <p:sp>
            <p:nvSpPr>
              <p:cNvPr id="110" name="AutoShape 71"/>
              <p:cNvSpPr/>
              <p:nvPr/>
            </p:nvSpPr>
            <p:spPr>
              <a:xfrm>
                <a:off x="1766880" y="3933720"/>
                <a:ext cx="5547600" cy="431640"/>
              </a:xfrm>
              <a:prstGeom prst="roundRect">
                <a:avLst>
                  <a:gd name="adj" fmla="val 28167"/>
                </a:avLst>
              </a:prstGeom>
              <a:gradFill rotWithShape="0">
                <a:gsLst>
                  <a:gs pos="0">
                    <a:srgbClr val="37587d"/>
                  </a:gs>
                  <a:gs pos="50000">
                    <a:srgbClr val="7d9fc5"/>
                  </a:gs>
                  <a:gs pos="100000">
                    <a:srgbClr val="37587d"/>
                  </a:gs>
                </a:gsLst>
                <a:lin ang="0"/>
              </a:gradFill>
              <a:ln w="1908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AutoShape 72"/>
              <p:cNvSpPr/>
              <p:nvPr/>
            </p:nvSpPr>
            <p:spPr>
              <a:xfrm>
                <a:off x="1876680" y="3938040"/>
                <a:ext cx="5322960" cy="11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beeff">
                      <a:alpha val="4117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12" name="Text Box 73"/>
            <p:cNvSpPr/>
            <p:nvPr/>
          </p:nvSpPr>
          <p:spPr>
            <a:xfrm>
              <a:off x="1838160" y="3995640"/>
              <a:ext cx="54007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Berlin Sans FB Demi"/>
                  <a:ea typeface="HY강B"/>
                </a:rPr>
                <a:t>Debugger Value &amp; Address Table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1763640" y="4583160"/>
            <a:ext cx="5547600" cy="431640"/>
            <a:chOff x="1763640" y="4583160"/>
            <a:chExt cx="5547600" cy="431640"/>
          </a:xfrm>
        </p:grpSpPr>
        <p:grpSp>
          <p:nvGrpSpPr>
            <p:cNvPr id="114" name="Group 75"/>
            <p:cNvGrpSpPr/>
            <p:nvPr/>
          </p:nvGrpSpPr>
          <p:grpSpPr>
            <a:xfrm>
              <a:off x="1763640" y="4583160"/>
              <a:ext cx="5547600" cy="431640"/>
              <a:chOff x="1763640" y="4583160"/>
              <a:chExt cx="5547600" cy="431640"/>
            </a:xfrm>
          </p:grpSpPr>
          <p:sp>
            <p:nvSpPr>
              <p:cNvPr id="115" name="AutoShape 76"/>
              <p:cNvSpPr/>
              <p:nvPr/>
            </p:nvSpPr>
            <p:spPr>
              <a:xfrm>
                <a:off x="1763640" y="4583160"/>
                <a:ext cx="5547600" cy="431640"/>
              </a:xfrm>
              <a:prstGeom prst="roundRect">
                <a:avLst>
                  <a:gd name="adj" fmla="val 28167"/>
                </a:avLst>
              </a:prstGeom>
              <a:gradFill rotWithShape="0">
                <a:gsLst>
                  <a:gs pos="0">
                    <a:srgbClr val="37587d"/>
                  </a:gs>
                  <a:gs pos="50000">
                    <a:srgbClr val="7d9fc5"/>
                  </a:gs>
                  <a:gs pos="100000">
                    <a:srgbClr val="37587d"/>
                  </a:gs>
                </a:gsLst>
                <a:lin ang="0"/>
              </a:gradFill>
              <a:ln w="1908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6" name="AutoShape 77"/>
              <p:cNvSpPr/>
              <p:nvPr/>
            </p:nvSpPr>
            <p:spPr>
              <a:xfrm>
                <a:off x="1873440" y="4587480"/>
                <a:ext cx="5322960" cy="11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beeff">
                      <a:alpha val="4117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17" name="Text Box 78"/>
            <p:cNvSpPr/>
            <p:nvPr/>
          </p:nvSpPr>
          <p:spPr>
            <a:xfrm>
              <a:off x="1835280" y="4632120"/>
              <a:ext cx="54007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Berlin Sans FB Demi"/>
                  <a:ea typeface="HY강B"/>
                </a:rPr>
                <a:t>Based technology &amp; Algorithm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18" name="Group 42"/>
          <p:cNvGrpSpPr/>
          <p:nvPr/>
        </p:nvGrpSpPr>
        <p:grpSpPr>
          <a:xfrm>
            <a:off x="1766880" y="5230800"/>
            <a:ext cx="5547600" cy="431640"/>
            <a:chOff x="1766880" y="5230800"/>
            <a:chExt cx="5547600" cy="431640"/>
          </a:xfrm>
        </p:grpSpPr>
        <p:grpSp>
          <p:nvGrpSpPr>
            <p:cNvPr id="119" name="Group 80"/>
            <p:cNvGrpSpPr/>
            <p:nvPr/>
          </p:nvGrpSpPr>
          <p:grpSpPr>
            <a:xfrm>
              <a:off x="1766880" y="5230800"/>
              <a:ext cx="5547600" cy="431640"/>
              <a:chOff x="1766880" y="5230800"/>
              <a:chExt cx="5547600" cy="431640"/>
            </a:xfrm>
          </p:grpSpPr>
          <p:sp>
            <p:nvSpPr>
              <p:cNvPr id="120" name="AutoShape 81"/>
              <p:cNvSpPr/>
              <p:nvPr/>
            </p:nvSpPr>
            <p:spPr>
              <a:xfrm>
                <a:off x="1766880" y="5230800"/>
                <a:ext cx="5547600" cy="431640"/>
              </a:xfrm>
              <a:prstGeom prst="roundRect">
                <a:avLst>
                  <a:gd name="adj" fmla="val 28167"/>
                </a:avLst>
              </a:prstGeom>
              <a:gradFill rotWithShape="0">
                <a:gsLst>
                  <a:gs pos="0">
                    <a:srgbClr val="37587d"/>
                  </a:gs>
                  <a:gs pos="50000">
                    <a:srgbClr val="7d9fc5"/>
                  </a:gs>
                  <a:gs pos="100000">
                    <a:srgbClr val="37587d"/>
                  </a:gs>
                </a:gsLst>
                <a:lin ang="0"/>
              </a:gradFill>
              <a:ln w="1908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" name="AutoShape 82"/>
              <p:cNvSpPr/>
              <p:nvPr/>
            </p:nvSpPr>
            <p:spPr>
              <a:xfrm>
                <a:off x="1876680" y="5235120"/>
                <a:ext cx="5322960" cy="11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beeff">
                      <a:alpha val="4117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22" name="Text Box 83"/>
            <p:cNvSpPr/>
            <p:nvPr/>
          </p:nvSpPr>
          <p:spPr>
            <a:xfrm>
              <a:off x="1838160" y="5254560"/>
              <a:ext cx="54007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Berlin Sans FB Demi"/>
                  <a:ea typeface="HY강B"/>
                </a:rPr>
                <a:t>Finite State Automata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3" name="Text Box 88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 Demi"/>
              </a:rPr>
              <a:t>Contents</a:t>
            </a:r>
            <a:r>
              <a:rPr b="0" lang="en-US" sz="3600" spc="-1" strike="noStrike">
                <a:solidFill>
                  <a:srgbClr val="def1f2"/>
                </a:solidFill>
                <a:latin typeface="Berlin Sans FB Dem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Line 89"/>
          <p:cNvSpPr/>
          <p:nvPr/>
        </p:nvSpPr>
        <p:spPr>
          <a:xfrm>
            <a:off x="1403280" y="901800"/>
            <a:ext cx="6337440" cy="0"/>
          </a:xfrm>
          <a:prstGeom prst="line">
            <a:avLst/>
          </a:prstGeom>
          <a:ln w="57240">
            <a:solidFill>
              <a:srgbClr val="00669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5" name="Group 41"/>
          <p:cNvGrpSpPr/>
          <p:nvPr/>
        </p:nvGrpSpPr>
        <p:grpSpPr>
          <a:xfrm>
            <a:off x="1763640" y="5878440"/>
            <a:ext cx="5547600" cy="431640"/>
            <a:chOff x="1763640" y="5878440"/>
            <a:chExt cx="5547600" cy="431640"/>
          </a:xfrm>
        </p:grpSpPr>
        <p:grpSp>
          <p:nvGrpSpPr>
            <p:cNvPr id="126" name="Group 80"/>
            <p:cNvGrpSpPr/>
            <p:nvPr/>
          </p:nvGrpSpPr>
          <p:grpSpPr>
            <a:xfrm>
              <a:off x="1763640" y="5878440"/>
              <a:ext cx="5547600" cy="431640"/>
              <a:chOff x="1763640" y="5878440"/>
              <a:chExt cx="5547600" cy="431640"/>
            </a:xfrm>
          </p:grpSpPr>
          <p:sp>
            <p:nvSpPr>
              <p:cNvPr id="127" name="AutoShape 81"/>
              <p:cNvSpPr/>
              <p:nvPr/>
            </p:nvSpPr>
            <p:spPr>
              <a:xfrm>
                <a:off x="1763640" y="5878440"/>
                <a:ext cx="5547600" cy="431640"/>
              </a:xfrm>
              <a:prstGeom prst="roundRect">
                <a:avLst>
                  <a:gd name="adj" fmla="val 28167"/>
                </a:avLst>
              </a:prstGeom>
              <a:gradFill rotWithShape="0">
                <a:gsLst>
                  <a:gs pos="0">
                    <a:srgbClr val="37587d"/>
                  </a:gs>
                  <a:gs pos="50000">
                    <a:srgbClr val="7d9fc5"/>
                  </a:gs>
                  <a:gs pos="100000">
                    <a:srgbClr val="37587d"/>
                  </a:gs>
                </a:gsLst>
                <a:lin ang="0"/>
              </a:gradFill>
              <a:ln w="1908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AutoShape 82"/>
              <p:cNvSpPr/>
              <p:nvPr/>
            </p:nvSpPr>
            <p:spPr>
              <a:xfrm>
                <a:off x="1873440" y="5882760"/>
                <a:ext cx="5322960" cy="11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beeff">
                      <a:alpha val="4117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29" name="Text Box 83"/>
            <p:cNvSpPr/>
            <p:nvPr/>
          </p:nvSpPr>
          <p:spPr>
            <a:xfrm>
              <a:off x="1873080" y="5902200"/>
              <a:ext cx="54007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Berlin Sans FB Demi"/>
                  <a:ea typeface="HY강B"/>
                </a:rPr>
                <a:t>Demo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51"/>
          <p:cNvGrpSpPr/>
          <p:nvPr/>
        </p:nvGrpSpPr>
        <p:grpSpPr>
          <a:xfrm>
            <a:off x="538200" y="2454120"/>
            <a:ext cx="8066160" cy="3913200"/>
            <a:chOff x="538200" y="2454120"/>
            <a:chExt cx="8066160" cy="3913200"/>
          </a:xfrm>
        </p:grpSpPr>
        <p:grpSp>
          <p:nvGrpSpPr>
            <p:cNvPr id="131" name="Group 49"/>
            <p:cNvGrpSpPr/>
            <p:nvPr/>
          </p:nvGrpSpPr>
          <p:grpSpPr>
            <a:xfrm>
              <a:off x="1454040" y="2454120"/>
              <a:ext cx="6702480" cy="3913200"/>
              <a:chOff x="1454040" y="2454120"/>
              <a:chExt cx="6702480" cy="3913200"/>
            </a:xfrm>
          </p:grpSpPr>
          <p:sp>
            <p:nvSpPr>
              <p:cNvPr id="132" name="AutoShape 17"/>
              <p:cNvSpPr/>
              <p:nvPr/>
            </p:nvSpPr>
            <p:spPr>
              <a:xfrm>
                <a:off x="1454040" y="6114960"/>
                <a:ext cx="6702480" cy="252360"/>
              </a:xfrm>
              <a:prstGeom prst="downArrow">
                <a:avLst>
                  <a:gd name="adj1" fmla="val 79583"/>
                  <a:gd name="adj2" fmla="val 86792"/>
                </a:avLst>
              </a:prstGeom>
              <a:solidFill>
                <a:srgbClr val="00ccff">
                  <a:alpha val="47000"/>
                </a:srgbClr>
              </a:solidFill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3" name="Rectangle 16"/>
              <p:cNvSpPr/>
              <p:nvPr/>
            </p:nvSpPr>
            <p:spPr>
              <a:xfrm>
                <a:off x="2351160" y="2454120"/>
                <a:ext cx="4576680" cy="69840"/>
              </a:xfrm>
              <a:prstGeom prst="rect">
                <a:avLst/>
              </a:prstGeom>
              <a:solidFill>
                <a:srgbClr val="00ccff">
                  <a:alpha val="47000"/>
                </a:srgbClr>
              </a:solidFill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34" name="AutoShape 71"/>
            <p:cNvSpPr/>
            <p:nvPr/>
          </p:nvSpPr>
          <p:spPr>
            <a:xfrm flipH="1">
              <a:off x="538200" y="2543040"/>
              <a:ext cx="8066160" cy="3543480"/>
            </a:xfrm>
            <a:prstGeom prst="roundRect">
              <a:avLst>
                <a:gd name="adj" fmla="val 9847"/>
              </a:avLst>
            </a:prstGeom>
            <a:gradFill rotWithShape="0">
              <a:gsLst>
                <a:gs pos="0">
                  <a:srgbClr val="e8f5fc"/>
                </a:gs>
                <a:gs pos="100000">
                  <a:srgbClr val="f3fafd"/>
                </a:gs>
              </a:gsLst>
              <a:lin ang="5400000"/>
            </a:gradFill>
            <a:ln w="3240">
              <a:solidFill>
                <a:srgbClr val="129b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77840" indent="266760">
                <a:lnSpc>
                  <a:spcPct val="100000"/>
                </a:lnSpc>
                <a:buClr>
                  <a:srgbClr val="000000"/>
                </a:buClr>
                <a:buSzPct val="70000"/>
                <a:buFont typeface="휴먼엑스포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5" name="AutoShape 71"/>
          <p:cNvSpPr/>
          <p:nvPr/>
        </p:nvSpPr>
        <p:spPr>
          <a:xfrm flipH="1">
            <a:off x="538200" y="1700280"/>
            <a:ext cx="8066160" cy="741240"/>
          </a:xfrm>
          <a:prstGeom prst="roundRect">
            <a:avLst>
              <a:gd name="adj" fmla="val 9847"/>
            </a:avLst>
          </a:prstGeom>
          <a:gradFill rotWithShape="0">
            <a:gsLst>
              <a:gs pos="0">
                <a:srgbClr val="e8f5fc"/>
              </a:gs>
              <a:gs pos="100000">
                <a:srgbClr val="f3fafd"/>
              </a:gs>
            </a:gsLst>
            <a:lin ang="5400000"/>
          </a:gradFill>
          <a:ln w="3240">
            <a:solidFill>
              <a:srgbClr val="129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177840" indent="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lin Sans FB Demi"/>
              </a:rPr>
              <a:t>Gcc Complier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를 사용하는 </a:t>
            </a:r>
            <a:r>
              <a:rPr b="1" lang="en-US" sz="1800" spc="-1" strike="noStrike">
                <a:solidFill>
                  <a:srgbClr val="000000"/>
                </a:solidFill>
                <a:latin typeface="Berlin Sans FB Demi"/>
              </a:rPr>
              <a:t>Programming Development To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6" name="Group 50"/>
          <p:cNvGrpSpPr/>
          <p:nvPr/>
        </p:nvGrpSpPr>
        <p:grpSpPr>
          <a:xfrm>
            <a:off x="5724360" y="351000"/>
            <a:ext cx="3456000" cy="703440"/>
            <a:chOff x="5724360" y="351000"/>
            <a:chExt cx="3456000" cy="703440"/>
          </a:xfrm>
        </p:grpSpPr>
        <p:sp>
          <p:nvSpPr>
            <p:cNvPr id="137" name="Line 74"/>
            <p:cNvSpPr/>
            <p:nvPr/>
          </p:nvSpPr>
          <p:spPr>
            <a:xfrm>
              <a:off x="5724360" y="1052640"/>
              <a:ext cx="345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" name="Text Box 75"/>
            <p:cNvSpPr/>
            <p:nvPr/>
          </p:nvSpPr>
          <p:spPr>
            <a:xfrm>
              <a:off x="6084720" y="351000"/>
              <a:ext cx="302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Berlin Sans FB Demi"/>
                  <a:ea typeface="HY강B"/>
                </a:rPr>
                <a:t>Outline (1)</a:t>
              </a:r>
              <a:r>
                <a:rPr b="1" lang="en-US" sz="4000" spc="-1" strike="noStrike">
                  <a:solidFill>
                    <a:srgbClr val="def1f2"/>
                  </a:solidFill>
                  <a:latin typeface="Berlin Sans FB Demi"/>
                  <a:ea typeface="HY강B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39" name="Group 48"/>
          <p:cNvGrpSpPr/>
          <p:nvPr/>
        </p:nvGrpSpPr>
        <p:grpSpPr>
          <a:xfrm>
            <a:off x="523800" y="1138320"/>
            <a:ext cx="3760920" cy="928440"/>
            <a:chOff x="523800" y="1138320"/>
            <a:chExt cx="3760920" cy="928440"/>
          </a:xfrm>
        </p:grpSpPr>
        <p:sp>
          <p:nvSpPr>
            <p:cNvPr id="140" name="AutoShape 3"/>
            <p:cNvSpPr/>
            <p:nvPr/>
          </p:nvSpPr>
          <p:spPr>
            <a:xfrm>
              <a:off x="684360" y="1413000"/>
              <a:ext cx="3600360" cy="479160"/>
            </a:xfrm>
            <a:prstGeom prst="roundRect">
              <a:avLst>
                <a:gd name="adj" fmla="val 16667"/>
              </a:avLst>
            </a:prstGeom>
            <a:solidFill>
              <a:srgbClr val="e7ffe7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What is G_Studio??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1" name="Picture 7" descr="폴더"/>
            <p:cNvPicPr/>
            <p:nvPr/>
          </p:nvPicPr>
          <p:blipFill>
            <a:blip r:embed="rId1"/>
            <a:stretch/>
          </p:blipFill>
          <p:spPr>
            <a:xfrm>
              <a:off x="523800" y="1138320"/>
              <a:ext cx="1285920" cy="92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pic>
        <p:nvPicPr>
          <p:cNvPr id="142" name="Picture 18" descr=""/>
          <p:cNvPicPr/>
          <p:nvPr/>
        </p:nvPicPr>
        <p:blipFill>
          <a:blip r:embed="rId2"/>
          <a:stretch/>
        </p:blipFill>
        <p:spPr>
          <a:xfrm>
            <a:off x="689040" y="2751120"/>
            <a:ext cx="1579320" cy="1341360"/>
          </a:xfrm>
          <a:prstGeom prst="rect">
            <a:avLst/>
          </a:prstGeom>
          <a:ln w="3816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43" name="Group 47"/>
          <p:cNvGrpSpPr/>
          <p:nvPr/>
        </p:nvGrpSpPr>
        <p:grpSpPr>
          <a:xfrm>
            <a:off x="2463840" y="2733840"/>
            <a:ext cx="5853240" cy="3173400"/>
            <a:chOff x="2463840" y="2733840"/>
            <a:chExt cx="5853240" cy="3173400"/>
          </a:xfrm>
        </p:grpSpPr>
        <p:sp>
          <p:nvSpPr>
            <p:cNvPr id="144" name="Rectangle 7"/>
            <p:cNvSpPr/>
            <p:nvPr/>
          </p:nvSpPr>
          <p:spPr>
            <a:xfrm>
              <a:off x="2463840" y="2733840"/>
              <a:ext cx="5832360" cy="447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c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3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Project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개념의 통합적인 관리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2476440" y="3271680"/>
              <a:ext cx="5832360" cy="447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c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4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실시간 컴파일 및 </a:t>
              </a: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Error Check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및 수정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2484360" y="3813120"/>
              <a:ext cx="5832720" cy="447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c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5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Programmer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를 고려한  </a:t>
              </a: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User Interfac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2479680" y="4361040"/>
              <a:ext cx="5832360" cy="447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c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6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Gcc Compiler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1" lang="ko-KR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Option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설정 기능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Rectangle 7"/>
            <p:cNvSpPr/>
            <p:nvPr/>
          </p:nvSpPr>
          <p:spPr>
            <a:xfrm>
              <a:off x="2479680" y="4902120"/>
              <a:ext cx="5832360" cy="447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c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7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논리적 오류 </a:t>
              </a: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Check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를 위한 </a:t>
              </a: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Debugger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Rectangle 7"/>
            <p:cNvSpPr/>
            <p:nvPr/>
          </p:nvSpPr>
          <p:spPr>
            <a:xfrm>
              <a:off x="2479680" y="5459400"/>
              <a:ext cx="5832360" cy="447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c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8"/>
                </a:buBlip>
                <a:tabLst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효율적인 </a:t>
              </a: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Programming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을 위한 </a:t>
              </a: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Editing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Rectangle 40"/>
            <p:cNvSpPr/>
            <p:nvPr/>
          </p:nvSpPr>
          <p:spPr>
            <a:xfrm>
              <a:off x="2571840" y="3189240"/>
              <a:ext cx="5672160" cy="168480"/>
            </a:xfrm>
            <a:prstGeom prst="rect">
              <a:avLst/>
            </a:prstGeom>
            <a:solidFill>
              <a:srgbClr val="99cc00">
                <a:alpha val="47000"/>
              </a:srgbClr>
            </a:solidFill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Rectangle 41"/>
            <p:cNvSpPr/>
            <p:nvPr/>
          </p:nvSpPr>
          <p:spPr>
            <a:xfrm>
              <a:off x="2550960" y="3719520"/>
              <a:ext cx="5672160" cy="168120"/>
            </a:xfrm>
            <a:prstGeom prst="rect">
              <a:avLst/>
            </a:prstGeom>
            <a:solidFill>
              <a:srgbClr val="99cc00">
                <a:alpha val="47000"/>
              </a:srgbClr>
            </a:solidFill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Rectangle 42"/>
            <p:cNvSpPr/>
            <p:nvPr/>
          </p:nvSpPr>
          <p:spPr>
            <a:xfrm>
              <a:off x="2557440" y="4282920"/>
              <a:ext cx="5672160" cy="168480"/>
            </a:xfrm>
            <a:prstGeom prst="rect">
              <a:avLst/>
            </a:prstGeom>
            <a:solidFill>
              <a:srgbClr val="99cc00">
                <a:alpha val="47000"/>
              </a:srgbClr>
            </a:solidFill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Rectangle 43"/>
            <p:cNvSpPr/>
            <p:nvPr/>
          </p:nvSpPr>
          <p:spPr>
            <a:xfrm>
              <a:off x="2557440" y="4821120"/>
              <a:ext cx="5672160" cy="168480"/>
            </a:xfrm>
            <a:prstGeom prst="rect">
              <a:avLst/>
            </a:prstGeom>
            <a:solidFill>
              <a:srgbClr val="99cc00">
                <a:alpha val="47000"/>
              </a:srgbClr>
            </a:solidFill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Rectangle 44"/>
            <p:cNvSpPr/>
            <p:nvPr/>
          </p:nvSpPr>
          <p:spPr>
            <a:xfrm>
              <a:off x="2565360" y="5362560"/>
              <a:ext cx="5672160" cy="168120"/>
            </a:xfrm>
            <a:prstGeom prst="rect">
              <a:avLst/>
            </a:prstGeom>
            <a:solidFill>
              <a:srgbClr val="99cc00">
                <a:alpha val="47000"/>
              </a:srgbClr>
            </a:solidFill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71"/>
          <p:cNvSpPr/>
          <p:nvPr/>
        </p:nvSpPr>
        <p:spPr>
          <a:xfrm flipH="1">
            <a:off x="323280" y="1725480"/>
            <a:ext cx="8343720" cy="4640400"/>
          </a:xfrm>
          <a:prstGeom prst="roundRect">
            <a:avLst>
              <a:gd name="adj" fmla="val 2940"/>
            </a:avLst>
          </a:prstGeom>
          <a:gradFill rotWithShape="0">
            <a:gsLst>
              <a:gs pos="0">
                <a:srgbClr val="e8f5fc"/>
              </a:gs>
              <a:gs pos="100000">
                <a:srgbClr val="f3fafd"/>
              </a:gs>
            </a:gsLst>
            <a:lin ang="5400000"/>
          </a:gradFill>
          <a:ln w="3240">
            <a:solidFill>
              <a:srgbClr val="129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177840" indent="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6" name="Group 20"/>
          <p:cNvGrpSpPr/>
          <p:nvPr/>
        </p:nvGrpSpPr>
        <p:grpSpPr>
          <a:xfrm>
            <a:off x="395280" y="2247840"/>
            <a:ext cx="8137080" cy="3816360"/>
            <a:chOff x="395280" y="2247840"/>
            <a:chExt cx="8137080" cy="3816360"/>
          </a:xfrm>
        </p:grpSpPr>
        <p:sp>
          <p:nvSpPr>
            <p:cNvPr id="157" name="AutoShape 19"/>
            <p:cNvSpPr/>
            <p:nvPr/>
          </p:nvSpPr>
          <p:spPr>
            <a:xfrm>
              <a:off x="6012000" y="3111480"/>
              <a:ext cx="2350800" cy="295272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Berlin Sans FB Demi"/>
                </a:rPr>
                <a:t>Trolltect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Berlin Sans FB Demi"/>
                </a:rPr>
                <a:t>QT Designer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>
              <a:off x="3419640" y="3111480"/>
              <a:ext cx="2211120" cy="295272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Berlin Sans FB Demi"/>
                </a:rPr>
                <a:t>Trolltect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Berlin Sans FB Demi"/>
                </a:rPr>
                <a:t>QT 3.1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AutoShape 17"/>
            <p:cNvSpPr/>
            <p:nvPr/>
          </p:nvSpPr>
          <p:spPr>
            <a:xfrm>
              <a:off x="509760" y="3111480"/>
              <a:ext cx="2427120" cy="295272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Berlin Sans FB Demi"/>
                </a:rPr>
                <a:t>Linux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Berlin Sans FB Demi"/>
                </a:rPr>
                <a:t>Ubuntu V 7.1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AutoShape 10"/>
            <p:cNvSpPr/>
            <p:nvPr/>
          </p:nvSpPr>
          <p:spPr>
            <a:xfrm rot="5400000">
              <a:off x="1296000" y="1346760"/>
              <a:ext cx="934920" cy="2736720"/>
            </a:xfrm>
            <a:prstGeom prst="can">
              <a:avLst>
                <a:gd name="adj" fmla="val 8930"/>
              </a:avLst>
            </a:prstGeom>
            <a:gradFill rotWithShape="0">
              <a:gsLst>
                <a:gs pos="0">
                  <a:srgbClr val="5dbaf9"/>
                </a:gs>
                <a:gs pos="100000">
                  <a:srgbClr val="6384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erlin Sans FB Demi"/>
                </a:rPr>
                <a:t>Operating System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AutoShape 12"/>
            <p:cNvSpPr/>
            <p:nvPr/>
          </p:nvSpPr>
          <p:spPr>
            <a:xfrm flipH="1" rot="5400000">
              <a:off x="3620160" y="2046240"/>
              <a:ext cx="101520" cy="1368360"/>
            </a:xfrm>
            <a:prstGeom prst="can">
              <a:avLst>
                <a:gd name="adj" fmla="val 4828"/>
              </a:avLst>
            </a:prstGeom>
            <a:gradFill rotWithShape="0">
              <a:gsLst>
                <a:gs pos="0">
                  <a:srgbClr val="63849b"/>
                </a:gs>
                <a:gs pos="100000">
                  <a:srgbClr val="2e3d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5400000">
              <a:off x="4068360" y="1526760"/>
              <a:ext cx="934920" cy="2376360"/>
            </a:xfrm>
            <a:prstGeom prst="can">
              <a:avLst>
                <a:gd name="adj" fmla="val 9615"/>
              </a:avLst>
            </a:prstGeom>
            <a:gradFill rotWithShape="0">
              <a:gsLst>
                <a:gs pos="0">
                  <a:srgbClr val="5dbaf9"/>
                </a:gs>
                <a:gs pos="100000">
                  <a:srgbClr val="6384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erlin Sans FB Demi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AutoShape 14"/>
            <p:cNvSpPr/>
            <p:nvPr/>
          </p:nvSpPr>
          <p:spPr>
            <a:xfrm flipH="1" rot="5400000">
              <a:off x="6212520" y="2046240"/>
              <a:ext cx="101520" cy="1368360"/>
            </a:xfrm>
            <a:prstGeom prst="can">
              <a:avLst>
                <a:gd name="adj" fmla="val 4828"/>
              </a:avLst>
            </a:prstGeom>
            <a:gradFill rotWithShape="0">
              <a:gsLst>
                <a:gs pos="0">
                  <a:srgbClr val="63849b"/>
                </a:gs>
                <a:gs pos="100000">
                  <a:srgbClr val="2e3d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AutoShape 15"/>
            <p:cNvSpPr/>
            <p:nvPr/>
          </p:nvSpPr>
          <p:spPr>
            <a:xfrm rot="5400000">
              <a:off x="6768720" y="1418760"/>
              <a:ext cx="934920" cy="2592360"/>
            </a:xfrm>
            <a:prstGeom prst="can">
              <a:avLst>
                <a:gd name="adj" fmla="val 7925"/>
              </a:avLst>
            </a:prstGeom>
            <a:gradFill rotWithShape="0">
              <a:gsLst>
                <a:gs pos="0">
                  <a:srgbClr val="5dbaf9"/>
                </a:gs>
                <a:gs pos="100000">
                  <a:srgbClr val="6384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erlin Sans FB Demi"/>
                </a:rPr>
                <a:t>Development tool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65" name="Group 16"/>
          <p:cNvGrpSpPr/>
          <p:nvPr/>
        </p:nvGrpSpPr>
        <p:grpSpPr>
          <a:xfrm>
            <a:off x="314280" y="1209600"/>
            <a:ext cx="4787640" cy="928800"/>
            <a:chOff x="314280" y="1209600"/>
            <a:chExt cx="4787640" cy="928800"/>
          </a:xfrm>
        </p:grpSpPr>
        <p:sp>
          <p:nvSpPr>
            <p:cNvPr id="166" name="AutoShape 3"/>
            <p:cNvSpPr/>
            <p:nvPr/>
          </p:nvSpPr>
          <p:spPr>
            <a:xfrm>
              <a:off x="453960" y="1479600"/>
              <a:ext cx="4647960" cy="479160"/>
            </a:xfrm>
            <a:prstGeom prst="roundRect">
              <a:avLst>
                <a:gd name="adj" fmla="val 16667"/>
              </a:avLst>
            </a:prstGeom>
            <a:solidFill>
              <a:srgbClr val="e7ffe7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 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Development environment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7" name="Picture 7" descr="폴더"/>
            <p:cNvPicPr/>
            <p:nvPr/>
          </p:nvPicPr>
          <p:blipFill>
            <a:blip r:embed="rId1"/>
            <a:stretch/>
          </p:blipFill>
          <p:spPr>
            <a:xfrm>
              <a:off x="314280" y="1209600"/>
              <a:ext cx="1285560" cy="928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168" name="Group 21"/>
          <p:cNvGrpSpPr/>
          <p:nvPr/>
        </p:nvGrpSpPr>
        <p:grpSpPr>
          <a:xfrm>
            <a:off x="5724360" y="351000"/>
            <a:ext cx="3456000" cy="703440"/>
            <a:chOff x="5724360" y="351000"/>
            <a:chExt cx="3456000" cy="703440"/>
          </a:xfrm>
        </p:grpSpPr>
        <p:sp>
          <p:nvSpPr>
            <p:cNvPr id="169" name="Line 7"/>
            <p:cNvSpPr/>
            <p:nvPr/>
          </p:nvSpPr>
          <p:spPr>
            <a:xfrm>
              <a:off x="5724360" y="1052640"/>
              <a:ext cx="345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Text Box 75"/>
            <p:cNvSpPr/>
            <p:nvPr/>
          </p:nvSpPr>
          <p:spPr>
            <a:xfrm>
              <a:off x="6084720" y="351000"/>
              <a:ext cx="302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Berlin Sans FB Demi"/>
                  <a:ea typeface="HY강B"/>
                </a:rPr>
                <a:t>Outline (2)</a:t>
              </a:r>
              <a:r>
                <a:rPr b="1" lang="en-US" sz="4000" spc="-1" strike="noStrike">
                  <a:solidFill>
                    <a:srgbClr val="def1f2"/>
                  </a:solidFill>
                  <a:latin typeface="Berlin Sans FB Demi"/>
                  <a:ea typeface="HY강B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1"/>
          <p:cNvSpPr/>
          <p:nvPr/>
        </p:nvSpPr>
        <p:spPr>
          <a:xfrm flipH="1">
            <a:off x="538200" y="3683160"/>
            <a:ext cx="8066160" cy="2798640"/>
          </a:xfrm>
          <a:prstGeom prst="roundRect">
            <a:avLst>
              <a:gd name="adj" fmla="val 5273"/>
            </a:avLst>
          </a:prstGeom>
          <a:gradFill rotWithShape="0">
            <a:gsLst>
              <a:gs pos="0">
                <a:srgbClr val="e8f5fc"/>
              </a:gs>
              <a:gs pos="100000">
                <a:srgbClr val="f3fafd"/>
              </a:gs>
            </a:gsLst>
            <a:lin ang="5400000"/>
          </a:gradFill>
          <a:ln w="3240">
            <a:solidFill>
              <a:srgbClr val="129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266760">
              <a:lnSpc>
                <a:spcPct val="100000"/>
              </a:lnSpc>
              <a:buClr>
                <a:srgbClr val="000000"/>
              </a:buClr>
              <a:buSzPct val="70000"/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AutoShape 71"/>
          <p:cNvSpPr/>
          <p:nvPr/>
        </p:nvSpPr>
        <p:spPr>
          <a:xfrm flipH="1">
            <a:off x="538200" y="1700280"/>
            <a:ext cx="8066160" cy="1406520"/>
          </a:xfrm>
          <a:prstGeom prst="roundRect">
            <a:avLst>
              <a:gd name="adj" fmla="val 6208"/>
            </a:avLst>
          </a:prstGeom>
          <a:gradFill rotWithShape="0">
            <a:gsLst>
              <a:gs pos="0">
                <a:srgbClr val="e8f5fc"/>
              </a:gs>
              <a:gs pos="100000">
                <a:srgbClr val="f3fafd"/>
              </a:gs>
            </a:gsLst>
            <a:lin ang="5400000"/>
          </a:gradFill>
          <a:ln w="3240">
            <a:solidFill>
              <a:srgbClr val="129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177840" indent="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3" name="Group 27"/>
          <p:cNvGrpSpPr/>
          <p:nvPr/>
        </p:nvGrpSpPr>
        <p:grpSpPr>
          <a:xfrm>
            <a:off x="1819440" y="312840"/>
            <a:ext cx="7416720" cy="1312920"/>
            <a:chOff x="1819440" y="312840"/>
            <a:chExt cx="7416720" cy="1312920"/>
          </a:xfrm>
        </p:grpSpPr>
        <p:sp>
          <p:nvSpPr>
            <p:cNvPr id="174" name="Line 74"/>
            <p:cNvSpPr/>
            <p:nvPr/>
          </p:nvSpPr>
          <p:spPr>
            <a:xfrm>
              <a:off x="2050920" y="1052640"/>
              <a:ext cx="71294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Text Box 75"/>
            <p:cNvSpPr/>
            <p:nvPr/>
          </p:nvSpPr>
          <p:spPr>
            <a:xfrm>
              <a:off x="1819440" y="312840"/>
              <a:ext cx="7416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Berlin Sans FB Demi"/>
                  <a:ea typeface="HY강B"/>
                </a:rPr>
                <a:t>Development Motive &amp; Object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76" name="Group 29"/>
          <p:cNvGrpSpPr/>
          <p:nvPr/>
        </p:nvGrpSpPr>
        <p:grpSpPr>
          <a:xfrm>
            <a:off x="523800" y="1138320"/>
            <a:ext cx="3903840" cy="928440"/>
            <a:chOff x="523800" y="1138320"/>
            <a:chExt cx="3903840" cy="928440"/>
          </a:xfrm>
        </p:grpSpPr>
        <p:sp>
          <p:nvSpPr>
            <p:cNvPr id="177" name="AutoShape 3"/>
            <p:cNvSpPr/>
            <p:nvPr/>
          </p:nvSpPr>
          <p:spPr>
            <a:xfrm>
              <a:off x="684360" y="1413000"/>
              <a:ext cx="3743280" cy="479160"/>
            </a:xfrm>
            <a:prstGeom prst="roundRect">
              <a:avLst>
                <a:gd name="adj" fmla="val 16667"/>
              </a:avLst>
            </a:prstGeom>
            <a:solidFill>
              <a:srgbClr val="e7ffe7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why make G_Studio!!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78" name="Picture 7" descr="폴더"/>
            <p:cNvPicPr/>
            <p:nvPr/>
          </p:nvPicPr>
          <p:blipFill>
            <a:blip r:embed="rId1"/>
            <a:stretch/>
          </p:blipFill>
          <p:spPr>
            <a:xfrm>
              <a:off x="523800" y="1138320"/>
              <a:ext cx="1285920" cy="92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79" name="Rectangle 7"/>
          <p:cNvSpPr/>
          <p:nvPr/>
        </p:nvSpPr>
        <p:spPr>
          <a:xfrm>
            <a:off x="755640" y="3973680"/>
            <a:ext cx="7561440" cy="44748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태백B"/>
                <a:ea typeface="HY태백B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Development Tool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기본적인 기능들의 개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AutoShape 17"/>
          <p:cNvSpPr/>
          <p:nvPr/>
        </p:nvSpPr>
        <p:spPr>
          <a:xfrm>
            <a:off x="1187280" y="4432320"/>
            <a:ext cx="7145640" cy="7286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rlin Sans FB"/>
                <a:ea typeface="HY태백B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erlin Sans FB"/>
                <a:ea typeface="HY태백B"/>
              </a:rPr>
              <a:t>Project </a:t>
            </a:r>
            <a:r>
              <a:rPr b="1" lang="ko-KR" sz="1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개념의 통합적인 관리             </a:t>
            </a:r>
            <a:r>
              <a:rPr b="1" lang="en-US" sz="1400" spc="-1" strike="noStrike">
                <a:solidFill>
                  <a:srgbClr val="000000"/>
                </a:solidFill>
                <a:latin typeface="Berlin Sans FB"/>
                <a:ea typeface="HY태백B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시간 컴파일 및 </a:t>
            </a:r>
            <a:r>
              <a:rPr b="1" lang="en-US" sz="1400" spc="-1" strike="noStrike">
                <a:solidFill>
                  <a:srgbClr val="000000"/>
                </a:solidFill>
                <a:latin typeface="Berlin Sans FB"/>
                <a:ea typeface="HY태백B"/>
              </a:rPr>
              <a:t>Error Check </a:t>
            </a:r>
            <a:r>
              <a:rPr b="1" lang="ko-KR" sz="1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및 수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Berlin Sans FB"/>
                <a:ea typeface="HY태백B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논리적 오류 </a:t>
            </a:r>
            <a:r>
              <a:rPr b="1" lang="en-US" sz="1400" spc="-1" strike="noStrike">
                <a:solidFill>
                  <a:srgbClr val="000000"/>
                </a:solidFill>
                <a:latin typeface="Berlin Sans FB"/>
                <a:ea typeface="HY태백B"/>
              </a:rPr>
              <a:t>Check </a:t>
            </a:r>
            <a:r>
              <a:rPr b="1" lang="ko-KR" sz="1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를 위한 </a:t>
            </a:r>
            <a:r>
              <a:rPr b="1" lang="en-US" sz="1400" spc="-1" strike="noStrike">
                <a:solidFill>
                  <a:srgbClr val="000000"/>
                </a:solidFill>
                <a:latin typeface="Berlin Sans FB"/>
                <a:ea typeface="HY태백B"/>
              </a:rPr>
              <a:t>Debugger    - </a:t>
            </a:r>
            <a:r>
              <a:rPr b="1" lang="ko-KR" sz="1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효율적인</a:t>
            </a:r>
            <a:r>
              <a:rPr b="1" lang="ko-KR" sz="1400" spc="-1" strike="noStrike">
                <a:solidFill>
                  <a:srgbClr val="000000"/>
                </a:solidFill>
                <a:latin typeface="Berlin Sans FB"/>
                <a:ea typeface="HY태백B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erlin Sans FB"/>
                <a:ea typeface="HY태백B"/>
              </a:rPr>
              <a:t>Programming</a:t>
            </a:r>
            <a:r>
              <a:rPr b="1" lang="ko-KR" sz="1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을 위한 </a:t>
            </a:r>
            <a:r>
              <a:rPr b="1" lang="en-US" sz="1400" spc="-1" strike="noStrike">
                <a:solidFill>
                  <a:srgbClr val="000000"/>
                </a:solidFill>
                <a:latin typeface="Berlin Sans FB"/>
                <a:ea typeface="HY태백B"/>
              </a:rPr>
              <a:t>Edit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50960" y="5369040"/>
            <a:ext cx="7561080" cy="44748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태백B"/>
                <a:ea typeface="HY태백B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Gcc Compiler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특성을 고려한 기능의 개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2" name="Group 28"/>
          <p:cNvGrpSpPr/>
          <p:nvPr/>
        </p:nvGrpSpPr>
        <p:grpSpPr>
          <a:xfrm>
            <a:off x="785880" y="2023920"/>
            <a:ext cx="7638120" cy="986040"/>
            <a:chOff x="785880" y="2023920"/>
            <a:chExt cx="7638120" cy="986040"/>
          </a:xfrm>
        </p:grpSpPr>
        <p:sp>
          <p:nvSpPr>
            <p:cNvPr id="183" name="Rectangle 7"/>
            <p:cNvSpPr/>
            <p:nvPr/>
          </p:nvSpPr>
          <p:spPr>
            <a:xfrm>
              <a:off x="785880" y="2023920"/>
              <a:ext cx="7315200" cy="343080"/>
            </a:xfrm>
            <a:prstGeom prst="rect">
              <a:avLst/>
            </a:prstGeom>
            <a:gradFill rotWithShape="0">
              <a:gsLst>
                <a:gs pos="0">
                  <a:srgbClr val="0983f1"/>
                </a:gs>
                <a:gs pos="100000">
                  <a:srgbClr val="72b8f7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983f1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Vi Editor </a:t>
              </a:r>
              <a:r>
                <a:rPr b="1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작업의 생소함과 작업 능률 저하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Rectangle 7"/>
            <p:cNvSpPr/>
            <p:nvPr/>
          </p:nvSpPr>
          <p:spPr>
            <a:xfrm>
              <a:off x="798480" y="2486160"/>
              <a:ext cx="7315200" cy="523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52440"/>
                  <a:tab algn="l" pos="704880"/>
                  <a:tab algn="l" pos="1057320"/>
                  <a:tab algn="l" pos="1409760"/>
                  <a:tab algn="l" pos="1762200"/>
                  <a:tab algn="l" pos="2114640"/>
                  <a:tab algn="l" pos="2467080"/>
                  <a:tab algn="l" pos="2819520"/>
                  <a:tab algn="l" pos="3171960"/>
                  <a:tab algn="l" pos="3524400"/>
                  <a:tab algn="l" pos="3876840"/>
                  <a:tab algn="l" pos="4229280"/>
                  <a:tab algn="l" pos="4581360"/>
                  <a:tab algn="l" pos="4933800"/>
                  <a:tab algn="l" pos="5286240"/>
                  <a:tab algn="l" pos="5638680"/>
                  <a:tab algn="l" pos="5991120"/>
                  <a:tab algn="l" pos="6343560"/>
                  <a:tab algn="l" pos="6696000"/>
                  <a:tab algn="l" pos="70484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Visual Studio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와 같은 </a:t>
              </a:r>
              <a:r>
                <a:rPr b="1" lang="en-US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Development Tool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 필요성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85" name="AutoShape 19"/>
            <p:cNvCxnSpPr/>
            <p:nvPr/>
          </p:nvCxnSpPr>
          <p:spPr>
            <a:xfrm flipH="1">
              <a:off x="8112960" y="2195640"/>
              <a:ext cx="2520" cy="552960"/>
            </a:xfrm>
            <a:prstGeom prst="curvedConnector5">
              <a:avLst>
                <a:gd name="adj1" fmla="val -14300000"/>
                <a:gd name="adj2" fmla="val 49967"/>
                <a:gd name="adj3" fmla="val -14300000"/>
              </a:avLst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86" name="Group 22"/>
          <p:cNvGrpSpPr/>
          <p:nvPr/>
        </p:nvGrpSpPr>
        <p:grpSpPr>
          <a:xfrm>
            <a:off x="523800" y="3106800"/>
            <a:ext cx="3760920" cy="928440"/>
            <a:chOff x="523800" y="3106800"/>
            <a:chExt cx="3760920" cy="928440"/>
          </a:xfrm>
        </p:grpSpPr>
        <p:sp>
          <p:nvSpPr>
            <p:cNvPr id="187" name="AutoShape 3"/>
            <p:cNvSpPr/>
            <p:nvPr/>
          </p:nvSpPr>
          <p:spPr>
            <a:xfrm>
              <a:off x="684360" y="3381480"/>
              <a:ext cx="3600360" cy="479160"/>
            </a:xfrm>
            <a:prstGeom prst="roundRect">
              <a:avLst>
                <a:gd name="adj" fmla="val 16667"/>
              </a:avLst>
            </a:prstGeom>
            <a:solidFill>
              <a:srgbClr val="e7ffe7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what is Object ??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8" name="Picture 7" descr="폴더"/>
            <p:cNvPicPr/>
            <p:nvPr/>
          </p:nvPicPr>
          <p:blipFill>
            <a:blip r:embed="rId4"/>
            <a:stretch/>
          </p:blipFill>
          <p:spPr>
            <a:xfrm>
              <a:off x="523800" y="3106800"/>
              <a:ext cx="1285920" cy="92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89" name="AutoShape 17"/>
          <p:cNvSpPr/>
          <p:nvPr/>
        </p:nvSpPr>
        <p:spPr>
          <a:xfrm>
            <a:off x="1171440" y="5826240"/>
            <a:ext cx="7162920" cy="3776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rlin Sans FB"/>
                <a:ea typeface="HY태백B"/>
              </a:rPr>
              <a:t>- Set Gcc Option when Compili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71"/>
          <p:cNvSpPr/>
          <p:nvPr/>
        </p:nvSpPr>
        <p:spPr>
          <a:xfrm flipH="1">
            <a:off x="538200" y="1700280"/>
            <a:ext cx="8066160" cy="4705200"/>
          </a:xfrm>
          <a:prstGeom prst="roundRect">
            <a:avLst>
              <a:gd name="adj" fmla="val 2472"/>
            </a:avLst>
          </a:prstGeom>
          <a:gradFill rotWithShape="0">
            <a:gsLst>
              <a:gs pos="0">
                <a:srgbClr val="e8f5fc"/>
              </a:gs>
              <a:gs pos="100000">
                <a:srgbClr val="f3fafd"/>
              </a:gs>
            </a:gsLst>
            <a:lin ang="5400000"/>
          </a:gradFill>
          <a:ln w="3240">
            <a:solidFill>
              <a:srgbClr val="129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1" name="Group 15"/>
          <p:cNvGrpSpPr/>
          <p:nvPr/>
        </p:nvGrpSpPr>
        <p:grpSpPr>
          <a:xfrm>
            <a:off x="504720" y="1120680"/>
            <a:ext cx="4257720" cy="928800"/>
            <a:chOff x="504720" y="1120680"/>
            <a:chExt cx="4257720" cy="928800"/>
          </a:xfrm>
        </p:grpSpPr>
        <p:sp>
          <p:nvSpPr>
            <p:cNvPr id="192" name="AutoShape 3"/>
            <p:cNvSpPr/>
            <p:nvPr/>
          </p:nvSpPr>
          <p:spPr>
            <a:xfrm>
              <a:off x="644400" y="1390680"/>
              <a:ext cx="4118040" cy="479520"/>
            </a:xfrm>
            <a:prstGeom prst="roundRect">
              <a:avLst>
                <a:gd name="adj" fmla="val 16667"/>
              </a:avLst>
            </a:prstGeom>
            <a:solidFill>
              <a:srgbClr val="e7ffe7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 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G_Studio Main Widget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3" name="Picture 7" descr="폴더"/>
            <p:cNvPicPr/>
            <p:nvPr/>
          </p:nvPicPr>
          <p:blipFill>
            <a:blip r:embed="rId1"/>
            <a:stretch/>
          </p:blipFill>
          <p:spPr>
            <a:xfrm>
              <a:off x="504720" y="1120680"/>
              <a:ext cx="1279440" cy="928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194" name="Group 23"/>
          <p:cNvGrpSpPr/>
          <p:nvPr/>
        </p:nvGrpSpPr>
        <p:grpSpPr>
          <a:xfrm>
            <a:off x="2771640" y="351000"/>
            <a:ext cx="6408720" cy="1312920"/>
            <a:chOff x="2771640" y="351000"/>
            <a:chExt cx="6408720" cy="1312920"/>
          </a:xfrm>
        </p:grpSpPr>
        <p:sp>
          <p:nvSpPr>
            <p:cNvPr id="195" name="Line 7"/>
            <p:cNvSpPr/>
            <p:nvPr/>
          </p:nvSpPr>
          <p:spPr>
            <a:xfrm>
              <a:off x="2771640" y="1052640"/>
              <a:ext cx="64087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Text Box 75"/>
            <p:cNvSpPr/>
            <p:nvPr/>
          </p:nvSpPr>
          <p:spPr>
            <a:xfrm>
              <a:off x="2843280" y="351000"/>
              <a:ext cx="6265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Berlin Sans FB Demi"/>
                  <a:ea typeface="HY강B"/>
                </a:rPr>
                <a:t>All System Architecture (1) 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97" name="Group 22"/>
          <p:cNvGrpSpPr/>
          <p:nvPr/>
        </p:nvGrpSpPr>
        <p:grpSpPr>
          <a:xfrm>
            <a:off x="1692360" y="1979640"/>
            <a:ext cx="5843520" cy="4251240"/>
            <a:chOff x="1692360" y="1979640"/>
            <a:chExt cx="5843520" cy="4251240"/>
          </a:xfrm>
        </p:grpSpPr>
        <p:pic>
          <p:nvPicPr>
            <p:cNvPr id="198" name="Picture 18" descr=""/>
            <p:cNvPicPr/>
            <p:nvPr/>
          </p:nvPicPr>
          <p:blipFill>
            <a:blip r:embed="rId2"/>
            <a:stretch/>
          </p:blipFill>
          <p:spPr>
            <a:xfrm>
              <a:off x="1692360" y="1979640"/>
              <a:ext cx="5843520" cy="4251240"/>
            </a:xfrm>
            <a:prstGeom prst="rect">
              <a:avLst/>
            </a:prstGeom>
            <a:ln w="28440">
              <a:solidFill>
                <a:srgbClr val="00cc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99" name="Text Box 19"/>
            <p:cNvSpPr/>
            <p:nvPr/>
          </p:nvSpPr>
          <p:spPr>
            <a:xfrm>
              <a:off x="5956560" y="4644720"/>
              <a:ext cx="1287000" cy="33732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  <a:effectLst>
              <a:outerShdw dist="17819" dir="2700000" blurRad="0" rotWithShape="0">
                <a:srgbClr val="1f1f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</a:rPr>
                <a:t>Code Tabl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" name="Text Box 20"/>
            <p:cNvSpPr/>
            <p:nvPr/>
          </p:nvSpPr>
          <p:spPr>
            <a:xfrm>
              <a:off x="1854720" y="4647960"/>
              <a:ext cx="766080" cy="5806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  <a:effectLst>
              <a:outerShdw dist="17819" dir="2700000" blurRad="0" rotWithShape="0">
                <a:srgbClr val="1f1f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</a:rPr>
                <a:t>Work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</a:rPr>
                <a:t>Spa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Text Box 21"/>
            <p:cNvSpPr/>
            <p:nvPr/>
          </p:nvSpPr>
          <p:spPr>
            <a:xfrm>
              <a:off x="5635080" y="5472000"/>
              <a:ext cx="1652760" cy="33732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  <a:effectLst>
              <a:outerShdw dist="17819" dir="2700000" blurRad="0" rotWithShape="0">
                <a:srgbClr val="1f1f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</a:rPr>
                <a:t>Error List 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71"/>
          <p:cNvSpPr/>
          <p:nvPr/>
        </p:nvSpPr>
        <p:spPr>
          <a:xfrm flipH="1">
            <a:off x="538200" y="1700280"/>
            <a:ext cx="8066160" cy="4681440"/>
          </a:xfrm>
          <a:prstGeom prst="roundRect">
            <a:avLst>
              <a:gd name="adj" fmla="val 2472"/>
            </a:avLst>
          </a:prstGeom>
          <a:gradFill rotWithShape="0">
            <a:gsLst>
              <a:gs pos="0">
                <a:srgbClr val="e8f5fc"/>
              </a:gs>
              <a:gs pos="100000">
                <a:srgbClr val="f3fafd"/>
              </a:gs>
            </a:gsLst>
            <a:lin ang="5400000"/>
          </a:gradFill>
          <a:ln w="3240">
            <a:solidFill>
              <a:srgbClr val="129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504720" y="1120680"/>
            <a:ext cx="4257720" cy="928800"/>
            <a:chOff x="504720" y="1120680"/>
            <a:chExt cx="4257720" cy="928800"/>
          </a:xfrm>
        </p:grpSpPr>
        <p:sp>
          <p:nvSpPr>
            <p:cNvPr id="204" name="AutoShape 3"/>
            <p:cNvSpPr/>
            <p:nvPr/>
          </p:nvSpPr>
          <p:spPr>
            <a:xfrm>
              <a:off x="644400" y="1390680"/>
              <a:ext cx="4118040" cy="479520"/>
            </a:xfrm>
            <a:prstGeom prst="roundRect">
              <a:avLst>
                <a:gd name="adj" fmla="val 16667"/>
              </a:avLst>
            </a:prstGeom>
            <a:solidFill>
              <a:srgbClr val="e7ffe7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 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All System Architecture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5" name="Picture 7" descr="폴더"/>
            <p:cNvPicPr/>
            <p:nvPr/>
          </p:nvPicPr>
          <p:blipFill>
            <a:blip r:embed="rId1"/>
            <a:stretch/>
          </p:blipFill>
          <p:spPr>
            <a:xfrm>
              <a:off x="504720" y="1120680"/>
              <a:ext cx="1279440" cy="928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206" name="Group 46"/>
          <p:cNvGrpSpPr/>
          <p:nvPr/>
        </p:nvGrpSpPr>
        <p:grpSpPr>
          <a:xfrm>
            <a:off x="2771640" y="351000"/>
            <a:ext cx="6408720" cy="1312920"/>
            <a:chOff x="2771640" y="351000"/>
            <a:chExt cx="6408720" cy="1312920"/>
          </a:xfrm>
        </p:grpSpPr>
        <p:sp>
          <p:nvSpPr>
            <p:cNvPr id="207" name="Line 7"/>
            <p:cNvSpPr/>
            <p:nvPr/>
          </p:nvSpPr>
          <p:spPr>
            <a:xfrm>
              <a:off x="2771640" y="1052640"/>
              <a:ext cx="64087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Text Box 75"/>
            <p:cNvSpPr/>
            <p:nvPr/>
          </p:nvSpPr>
          <p:spPr>
            <a:xfrm>
              <a:off x="2843280" y="351000"/>
              <a:ext cx="6265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Berlin Sans FB Demi"/>
                  <a:ea typeface="HY강B"/>
                </a:rPr>
                <a:t>All System Architecture (2) 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09" name="Group 45"/>
          <p:cNvGrpSpPr/>
          <p:nvPr/>
        </p:nvGrpSpPr>
        <p:grpSpPr>
          <a:xfrm>
            <a:off x="615600" y="2095560"/>
            <a:ext cx="7929720" cy="4079880"/>
            <a:chOff x="615600" y="2095560"/>
            <a:chExt cx="7929720" cy="4079880"/>
          </a:xfrm>
        </p:grpSpPr>
        <p:sp>
          <p:nvSpPr>
            <p:cNvPr id="210" name="AutoShape 71"/>
            <p:cNvSpPr/>
            <p:nvPr/>
          </p:nvSpPr>
          <p:spPr>
            <a:xfrm flipH="1">
              <a:off x="615240" y="2095560"/>
              <a:ext cx="7929720" cy="2819520"/>
            </a:xfrm>
            <a:prstGeom prst="roundRect">
              <a:avLst>
                <a:gd name="adj" fmla="val 2472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77840" indent="266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Rectangle 26"/>
            <p:cNvSpPr/>
            <p:nvPr/>
          </p:nvSpPr>
          <p:spPr>
            <a:xfrm>
              <a:off x="671400" y="5261040"/>
              <a:ext cx="7829640" cy="914400"/>
            </a:xfrm>
            <a:prstGeom prst="rect">
              <a:avLst/>
            </a:prstGeom>
            <a:solidFill>
              <a:srgbClr val="808080">
                <a:alpha val="28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erlin Sans FB"/>
                  <a:ea typeface="HY강B"/>
                </a:rPr>
                <a:t>Debugger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2695680" y="2181240"/>
              <a:ext cx="3557520" cy="2598840"/>
            </a:xfrm>
            <a:prstGeom prst="rect">
              <a:avLst/>
            </a:prstGeom>
            <a:noFill/>
            <a:ln w="57240">
              <a:solidFill>
                <a:srgbClr val="666699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2825640" y="2363760"/>
              <a:ext cx="3281400" cy="776160"/>
            </a:xfrm>
            <a:prstGeom prst="rect">
              <a:avLst/>
            </a:prstGeom>
            <a:solidFill>
              <a:srgbClr val="808080">
                <a:alpha val="28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erlin Sans FB"/>
                  <a:ea typeface="HY강B"/>
                </a:rPr>
                <a:t>Gcc Code Table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6446880" y="2212920"/>
              <a:ext cx="2050920" cy="892080"/>
            </a:xfrm>
            <a:prstGeom prst="rect">
              <a:avLst/>
            </a:prstGeom>
            <a:solidFill>
              <a:srgbClr val="808080">
                <a:alpha val="28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강B"/>
                </a:rPr>
                <a:t>Auto Make Fil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6456240" y="3303720"/>
              <a:ext cx="2051280" cy="712800"/>
            </a:xfrm>
            <a:prstGeom prst="rect">
              <a:avLst/>
            </a:prstGeom>
            <a:solidFill>
              <a:srgbClr val="808080">
                <a:alpha val="28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강B"/>
                </a:rPr>
                <a:t>Error &amp; Warning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강B"/>
                </a:rPr>
                <a:t>Check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4579920" y="3433680"/>
              <a:ext cx="1511280" cy="1203480"/>
            </a:xfrm>
            <a:prstGeom prst="rect">
              <a:avLst/>
            </a:prstGeom>
            <a:solidFill>
              <a:srgbClr val="808080">
                <a:alpha val="28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erlin Sans FB"/>
                  <a:ea typeface="HY강B"/>
                </a:rPr>
                <a:t>Error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erlin Sans FB"/>
                  <a:ea typeface="HY강B"/>
                </a:rPr>
                <a:t>List View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2843280" y="3421080"/>
              <a:ext cx="1511280" cy="1216080"/>
            </a:xfrm>
            <a:prstGeom prst="rect">
              <a:avLst/>
            </a:prstGeom>
            <a:solidFill>
              <a:srgbClr val="808080">
                <a:alpha val="28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erlin Sans FB"/>
                  <a:ea typeface="HY강B"/>
                </a:rPr>
                <a:t>Work Space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erlin Sans FB"/>
                  <a:ea typeface="HY강B"/>
                </a:rPr>
                <a:t>List View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" name="Rectangle 19"/>
            <p:cNvSpPr/>
            <p:nvPr/>
          </p:nvSpPr>
          <p:spPr>
            <a:xfrm>
              <a:off x="6440400" y="4232160"/>
              <a:ext cx="2051280" cy="584280"/>
            </a:xfrm>
            <a:prstGeom prst="rect">
              <a:avLst/>
            </a:prstGeom>
            <a:solidFill>
              <a:srgbClr val="808080">
                <a:alpha val="28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Berlin Sans FB"/>
                  <a:ea typeface="HY강B"/>
                </a:rPr>
                <a:t>Program Execution</a:t>
              </a:r>
              <a:endParaRPr b="0" lang="en-US" sz="1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" name="Rectangle 20"/>
            <p:cNvSpPr/>
            <p:nvPr/>
          </p:nvSpPr>
          <p:spPr>
            <a:xfrm>
              <a:off x="658800" y="2200320"/>
              <a:ext cx="1870200" cy="1027080"/>
            </a:xfrm>
            <a:prstGeom prst="rect">
              <a:avLst/>
            </a:prstGeom>
            <a:solidFill>
              <a:srgbClr val="808080">
                <a:alpha val="28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erlin Sans FB"/>
                  <a:ea typeface="HY강B"/>
                </a:rPr>
                <a:t>File Add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erlin Sans FB"/>
                  <a:ea typeface="HY강B"/>
                </a:rPr>
                <a:t>File Del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" name="Rectangle 23"/>
            <p:cNvSpPr/>
            <p:nvPr/>
          </p:nvSpPr>
          <p:spPr>
            <a:xfrm>
              <a:off x="673200" y="3532320"/>
              <a:ext cx="1869840" cy="1269720"/>
            </a:xfrm>
            <a:prstGeom prst="rect">
              <a:avLst/>
            </a:prstGeom>
            <a:solidFill>
              <a:srgbClr val="808080">
                <a:alpha val="28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erlin Sans FB"/>
                  <a:ea typeface="HY강B"/>
                </a:rPr>
                <a:t>Project file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erlin Sans FB"/>
                  <a:ea typeface="HY강B"/>
                </a:rPr>
                <a:t>Rewrite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" name="Line 31"/>
            <p:cNvSpPr/>
            <p:nvPr/>
          </p:nvSpPr>
          <p:spPr>
            <a:xfrm>
              <a:off x="6097680" y="2705040"/>
              <a:ext cx="3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Line 32"/>
            <p:cNvSpPr/>
            <p:nvPr/>
          </p:nvSpPr>
          <p:spPr>
            <a:xfrm>
              <a:off x="7477200" y="2997360"/>
              <a:ext cx="0" cy="2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Line 33"/>
            <p:cNvSpPr/>
            <p:nvPr/>
          </p:nvSpPr>
          <p:spPr>
            <a:xfrm>
              <a:off x="7480440" y="3954600"/>
              <a:ext cx="0" cy="2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" name="Line 34"/>
            <p:cNvSpPr/>
            <p:nvPr/>
          </p:nvSpPr>
          <p:spPr>
            <a:xfrm flipH="1">
              <a:off x="6073920" y="3772080"/>
              <a:ext cx="40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" name="Line 35"/>
            <p:cNvSpPr/>
            <p:nvPr/>
          </p:nvSpPr>
          <p:spPr>
            <a:xfrm>
              <a:off x="5846760" y="3124080"/>
              <a:ext cx="792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" name="Line 36"/>
            <p:cNvSpPr/>
            <p:nvPr/>
          </p:nvSpPr>
          <p:spPr>
            <a:xfrm flipV="1">
              <a:off x="4871880" y="3124080"/>
              <a:ext cx="0" cy="30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" name="Line 37"/>
            <p:cNvSpPr/>
            <p:nvPr/>
          </p:nvSpPr>
          <p:spPr>
            <a:xfrm>
              <a:off x="4054320" y="3124080"/>
              <a:ext cx="9720" cy="27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Line 38"/>
            <p:cNvSpPr/>
            <p:nvPr/>
          </p:nvSpPr>
          <p:spPr>
            <a:xfrm flipV="1">
              <a:off x="3081240" y="3116160"/>
              <a:ext cx="0" cy="30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2109960" y="3238560"/>
              <a:ext cx="9360" cy="27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1136520" y="3230280"/>
              <a:ext cx="0" cy="29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>
              <a:off x="2543040" y="4081320"/>
              <a:ext cx="2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 flipH="1">
              <a:off x="2525400" y="27082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AutoShape 44"/>
            <p:cNvSpPr/>
            <p:nvPr/>
          </p:nvSpPr>
          <p:spPr>
            <a:xfrm>
              <a:off x="1238400" y="4924440"/>
              <a:ext cx="6702120" cy="252360"/>
            </a:xfrm>
            <a:prstGeom prst="downArrow">
              <a:avLst>
                <a:gd name="adj1" fmla="val 79583"/>
                <a:gd name="adj2" fmla="val 86792"/>
              </a:avLst>
            </a:prstGeom>
            <a:solidFill>
              <a:srgbClr val="808080">
                <a:alpha val="28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71"/>
          <p:cNvSpPr/>
          <p:nvPr/>
        </p:nvSpPr>
        <p:spPr>
          <a:xfrm flipH="1">
            <a:off x="538200" y="1700280"/>
            <a:ext cx="8066160" cy="4681440"/>
          </a:xfrm>
          <a:prstGeom prst="roundRect">
            <a:avLst>
              <a:gd name="adj" fmla="val 2472"/>
            </a:avLst>
          </a:prstGeom>
          <a:gradFill rotWithShape="0">
            <a:gsLst>
              <a:gs pos="0">
                <a:srgbClr val="e8f5fc"/>
              </a:gs>
              <a:gs pos="100000">
                <a:srgbClr val="f3fafd"/>
              </a:gs>
            </a:gsLst>
            <a:lin ang="5400000"/>
          </a:gradFill>
          <a:ln w="3240">
            <a:solidFill>
              <a:srgbClr val="129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Group 15"/>
          <p:cNvGrpSpPr/>
          <p:nvPr/>
        </p:nvGrpSpPr>
        <p:grpSpPr>
          <a:xfrm>
            <a:off x="504720" y="1120680"/>
            <a:ext cx="3635640" cy="928800"/>
            <a:chOff x="504720" y="1120680"/>
            <a:chExt cx="3635640" cy="928800"/>
          </a:xfrm>
        </p:grpSpPr>
        <p:sp>
          <p:nvSpPr>
            <p:cNvPr id="236" name="AutoShape 3"/>
            <p:cNvSpPr/>
            <p:nvPr/>
          </p:nvSpPr>
          <p:spPr>
            <a:xfrm>
              <a:off x="644400" y="1390680"/>
              <a:ext cx="3495960" cy="479520"/>
            </a:xfrm>
            <a:prstGeom prst="roundRect">
              <a:avLst>
                <a:gd name="adj" fmla="val 16667"/>
              </a:avLst>
            </a:prstGeom>
            <a:solidFill>
              <a:srgbClr val="e7ffe7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 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Debugger Widget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37" name="Picture 7" descr="폴더"/>
            <p:cNvPicPr/>
            <p:nvPr/>
          </p:nvPicPr>
          <p:blipFill>
            <a:blip r:embed="rId1"/>
            <a:stretch/>
          </p:blipFill>
          <p:spPr>
            <a:xfrm>
              <a:off x="504720" y="1120680"/>
              <a:ext cx="1279800" cy="928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238" name="Group 14"/>
          <p:cNvGrpSpPr/>
          <p:nvPr/>
        </p:nvGrpSpPr>
        <p:grpSpPr>
          <a:xfrm>
            <a:off x="1258920" y="333360"/>
            <a:ext cx="7921440" cy="1312920"/>
            <a:chOff x="1258920" y="333360"/>
            <a:chExt cx="7921440" cy="1312920"/>
          </a:xfrm>
        </p:grpSpPr>
        <p:sp>
          <p:nvSpPr>
            <p:cNvPr id="239" name="Line 7"/>
            <p:cNvSpPr/>
            <p:nvPr/>
          </p:nvSpPr>
          <p:spPr>
            <a:xfrm>
              <a:off x="1258920" y="1052640"/>
              <a:ext cx="79214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" name="Text Box 75"/>
            <p:cNvSpPr/>
            <p:nvPr/>
          </p:nvSpPr>
          <p:spPr>
            <a:xfrm>
              <a:off x="1403280" y="333360"/>
              <a:ext cx="774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Berlin Sans FB Demi"/>
                  <a:ea typeface="HY강B"/>
                </a:rPr>
                <a:t>Debugger System Architecture (1) 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41" name="Group 13"/>
          <p:cNvGrpSpPr/>
          <p:nvPr/>
        </p:nvGrpSpPr>
        <p:grpSpPr>
          <a:xfrm>
            <a:off x="1763640" y="1989000"/>
            <a:ext cx="5832720" cy="4249800"/>
            <a:chOff x="1763640" y="1989000"/>
            <a:chExt cx="5832720" cy="4249800"/>
          </a:xfrm>
        </p:grpSpPr>
        <p:pic>
          <p:nvPicPr>
            <p:cNvPr id="242" name="Picture 8" descr=""/>
            <p:cNvPicPr/>
            <p:nvPr/>
          </p:nvPicPr>
          <p:blipFill>
            <a:blip r:embed="rId2"/>
            <a:stretch/>
          </p:blipFill>
          <p:spPr>
            <a:xfrm>
              <a:off x="1763640" y="1989000"/>
              <a:ext cx="5832720" cy="4249800"/>
            </a:xfrm>
            <a:prstGeom prst="rect">
              <a:avLst/>
            </a:prstGeom>
            <a:ln w="28440">
              <a:solidFill>
                <a:srgbClr val="00cc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43" name="Text Box 9"/>
            <p:cNvSpPr/>
            <p:nvPr/>
          </p:nvSpPr>
          <p:spPr>
            <a:xfrm>
              <a:off x="6219360" y="5533920"/>
              <a:ext cx="1089000" cy="33732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  <a:effectLst>
              <a:outerShdw dist="17819" dir="2700000" blurRad="0" rotWithShape="0">
                <a:srgbClr val="1f1f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</a:rPr>
                <a:t>Termina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4" name="Text Box 10"/>
            <p:cNvSpPr/>
            <p:nvPr/>
          </p:nvSpPr>
          <p:spPr>
            <a:xfrm>
              <a:off x="6225120" y="3441600"/>
              <a:ext cx="1072440" cy="5806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  <a:effectLst>
              <a:outerShdw dist="17819" dir="2700000" blurRad="0" rotWithShape="0">
                <a:srgbClr val="1f1f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</a:rPr>
                <a:t>Value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</a:rPr>
                <a:t>List 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4362840" y="2611440"/>
              <a:ext cx="1287000" cy="33732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  <a:effectLst>
              <a:outerShdw dist="17819" dir="2700000" blurRad="0" rotWithShape="0">
                <a:srgbClr val="1f1f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</a:rPr>
                <a:t>Code Tabl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3310560" y="5533920"/>
              <a:ext cx="1352520" cy="33732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  <a:effectLst>
              <a:outerShdw dist="17819" dir="2700000" blurRad="0" rotWithShape="0">
                <a:srgbClr val="1f1f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rlin Sans FB"/>
                </a:rPr>
                <a:t>Value Tabl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71"/>
          <p:cNvSpPr/>
          <p:nvPr/>
        </p:nvSpPr>
        <p:spPr>
          <a:xfrm flipH="1">
            <a:off x="538200" y="1763640"/>
            <a:ext cx="8066160" cy="4681440"/>
          </a:xfrm>
          <a:prstGeom prst="roundRect">
            <a:avLst>
              <a:gd name="adj" fmla="val 2472"/>
            </a:avLst>
          </a:prstGeom>
          <a:gradFill rotWithShape="0">
            <a:gsLst>
              <a:gs pos="0">
                <a:srgbClr val="e8f5fc"/>
              </a:gs>
              <a:gs pos="100000">
                <a:srgbClr val="f3fafd"/>
              </a:gs>
            </a:gsLst>
            <a:lin ang="5400000"/>
          </a:gradFill>
          <a:ln w="3240">
            <a:solidFill>
              <a:srgbClr val="129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8" name="Group 67"/>
          <p:cNvGrpSpPr/>
          <p:nvPr/>
        </p:nvGrpSpPr>
        <p:grpSpPr>
          <a:xfrm>
            <a:off x="504720" y="1158840"/>
            <a:ext cx="5108760" cy="928800"/>
            <a:chOff x="504720" y="1158840"/>
            <a:chExt cx="5108760" cy="928800"/>
          </a:xfrm>
        </p:grpSpPr>
        <p:sp>
          <p:nvSpPr>
            <p:cNvPr id="249" name="AutoShape 3"/>
            <p:cNvSpPr/>
            <p:nvPr/>
          </p:nvSpPr>
          <p:spPr>
            <a:xfrm>
              <a:off x="644400" y="1428840"/>
              <a:ext cx="4969080" cy="479160"/>
            </a:xfrm>
            <a:prstGeom prst="roundRect">
              <a:avLst>
                <a:gd name="adj" fmla="val 16667"/>
              </a:avLst>
            </a:prstGeom>
            <a:solidFill>
              <a:srgbClr val="e7ffe7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 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Berlin Sans FB Demi"/>
                  <a:ea typeface="HY강B"/>
                </a:rPr>
                <a:t>Debugger System Architecture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50" name="Picture 7" descr="폴더"/>
            <p:cNvPicPr/>
            <p:nvPr/>
          </p:nvPicPr>
          <p:blipFill>
            <a:blip r:embed="rId1"/>
            <a:stretch/>
          </p:blipFill>
          <p:spPr>
            <a:xfrm>
              <a:off x="504720" y="1158840"/>
              <a:ext cx="1279800" cy="928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251" name="Group 65"/>
          <p:cNvGrpSpPr/>
          <p:nvPr/>
        </p:nvGrpSpPr>
        <p:grpSpPr>
          <a:xfrm>
            <a:off x="687240" y="2068560"/>
            <a:ext cx="7756560" cy="4389480"/>
            <a:chOff x="687240" y="2068560"/>
            <a:chExt cx="7756560" cy="4389480"/>
          </a:xfrm>
        </p:grpSpPr>
        <p:sp>
          <p:nvSpPr>
            <p:cNvPr id="252" name="Rectangle 32"/>
            <p:cNvSpPr/>
            <p:nvPr/>
          </p:nvSpPr>
          <p:spPr>
            <a:xfrm>
              <a:off x="687240" y="2454120"/>
              <a:ext cx="5235840" cy="3775320"/>
            </a:xfrm>
            <a:prstGeom prst="rect">
              <a:avLst/>
            </a:prstGeom>
            <a:noFill/>
            <a:ln w="57240">
              <a:solidFill>
                <a:srgbClr val="666699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Rectangle 33"/>
            <p:cNvSpPr/>
            <p:nvPr/>
          </p:nvSpPr>
          <p:spPr>
            <a:xfrm>
              <a:off x="843120" y="2608200"/>
              <a:ext cx="2833560" cy="399960"/>
            </a:xfrm>
            <a:prstGeom prst="rect">
              <a:avLst/>
            </a:prstGeom>
            <a:solidFill>
              <a:srgbClr val="808080">
                <a:alpha val="28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Gcc Cod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" name="Rectangle 34"/>
            <p:cNvSpPr/>
            <p:nvPr/>
          </p:nvSpPr>
          <p:spPr>
            <a:xfrm>
              <a:off x="6788160" y="2454120"/>
              <a:ext cx="1639800" cy="3775320"/>
            </a:xfrm>
            <a:prstGeom prst="rect">
              <a:avLst/>
            </a:prstGeom>
            <a:noFill/>
            <a:ln w="57240">
              <a:solidFill>
                <a:srgbClr val="666699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5" name="Rectangle 35"/>
            <p:cNvSpPr/>
            <p:nvPr/>
          </p:nvSpPr>
          <p:spPr>
            <a:xfrm>
              <a:off x="835200" y="3664080"/>
              <a:ext cx="2833560" cy="399960"/>
            </a:xfrm>
            <a:prstGeom prst="rect">
              <a:avLst/>
            </a:prstGeom>
            <a:solidFill>
              <a:srgbClr val="808080">
                <a:alpha val="28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Code Parsing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6" name="Rectangle 36"/>
            <p:cNvSpPr/>
            <p:nvPr/>
          </p:nvSpPr>
          <p:spPr>
            <a:xfrm>
              <a:off x="835200" y="4167360"/>
              <a:ext cx="2833560" cy="615600"/>
            </a:xfrm>
            <a:prstGeom prst="rect">
              <a:avLst/>
            </a:prstGeom>
            <a:solidFill>
              <a:srgbClr val="808080">
                <a:alpha val="28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Debugging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을 위한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코드 삽입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7" name="Rectangle 37"/>
            <p:cNvSpPr/>
            <p:nvPr/>
          </p:nvSpPr>
          <p:spPr>
            <a:xfrm>
              <a:off x="835200" y="4886280"/>
              <a:ext cx="2833560" cy="441360"/>
            </a:xfrm>
            <a:prstGeom prst="rect">
              <a:avLst/>
            </a:prstGeom>
            <a:solidFill>
              <a:srgbClr val="808080">
                <a:alpha val="28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Compile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후 실행파일생성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Rectangle 38"/>
            <p:cNvSpPr/>
            <p:nvPr/>
          </p:nvSpPr>
          <p:spPr>
            <a:xfrm>
              <a:off x="839880" y="5645160"/>
              <a:ext cx="2820960" cy="439560"/>
            </a:xfrm>
            <a:prstGeom prst="rect">
              <a:avLst/>
            </a:prstGeom>
            <a:solidFill>
              <a:srgbClr val="808080">
                <a:alpha val="28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실행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9" name="Rectangle 39"/>
            <p:cNvSpPr/>
            <p:nvPr/>
          </p:nvSpPr>
          <p:spPr>
            <a:xfrm>
              <a:off x="826920" y="3141720"/>
              <a:ext cx="2833920" cy="399960"/>
            </a:xfrm>
            <a:prstGeom prst="rect">
              <a:avLst/>
            </a:prstGeom>
            <a:solidFill>
              <a:srgbClr val="808080">
                <a:alpha val="28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중 파이프 생성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0" name="Rectangle 40"/>
            <p:cNvSpPr/>
            <p:nvPr/>
          </p:nvSpPr>
          <p:spPr>
            <a:xfrm>
              <a:off x="1295280" y="3027240"/>
              <a:ext cx="1819440" cy="95400"/>
            </a:xfrm>
            <a:prstGeom prst="rect">
              <a:avLst/>
            </a:prstGeom>
            <a:solidFill>
              <a:srgbClr val="808080">
                <a:alpha val="56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Rectangle 41"/>
            <p:cNvSpPr/>
            <p:nvPr/>
          </p:nvSpPr>
          <p:spPr>
            <a:xfrm>
              <a:off x="1303200" y="3562200"/>
              <a:ext cx="1819440" cy="69840"/>
            </a:xfrm>
            <a:prstGeom prst="rect">
              <a:avLst/>
            </a:prstGeom>
            <a:solidFill>
              <a:srgbClr val="808080">
                <a:alpha val="56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2" name="Rectangle 42"/>
            <p:cNvSpPr/>
            <p:nvPr/>
          </p:nvSpPr>
          <p:spPr>
            <a:xfrm>
              <a:off x="1303200" y="4083120"/>
              <a:ext cx="1819440" cy="69840"/>
            </a:xfrm>
            <a:prstGeom prst="rect">
              <a:avLst/>
            </a:prstGeom>
            <a:solidFill>
              <a:srgbClr val="808080">
                <a:alpha val="56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3" name="Rectangle 43"/>
            <p:cNvSpPr/>
            <p:nvPr/>
          </p:nvSpPr>
          <p:spPr>
            <a:xfrm>
              <a:off x="1303200" y="4794120"/>
              <a:ext cx="1819440" cy="69840"/>
            </a:xfrm>
            <a:prstGeom prst="rect">
              <a:avLst/>
            </a:prstGeom>
            <a:solidFill>
              <a:srgbClr val="808080">
                <a:alpha val="56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4" name="AutoShape 44"/>
            <p:cNvSpPr/>
            <p:nvPr/>
          </p:nvSpPr>
          <p:spPr>
            <a:xfrm>
              <a:off x="974880" y="5351400"/>
              <a:ext cx="2635200" cy="208080"/>
            </a:xfrm>
            <a:prstGeom prst="downArrow">
              <a:avLst>
                <a:gd name="adj1" fmla="val 68213"/>
                <a:gd name="adj2" fmla="val 76921"/>
              </a:avLst>
            </a:prstGeom>
            <a:solidFill>
              <a:srgbClr val="808080">
                <a:alpha val="56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5" name="Rectangle 45"/>
            <p:cNvSpPr/>
            <p:nvPr/>
          </p:nvSpPr>
          <p:spPr>
            <a:xfrm>
              <a:off x="3862440" y="2575080"/>
              <a:ext cx="1857240" cy="1039680"/>
            </a:xfrm>
            <a:prstGeom prst="rect">
              <a:avLst/>
            </a:prstGeom>
            <a:solidFill>
              <a:srgbClr val="666699">
                <a:alpha val="28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프로그램 실행 창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6" name="Rectangle 46"/>
            <p:cNvSpPr/>
            <p:nvPr/>
          </p:nvSpPr>
          <p:spPr>
            <a:xfrm>
              <a:off x="3868560" y="3798720"/>
              <a:ext cx="1857600" cy="1040040"/>
            </a:xfrm>
            <a:prstGeom prst="rect">
              <a:avLst/>
            </a:prstGeom>
            <a:solidFill>
              <a:srgbClr val="666699">
                <a:alpha val="28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Gcc Code Tabl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7" name="Rectangle 47"/>
            <p:cNvSpPr/>
            <p:nvPr/>
          </p:nvSpPr>
          <p:spPr>
            <a:xfrm>
              <a:off x="3884760" y="5087880"/>
              <a:ext cx="1857240" cy="1040040"/>
            </a:xfrm>
            <a:prstGeom prst="rect">
              <a:avLst/>
            </a:prstGeom>
            <a:solidFill>
              <a:srgbClr val="666699">
                <a:alpha val="28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Value &amp; Address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8" name="Rectangle 48"/>
            <p:cNvSpPr/>
            <p:nvPr/>
          </p:nvSpPr>
          <p:spPr>
            <a:xfrm>
              <a:off x="6978600" y="2583000"/>
              <a:ext cx="1295280" cy="1039680"/>
            </a:xfrm>
            <a:prstGeom prst="rect">
              <a:avLst/>
            </a:prstGeom>
            <a:solidFill>
              <a:srgbClr val="666699">
                <a:alpha val="28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프로그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실행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Rectangle 49"/>
            <p:cNvSpPr/>
            <p:nvPr/>
          </p:nvSpPr>
          <p:spPr>
            <a:xfrm>
              <a:off x="6978600" y="3814920"/>
              <a:ext cx="1295280" cy="2320920"/>
            </a:xfrm>
            <a:prstGeom prst="rect">
              <a:avLst/>
            </a:prstGeom>
            <a:solidFill>
              <a:srgbClr val="666699">
                <a:alpha val="28000"/>
              </a:srgbClr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Debuger.h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( Break 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0" name="Rectangle 50"/>
            <p:cNvSpPr/>
            <p:nvPr/>
          </p:nvSpPr>
          <p:spPr>
            <a:xfrm>
              <a:off x="5753160" y="4191120"/>
              <a:ext cx="1184040" cy="6570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erlin Sans FB"/>
                </a:rPr>
                <a:t>fd[0]           fd[1]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1" name="Rectangle 51"/>
            <p:cNvSpPr/>
            <p:nvPr/>
          </p:nvSpPr>
          <p:spPr>
            <a:xfrm>
              <a:off x="5761080" y="5068800"/>
              <a:ext cx="1177920" cy="6350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erlin Sans FB"/>
                </a:rPr>
                <a:t>fd_p[0]    fd_p[1]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Rectangle 52"/>
            <p:cNvSpPr/>
            <p:nvPr/>
          </p:nvSpPr>
          <p:spPr>
            <a:xfrm rot="5400000">
              <a:off x="6242760" y="4740840"/>
              <a:ext cx="237960" cy="4334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Rectangle 53"/>
            <p:cNvSpPr/>
            <p:nvPr/>
          </p:nvSpPr>
          <p:spPr>
            <a:xfrm>
              <a:off x="5751360" y="2743200"/>
              <a:ext cx="1184400" cy="7365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stdin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stdout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4" name="Rectangle 57"/>
            <p:cNvSpPr/>
            <p:nvPr/>
          </p:nvSpPr>
          <p:spPr>
            <a:xfrm>
              <a:off x="689040" y="2068560"/>
              <a:ext cx="3565440" cy="369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Debugger Widget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5" name="Rectangle 58"/>
            <p:cNvSpPr/>
            <p:nvPr/>
          </p:nvSpPr>
          <p:spPr>
            <a:xfrm>
              <a:off x="6788160" y="2068560"/>
              <a:ext cx="1655640" cy="369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erlin Sans FB"/>
                  <a:ea typeface="HY태백B"/>
                </a:rPr>
                <a:t>Execution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76" name="AutoShape 60"/>
            <p:cNvCxnSpPr>
              <a:stCxn id="258" idx="2"/>
              <a:endCxn id="254" idx="2"/>
            </p:cNvCxnSpPr>
            <p:nvPr/>
          </p:nvCxnSpPr>
          <p:spPr>
            <a:xfrm flipH="1" rot="16200000">
              <a:off x="4849560" y="3499200"/>
              <a:ext cx="159480" cy="5358600"/>
            </a:xfrm>
            <a:prstGeom prst="curvedConnector5">
              <a:avLst>
                <a:gd name="adj1" fmla="val 225791"/>
                <a:gd name="adj2" fmla="val 50000"/>
                <a:gd name="adj3" fmla="val 225791"/>
              </a:avLst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77" name="Line 61"/>
            <p:cNvSpPr/>
            <p:nvPr/>
          </p:nvSpPr>
          <p:spPr>
            <a:xfrm flipH="1">
              <a:off x="6202440" y="4581360"/>
              <a:ext cx="28872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Line 62"/>
            <p:cNvSpPr/>
            <p:nvPr/>
          </p:nvSpPr>
          <p:spPr>
            <a:xfrm flipH="1" flipV="1">
              <a:off x="6184440" y="4584600"/>
              <a:ext cx="365400" cy="68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79" name="Group 66"/>
          <p:cNvGrpSpPr/>
          <p:nvPr/>
        </p:nvGrpSpPr>
        <p:grpSpPr>
          <a:xfrm>
            <a:off x="1258920" y="333360"/>
            <a:ext cx="7921440" cy="1312920"/>
            <a:chOff x="1258920" y="333360"/>
            <a:chExt cx="7921440" cy="1312920"/>
          </a:xfrm>
        </p:grpSpPr>
        <p:sp>
          <p:nvSpPr>
            <p:cNvPr id="280" name="Text Box 75"/>
            <p:cNvSpPr/>
            <p:nvPr/>
          </p:nvSpPr>
          <p:spPr>
            <a:xfrm>
              <a:off x="1258920" y="333360"/>
              <a:ext cx="7885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Berlin Sans FB Demi"/>
                  <a:ea typeface="HY강B"/>
                </a:rPr>
                <a:t>Debugger System Architecture (2) 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Line 7"/>
            <p:cNvSpPr/>
            <p:nvPr/>
          </p:nvSpPr>
          <p:spPr>
            <a:xfrm>
              <a:off x="1258920" y="1052640"/>
              <a:ext cx="79214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21Z</dcterms:created>
  <dc:creator>PThouse</dc:creator>
  <dc:description/>
  <dc:language>en-US</dc:language>
  <cp:lastModifiedBy>Jung jihun</cp:lastModifiedBy>
  <dcterms:modified xsi:type="dcterms:W3CDTF">2008-07-02T04:37:42Z</dcterms:modified>
  <cp:revision>431</cp:revision>
  <dc:subject/>
  <dc:title>슬라이드 1</dc:title>
</cp:coreProperties>
</file>