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wmf" ContentType="image/x-wmf"/>
  <Override PartName="/ppt/media/image12.png" ContentType="image/png"/>
  <Override PartName="/ppt/media/image16.wmf" ContentType="image/x-wmf"/>
  <Override PartName="/ppt/media/image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gif" ContentType="image/gif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053720" y="696600"/>
            <a:ext cx="468468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4360" y="4414680"/>
            <a:ext cx="5489280" cy="4183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4A87DD67-B703-47AA-BF85-A7973596BF5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8297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4D3C09D1-9843-4A6A-9096-7E5FE4F1EF4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055520" y="696960"/>
            <a:ext cx="4685040" cy="35146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4360" y="4414680"/>
            <a:ext cx="548928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8297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4EAC7EA9-7796-4224-A93C-3A8DEA36714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55520" y="696960"/>
            <a:ext cx="4685040" cy="35146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4360" y="4414680"/>
            <a:ext cx="548928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9036000" y="6526080"/>
            <a:ext cx="108000" cy="331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Picture 16" descr="uenignesoluions"/>
          <p:cNvPicPr/>
          <p:nvPr/>
        </p:nvPicPr>
        <p:blipFill>
          <a:blip r:embed="rId2"/>
          <a:stretch/>
        </p:blipFill>
        <p:spPr>
          <a:xfrm>
            <a:off x="7667640" y="6543720"/>
            <a:ext cx="1297080" cy="314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0" descr=""/>
          <p:cNvPicPr/>
          <p:nvPr/>
        </p:nvPicPr>
        <p:blipFill>
          <a:blip r:embed="rId3"/>
          <a:stretch/>
        </p:blipFill>
        <p:spPr>
          <a:xfrm>
            <a:off x="5419800" y="2781360"/>
            <a:ext cx="3724200" cy="36478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6496200"/>
            <a:ext cx="2057400" cy="361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gi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30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30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30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30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30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30.png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30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5" descr="풍경11"/>
          <p:cNvPicPr/>
          <p:nvPr/>
        </p:nvPicPr>
        <p:blipFill>
          <a:blip r:embed="rId1"/>
          <a:srcRect l="6045" t="7942" r="58588" b="8023"/>
          <a:stretch/>
        </p:blipFill>
        <p:spPr>
          <a:xfrm>
            <a:off x="154080" y="2492280"/>
            <a:ext cx="8989920" cy="28497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Text Box 56"/>
          <p:cNvSpPr/>
          <p:nvPr/>
        </p:nvSpPr>
        <p:spPr>
          <a:xfrm>
            <a:off x="6084720" y="1916280"/>
            <a:ext cx="3059280" cy="103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  <a:ea typeface="HY견고딕"/>
              </a:rPr>
              <a:t>UEFL</a:t>
            </a:r>
            <a:r>
              <a:rPr b="0" lang="ko-KR" sz="2700" spc="-1" strike="noStrike">
                <a:solidFill>
                  <a:srgbClr val="ff0000"/>
                </a:solidFill>
                <a:latin typeface="Arial"/>
                <a:ea typeface="HY견고딕"/>
              </a:rPr>
              <a:t> </a:t>
            </a:r>
            <a:r>
              <a:rPr b="0" lang="ko-KR" sz="2700" spc="-1" strike="noStrike">
                <a:solidFill>
                  <a:srgbClr val="ff0000"/>
                </a:solidFill>
                <a:latin typeface="Arial"/>
                <a:ea typeface="HY견고딕"/>
              </a:rPr>
              <a:t>소개 자료</a:t>
            </a:r>
            <a:endParaRPr b="1" lang="en-US" sz="27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Rectangle 58"/>
          <p:cNvSpPr/>
          <p:nvPr/>
        </p:nvSpPr>
        <p:spPr>
          <a:xfrm>
            <a:off x="471600" y="626112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 Narrow"/>
              </a:rPr>
              <a:t>www.uengine.org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Rectangle 61"/>
          <p:cNvSpPr/>
          <p:nvPr/>
        </p:nvSpPr>
        <p:spPr>
          <a:xfrm>
            <a:off x="-25560" y="0"/>
            <a:ext cx="179640" cy="685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5" name="Picture 69" descr="uenignesoluions"/>
          <p:cNvPicPr/>
          <p:nvPr/>
        </p:nvPicPr>
        <p:blipFill>
          <a:blip r:embed="rId2"/>
          <a:stretch/>
        </p:blipFill>
        <p:spPr>
          <a:xfrm>
            <a:off x="6948360" y="6238800"/>
            <a:ext cx="1798920" cy="438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971640" y="981000"/>
            <a:ext cx="2057400" cy="362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reeform 5"/>
          <p:cNvSpPr/>
          <p:nvPr/>
        </p:nvSpPr>
        <p:spPr>
          <a:xfrm>
            <a:off x="4646520" y="1828800"/>
            <a:ext cx="1349640" cy="1917720"/>
          </a:xfrm>
          <a:prstGeom prst="pie">
            <a:avLst/>
          </a:prstGeom>
          <a:gradFill rotWithShape="0">
            <a:gsLst>
              <a:gs pos="0">
                <a:srgbClr val="30b0ce"/>
              </a:gs>
              <a:gs pos="100000">
                <a:srgbClr val="0c1e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Freeform 6"/>
          <p:cNvSpPr/>
          <p:nvPr/>
        </p:nvSpPr>
        <p:spPr>
          <a:xfrm>
            <a:off x="3263760" y="1870200"/>
            <a:ext cx="1170000" cy="1868400"/>
          </a:xfrm>
          <a:prstGeom prst="pie">
            <a:avLst/>
          </a:prstGeom>
          <a:gradFill rotWithShape="0">
            <a:gsLst>
              <a:gs pos="0">
                <a:srgbClr val="30b0ce"/>
              </a:gs>
              <a:gs pos="100000">
                <a:srgbClr val="0c1e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Freeform 7"/>
          <p:cNvSpPr/>
          <p:nvPr/>
        </p:nvSpPr>
        <p:spPr>
          <a:xfrm>
            <a:off x="1163520" y="2357280"/>
            <a:ext cx="3333960" cy="1403640"/>
          </a:xfrm>
          <a:prstGeom prst="pie">
            <a:avLst/>
          </a:prstGeom>
          <a:gradFill rotWithShape="0">
            <a:gsLst>
              <a:gs pos="0">
                <a:srgbClr val="30b0ce"/>
              </a:gs>
              <a:gs pos="100000">
                <a:srgbClr val="0c1e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Freeform 8"/>
          <p:cNvSpPr/>
          <p:nvPr/>
        </p:nvSpPr>
        <p:spPr>
          <a:xfrm>
            <a:off x="3544920" y="2389320"/>
            <a:ext cx="2116080" cy="1463400"/>
          </a:xfrm>
          <a:prstGeom prst="pie">
            <a:avLst/>
          </a:prstGeom>
          <a:gradFill rotWithShape="0">
            <a:gsLst>
              <a:gs pos="0">
                <a:srgbClr val="30b0ce"/>
              </a:gs>
              <a:gs pos="100000">
                <a:srgbClr val="0c1e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Freeform 9"/>
          <p:cNvSpPr/>
          <p:nvPr/>
        </p:nvSpPr>
        <p:spPr>
          <a:xfrm>
            <a:off x="4543560" y="2368440"/>
            <a:ext cx="3560760" cy="1424160"/>
          </a:xfrm>
          <a:prstGeom prst="pie">
            <a:avLst/>
          </a:prstGeom>
          <a:gradFill rotWithShape="0">
            <a:gsLst>
              <a:gs pos="0">
                <a:srgbClr val="30b0ce"/>
              </a:gs>
              <a:gs pos="100000">
                <a:srgbClr val="0c1e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625320" y="1677960"/>
            <a:ext cx="8020080" cy="546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7ca6"/>
              </a:gs>
              <a:gs pos="50000">
                <a:srgbClr val="0099cc"/>
              </a:gs>
              <a:gs pos="100000">
                <a:srgbClr val="007ca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63" name="AutoShape 11"/>
          <p:cNvGrpSpPr/>
          <p:nvPr/>
        </p:nvGrpSpPr>
        <p:grpSpPr>
          <a:xfrm>
            <a:off x="695160" y="1122480"/>
            <a:ext cx="7869240" cy="1199880"/>
            <a:chOff x="695160" y="1122480"/>
            <a:chExt cx="7869240" cy="1199880"/>
          </a:xfrm>
        </p:grpSpPr>
        <p:pic>
          <p:nvPicPr>
            <p:cNvPr id="64" name="AutoShape 11" descr=""/>
            <p:cNvPicPr/>
            <p:nvPr/>
          </p:nvPicPr>
          <p:blipFill>
            <a:blip r:embed="rId1"/>
            <a:stretch/>
          </p:blipFill>
          <p:spPr>
            <a:xfrm>
              <a:off x="695160" y="1122480"/>
              <a:ext cx="786924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887400" y="1314360"/>
              <a:ext cx="7494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“</a:t>
              </a:r>
              <a:r>
                <a:rPr b="1" lang="ko-KR" sz="2400" spc="-1" strike="noStrike">
                  <a:solidFill>
                    <a:srgbClr val="333399"/>
                  </a:solidFill>
                  <a:latin typeface="Arial"/>
                </a:rPr>
                <a:t>교육전문가에 의한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,</a:t>
              </a:r>
              <a:r>
                <a:rPr b="1" lang="ko-KR" sz="2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ko-KR" sz="2400" spc="-1" strike="noStrike">
                  <a:solidFill>
                    <a:srgbClr val="333399"/>
                  </a:solidFill>
                  <a:latin typeface="Arial"/>
                </a:rPr>
                <a:t>참여적이고 개인화된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,</a:t>
              </a:r>
              <a:r>
                <a:rPr b="1" lang="ko-KR" sz="2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‘</a:t>
              </a:r>
              <a:r>
                <a:rPr b="1" lang="ko-KR" sz="2400" spc="-1" strike="noStrike">
                  <a:solidFill>
                    <a:srgbClr val="333399"/>
                  </a:solidFill>
                  <a:latin typeface="Arial"/>
                </a:rPr>
                <a:t>흐름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’</a:t>
              </a:r>
              <a:r>
                <a:rPr b="1" lang="ko-KR" sz="2400" spc="-1" strike="noStrike">
                  <a:solidFill>
                    <a:srgbClr val="333399"/>
                  </a:solidFill>
                  <a:latin typeface="Arial"/>
                </a:rPr>
                <a:t> 컨텐츠의 생산적 관리 환경의 필요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”</a:t>
              </a:r>
              <a:endParaRPr b="1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</p:grpSp>
      <p:sp>
        <p:nvSpPr>
          <p:cNvPr id="66" name="Rectangle 12"/>
          <p:cNvSpPr/>
          <p:nvPr/>
        </p:nvSpPr>
        <p:spPr>
          <a:xfrm>
            <a:off x="2681280" y="2492280"/>
            <a:ext cx="3906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3416400" y="3141720"/>
            <a:ext cx="2458800" cy="23637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AutoShape 15"/>
          <p:cNvSpPr/>
          <p:nvPr/>
        </p:nvSpPr>
        <p:spPr>
          <a:xfrm>
            <a:off x="3489480" y="3213000"/>
            <a:ext cx="2282760" cy="568440"/>
          </a:xfrm>
          <a:prstGeom prst="roundRect">
            <a:avLst>
              <a:gd name="adj" fmla="val 1398"/>
            </a:avLst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개인화된 컨텐츠 기반에서 장기적인 논술교육 환경의 필요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AutoShape 16"/>
          <p:cNvSpPr/>
          <p:nvPr/>
        </p:nvSpPr>
        <p:spPr>
          <a:xfrm>
            <a:off x="3489480" y="3846600"/>
            <a:ext cx="2282760" cy="569880"/>
          </a:xfrm>
          <a:prstGeom prst="roundRect">
            <a:avLst>
              <a:gd name="adj" fmla="val 1398"/>
            </a:avLst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부모님</a:t>
            </a:r>
            <a:r>
              <a:rPr b="0" lang="en-US" sz="1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, </a:t>
            </a:r>
            <a:r>
              <a:rPr b="0" lang="ko-KR" sz="1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교우</a:t>
            </a:r>
            <a:r>
              <a:rPr b="0" lang="en-US" sz="1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, </a:t>
            </a:r>
            <a:r>
              <a:rPr b="0" lang="ko-KR" sz="1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선생님과의 다양한 의사소통 교육흐름이 필요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AutoShape 17"/>
          <p:cNvSpPr/>
          <p:nvPr/>
        </p:nvSpPr>
        <p:spPr>
          <a:xfrm>
            <a:off x="3489480" y="4481640"/>
            <a:ext cx="2282760" cy="573120"/>
          </a:xfrm>
          <a:prstGeom prst="roundRect">
            <a:avLst>
              <a:gd name="adj" fmla="val 1398"/>
            </a:avLst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marL="95400" indent="-95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교육전문가가 직접적으로 개인화된 흐름기반 교육을 생산 가능한 환경 필요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AutoShape 22"/>
          <p:cNvSpPr/>
          <p:nvPr/>
        </p:nvSpPr>
        <p:spPr>
          <a:xfrm>
            <a:off x="3003480" y="3583080"/>
            <a:ext cx="479520" cy="1463760"/>
          </a:xfrm>
          <a:prstGeom prst="rightArrow">
            <a:avLst>
              <a:gd name="adj1" fmla="val 62500"/>
              <a:gd name="adj2" fmla="val 50454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AutoShape 23"/>
          <p:cNvSpPr/>
          <p:nvPr/>
        </p:nvSpPr>
        <p:spPr>
          <a:xfrm rot="10800000">
            <a:off x="5796000" y="3583080"/>
            <a:ext cx="504720" cy="1463760"/>
          </a:xfrm>
          <a:prstGeom prst="rightArrow">
            <a:avLst>
              <a:gd name="adj1" fmla="val 62500"/>
              <a:gd name="adj2" fmla="val 50454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4120560" y="5099040"/>
            <a:ext cx="1070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견고딕"/>
                <a:ea typeface="HY견고딕"/>
              </a:rPr>
              <a:t>사업의 필요성 </a:t>
            </a:r>
            <a:endParaRPr b="1" lang="en-US" sz="17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Rectangle 26"/>
          <p:cNvSpPr/>
          <p:nvPr/>
        </p:nvSpPr>
        <p:spPr>
          <a:xfrm>
            <a:off x="568440" y="3141720"/>
            <a:ext cx="2458800" cy="23637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  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AutoShape 27"/>
          <p:cNvSpPr/>
          <p:nvPr/>
        </p:nvSpPr>
        <p:spPr>
          <a:xfrm>
            <a:off x="642960" y="3218040"/>
            <a:ext cx="2286000" cy="568080"/>
          </a:xfrm>
          <a:prstGeom prst="roundRect">
            <a:avLst>
              <a:gd name="adj" fmla="val 1398"/>
            </a:avLst>
          </a:prstGeom>
          <a:solidFill>
            <a:srgbClr val="336699"/>
          </a:solidFill>
          <a:ln w="0">
            <a:noFill/>
          </a:ln>
          <a:effectLst>
            <a:outerShdw dist="17819" dir="2700000" blurRad="0" rotWithShape="0">
              <a:srgbClr val="1f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marL="95400" indent="-954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단기간 암기식의 입시위주 논술교육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AutoShape 28"/>
          <p:cNvSpPr/>
          <p:nvPr/>
        </p:nvSpPr>
        <p:spPr>
          <a:xfrm>
            <a:off x="641520" y="3846600"/>
            <a:ext cx="2280960" cy="569880"/>
          </a:xfrm>
          <a:prstGeom prst="roundRect">
            <a:avLst>
              <a:gd name="adj" fmla="val 1398"/>
            </a:avLst>
          </a:prstGeom>
          <a:solidFill>
            <a:srgbClr val="336699"/>
          </a:solidFill>
          <a:ln w="0">
            <a:noFill/>
          </a:ln>
          <a:effectLst>
            <a:outerShdw dist="17819" dir="2700000" blurRad="0" rotWithShape="0">
              <a:srgbClr val="1f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면접</a:t>
            </a:r>
            <a:r>
              <a:rPr b="0" lang="en-US" sz="1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,</a:t>
            </a:r>
            <a:r>
              <a:rPr b="0" lang="ko-KR" sz="1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PT, </a:t>
            </a:r>
            <a:r>
              <a:rPr b="0" lang="ko-KR" sz="1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창의적 사고 등의 바탕으로써 논술교육의 재조명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AutoShape 29"/>
          <p:cNvSpPr/>
          <p:nvPr/>
        </p:nvSpPr>
        <p:spPr>
          <a:xfrm>
            <a:off x="641520" y="4481640"/>
            <a:ext cx="2280960" cy="573120"/>
          </a:xfrm>
          <a:prstGeom prst="roundRect">
            <a:avLst>
              <a:gd name="adj" fmla="val 1398"/>
            </a:avLst>
          </a:prstGeom>
          <a:solidFill>
            <a:srgbClr val="336699"/>
          </a:solidFill>
          <a:ln w="0">
            <a:noFill/>
          </a:ln>
          <a:effectLst>
            <a:outerShdw dist="17819" dir="2700000" blurRad="0" rotWithShape="0">
              <a:srgbClr val="1f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타인과 소통하고 의사를 전달하는 교육법의 필요성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1460880" y="5099040"/>
            <a:ext cx="884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견고딕"/>
                <a:ea typeface="HY견고딕"/>
              </a:rPr>
              <a:t>사회적 환경</a:t>
            </a:r>
            <a:endParaRPr b="1" lang="en-US" sz="17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Rectangle 41"/>
          <p:cNvSpPr/>
          <p:nvPr/>
        </p:nvSpPr>
        <p:spPr>
          <a:xfrm>
            <a:off x="374760" y="189000"/>
            <a:ext cx="822960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07960" indent="-50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99"/>
                </a:solidFill>
                <a:latin typeface="Arial"/>
              </a:rPr>
              <a:t>프로젝트 수행 배경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Line 42"/>
          <p:cNvSpPr/>
          <p:nvPr/>
        </p:nvSpPr>
        <p:spPr>
          <a:xfrm>
            <a:off x="395280" y="906480"/>
            <a:ext cx="784872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81" name="Group 44"/>
          <p:cNvGrpSpPr/>
          <p:nvPr/>
        </p:nvGrpSpPr>
        <p:grpSpPr>
          <a:xfrm>
            <a:off x="6215040" y="3141720"/>
            <a:ext cx="2500200" cy="2363760"/>
            <a:chOff x="6215040" y="3141720"/>
            <a:chExt cx="2500200" cy="2363760"/>
          </a:xfrm>
        </p:grpSpPr>
        <p:sp>
          <p:nvSpPr>
            <p:cNvPr id="82" name="Rectangle 18"/>
            <p:cNvSpPr/>
            <p:nvPr/>
          </p:nvSpPr>
          <p:spPr>
            <a:xfrm>
              <a:off x="6248520" y="3141720"/>
              <a:ext cx="2458800" cy="2363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fffff"/>
                </a:gs>
                <a:gs pos="100000">
                  <a:srgbClr val="c0c0c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    </a:t>
              </a:r>
              <a:endParaRPr b="1" lang="en-US" sz="18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83" name="AutoShape 19"/>
            <p:cNvSpPr/>
            <p:nvPr/>
          </p:nvSpPr>
          <p:spPr>
            <a:xfrm>
              <a:off x="6321600" y="3859200"/>
              <a:ext cx="2282760" cy="569880"/>
            </a:xfrm>
            <a:prstGeom prst="roundRect">
              <a:avLst>
                <a:gd name="adj" fmla="val 1398"/>
              </a:avLst>
            </a:prstGeom>
            <a:solidFill>
              <a:srgbClr val="336699"/>
            </a:solidFill>
            <a:ln w="0">
              <a:noFill/>
            </a:ln>
            <a:effectLst>
              <a:outerShdw dist="17819" dir="2700000" blurRad="0" rotWithShape="0">
                <a:srgbClr val="1f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복잡한 </a:t>
              </a:r>
              <a:r>
                <a:rPr b="0" lang="en-US" sz="12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Rule DB </a:t>
              </a:r>
              <a:r>
                <a:rPr b="0" lang="ko-KR" sz="12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를 통한 개인화는 생산적이고 가시적인 관리를 어렵게 함</a:t>
              </a:r>
              <a:endParaRPr b="1" lang="en-US" sz="12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84" name="AutoShape 20"/>
            <p:cNvSpPr/>
            <p:nvPr/>
          </p:nvSpPr>
          <p:spPr>
            <a:xfrm>
              <a:off x="6357960" y="3214800"/>
              <a:ext cx="2282760" cy="568080"/>
            </a:xfrm>
            <a:prstGeom prst="roundRect">
              <a:avLst>
                <a:gd name="adj" fmla="val 1398"/>
              </a:avLst>
            </a:prstGeom>
            <a:solidFill>
              <a:srgbClr val="336699"/>
            </a:solidFill>
            <a:ln w="0">
              <a:noFill/>
            </a:ln>
            <a:effectLst>
              <a:outerShdw dist="17819" dir="2700000" blurRad="0" rotWithShape="0">
                <a:srgbClr val="1f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단편적 흐름의 컨텐츠만을 생산 가능한 현 운영환경</a:t>
              </a:r>
              <a:endParaRPr b="1" lang="en-US" sz="12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85" name="AutoShape 21"/>
            <p:cNvSpPr/>
            <p:nvPr/>
          </p:nvSpPr>
          <p:spPr>
            <a:xfrm>
              <a:off x="6321600" y="4483080"/>
              <a:ext cx="2282760" cy="569880"/>
            </a:xfrm>
            <a:prstGeom prst="roundRect">
              <a:avLst>
                <a:gd name="adj" fmla="val 1398"/>
              </a:avLst>
            </a:prstGeom>
            <a:solidFill>
              <a:srgbClr val="336699"/>
            </a:solidFill>
            <a:ln w="0">
              <a:noFill/>
            </a:ln>
            <a:effectLst>
              <a:outerShdw dist="17819" dir="2700000" blurRad="0" rotWithShape="0">
                <a:srgbClr val="1f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86" name="Text Box 25"/>
            <p:cNvSpPr/>
            <p:nvPr/>
          </p:nvSpPr>
          <p:spPr>
            <a:xfrm>
              <a:off x="7042680" y="5099040"/>
              <a:ext cx="8848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기술적 환경</a:t>
              </a:r>
              <a:endParaRPr b="1" lang="en-US" sz="17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87" name="Text Box 34"/>
            <p:cNvSpPr/>
            <p:nvPr/>
          </p:nvSpPr>
          <p:spPr>
            <a:xfrm>
              <a:off x="6286680" y="3184560"/>
              <a:ext cx="235728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marL="95400" indent="-9540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88" name="Text Box 35"/>
            <p:cNvSpPr/>
            <p:nvPr/>
          </p:nvSpPr>
          <p:spPr>
            <a:xfrm>
              <a:off x="6257880" y="3840120"/>
              <a:ext cx="2346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marL="95400" indent="-954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89" name="Text Box 36"/>
            <p:cNvSpPr/>
            <p:nvPr/>
          </p:nvSpPr>
          <p:spPr>
            <a:xfrm>
              <a:off x="6215040" y="4469760"/>
              <a:ext cx="250020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marL="95400" indent="-95400"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참여자 간의 다양한 의사소통 기능의 흐름 생성</a:t>
              </a:r>
              <a:r>
                <a:rPr b="0" lang="en-US" sz="12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,</a:t>
              </a:r>
              <a:r>
                <a:rPr b="0" lang="ko-KR" sz="12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 </a:t>
              </a:r>
              <a:r>
                <a:rPr b="0" lang="ko-KR" sz="12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제어 불가</a:t>
              </a:r>
              <a:endParaRPr b="1" lang="en-US" sz="1200" spc="-1" strike="noStrike">
                <a:solidFill>
                  <a:srgbClr val="3333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15"/>
          <p:cNvSpPr/>
          <p:nvPr/>
        </p:nvSpPr>
        <p:spPr>
          <a:xfrm>
            <a:off x="374760" y="189000"/>
            <a:ext cx="822960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07960" indent="-50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99"/>
                </a:solidFill>
                <a:latin typeface="Arial"/>
              </a:rPr>
              <a:t>현황 분석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Line 116"/>
          <p:cNvSpPr/>
          <p:nvPr/>
        </p:nvSpPr>
        <p:spPr>
          <a:xfrm>
            <a:off x="395280" y="906480"/>
            <a:ext cx="784872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2" name="그룹 43"/>
          <p:cNvGrpSpPr/>
          <p:nvPr/>
        </p:nvGrpSpPr>
        <p:grpSpPr>
          <a:xfrm>
            <a:off x="500040" y="1357200"/>
            <a:ext cx="5857920" cy="3214800"/>
            <a:chOff x="500040" y="1357200"/>
            <a:chExt cx="5857920" cy="3214800"/>
          </a:xfrm>
        </p:grpSpPr>
        <p:grpSp>
          <p:nvGrpSpPr>
            <p:cNvPr id="93" name="그룹 125"/>
            <p:cNvGrpSpPr/>
            <p:nvPr/>
          </p:nvGrpSpPr>
          <p:grpSpPr>
            <a:xfrm>
              <a:off x="500040" y="1357200"/>
              <a:ext cx="5857920" cy="3214800"/>
              <a:chOff x="500040" y="1357200"/>
              <a:chExt cx="5857920" cy="3214800"/>
            </a:xfrm>
          </p:grpSpPr>
          <p:sp>
            <p:nvSpPr>
              <p:cNvPr id="94" name="직사각형 103"/>
              <p:cNvSpPr/>
              <p:nvPr/>
            </p:nvSpPr>
            <p:spPr>
              <a:xfrm>
                <a:off x="871200" y="1357200"/>
                <a:ext cx="5486760" cy="32148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Process</a:t>
                </a:r>
                <a:endParaRPr b="1" lang="en-US" sz="1200" spc="-1" strike="noStrike">
                  <a:solidFill>
                    <a:srgbClr val="333399"/>
                  </a:solidFill>
                  <a:latin typeface="Arial"/>
                </a:endParaRPr>
              </a:p>
            </p:txBody>
          </p:sp>
          <p:sp>
            <p:nvSpPr>
              <p:cNvPr id="95" name="직사각형 106"/>
              <p:cNvSpPr/>
              <p:nvPr/>
            </p:nvSpPr>
            <p:spPr>
              <a:xfrm>
                <a:off x="500040" y="1357200"/>
                <a:ext cx="371160" cy="3214800"/>
              </a:xfrm>
              <a:prstGeom prst="rect">
                <a:avLst/>
              </a:prstGeom>
              <a:solidFill>
                <a:srgbClr val="ffebf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333399"/>
                    </a:solidFill>
                    <a:latin typeface="돋움"/>
                    <a:ea typeface="돋움"/>
                  </a:rPr>
                  <a:t>서비스</a:t>
                </a:r>
                <a:endParaRPr b="1" lang="en-US" sz="1200" spc="-1" strike="noStrike">
                  <a:solidFill>
                    <a:srgbClr val="333399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333399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333399"/>
                    </a:solidFill>
                    <a:latin typeface="돋움"/>
                    <a:ea typeface="돋움"/>
                  </a:rPr>
                  <a:t>흐름</a:t>
                </a:r>
                <a:endParaRPr b="1" lang="en-US" sz="1200" spc="-1" strike="noStrike">
                  <a:solidFill>
                    <a:srgbClr val="333399"/>
                  </a:solidFill>
                  <a:latin typeface="Arial"/>
                </a:endParaRPr>
              </a:p>
            </p:txBody>
          </p:sp>
        </p:grpSp>
        <p:sp>
          <p:nvSpPr>
            <p:cNvPr id="96" name="직사각형 109"/>
            <p:cNvSpPr/>
            <p:nvPr/>
          </p:nvSpPr>
          <p:spPr>
            <a:xfrm>
              <a:off x="5427720" y="1642680"/>
              <a:ext cx="836640" cy="1785960"/>
            </a:xfrm>
            <a:prstGeom prst="rect">
              <a:avLst/>
            </a:prstGeom>
            <a:gradFill rotWithShape="0">
              <a:gsLst>
                <a:gs pos="0">
                  <a:srgbClr val="cfffff"/>
                </a:gs>
                <a:gs pos="100000">
                  <a:srgbClr val="f0ffff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333399"/>
                  </a:solidFill>
                  <a:latin typeface="돋움"/>
                  <a:ea typeface="돋움"/>
                </a:rPr>
                <a:t>학생</a:t>
              </a:r>
              <a:endParaRPr b="1" lang="en-US" sz="1200" spc="-1" strike="noStrike">
                <a:solidFill>
                  <a:srgbClr val="33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33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333399"/>
                  </a:solidFill>
                  <a:latin typeface="돋움"/>
                  <a:ea typeface="돋움"/>
                </a:rPr>
                <a:t>지도강사</a:t>
              </a:r>
              <a:endParaRPr b="1" lang="en-US" sz="12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97" name="직사각형 110"/>
            <p:cNvSpPr/>
            <p:nvPr/>
          </p:nvSpPr>
          <p:spPr>
            <a:xfrm>
              <a:off x="965160" y="3714840"/>
              <a:ext cx="4091040" cy="785880"/>
            </a:xfrm>
            <a:prstGeom prst="rect">
              <a:avLst/>
            </a:prstGeom>
            <a:gradFill rotWithShape="0">
              <a:gsLst>
                <a:gs pos="0">
                  <a:srgbClr val="cfffff"/>
                </a:gs>
                <a:gs pos="100000">
                  <a:srgbClr val="f0ffff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grpSp>
          <p:nvGrpSpPr>
            <p:cNvPr id="98" name="그룹 127"/>
            <p:cNvGrpSpPr/>
            <p:nvPr/>
          </p:nvGrpSpPr>
          <p:grpSpPr>
            <a:xfrm>
              <a:off x="964800" y="1642680"/>
              <a:ext cx="4091400" cy="1785960"/>
              <a:chOff x="964800" y="1642680"/>
              <a:chExt cx="4091400" cy="1785960"/>
            </a:xfrm>
          </p:grpSpPr>
          <p:sp>
            <p:nvSpPr>
              <p:cNvPr id="99" name="직사각형 108"/>
              <p:cNvSpPr/>
              <p:nvPr/>
            </p:nvSpPr>
            <p:spPr>
              <a:xfrm>
                <a:off x="964800" y="1642680"/>
                <a:ext cx="4091400" cy="1785960"/>
              </a:xfrm>
              <a:prstGeom prst="rect">
                <a:avLst/>
              </a:prstGeom>
              <a:gradFill rotWithShape="0">
                <a:gsLst>
                  <a:gs pos="0">
                    <a:srgbClr val="cfffff"/>
                  </a:gs>
                  <a:gs pos="100000">
                    <a:srgbClr val="f0ffff"/>
                  </a:gs>
                </a:gsLst>
                <a:lin ang="16200000"/>
              </a:gradFill>
              <a:ln w="9360">
                <a:solidFill>
                  <a:srgbClr val="b6dcd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Arial"/>
                </a:endParaRPr>
              </a:p>
            </p:txBody>
          </p:sp>
          <p:grpSp>
            <p:nvGrpSpPr>
              <p:cNvPr id="100" name="그룹 126"/>
              <p:cNvGrpSpPr/>
              <p:nvPr/>
            </p:nvGrpSpPr>
            <p:grpSpPr>
              <a:xfrm>
                <a:off x="1057320" y="1713960"/>
                <a:ext cx="3812760" cy="1643400"/>
                <a:chOff x="1057320" y="1713960"/>
                <a:chExt cx="3812760" cy="1643400"/>
              </a:xfrm>
            </p:grpSpPr>
            <p:grpSp>
              <p:nvGrpSpPr>
                <p:cNvPr id="101" name="정육면체 111"/>
                <p:cNvGrpSpPr/>
                <p:nvPr/>
              </p:nvGrpSpPr>
              <p:grpSpPr>
                <a:xfrm>
                  <a:off x="1057320" y="1713960"/>
                  <a:ext cx="1249200" cy="720360"/>
                  <a:chOff x="1057320" y="1713960"/>
                  <a:chExt cx="1249200" cy="720360"/>
                </a:xfrm>
              </p:grpSpPr>
              <p:pic>
                <p:nvPicPr>
                  <p:cNvPr id="102" name="정육면체 11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057320" y="1713960"/>
                    <a:ext cx="1249200" cy="72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" name=""/>
                  <p:cNvSpPr/>
                  <p:nvPr/>
                </p:nvSpPr>
                <p:spPr>
                  <a:xfrm>
                    <a:off x="1119240" y="1880640"/>
                    <a:ext cx="965880" cy="445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ko-KR" sz="1200" spc="-1" strike="noStrike">
                        <a:solidFill>
                          <a:srgbClr val="333399"/>
                        </a:solidFill>
                        <a:latin typeface="돋움"/>
                        <a:ea typeface="돋움"/>
                      </a:rPr>
                      <a:t>선택진단  시작</a:t>
                    </a:r>
                    <a:endParaRPr b="1" lang="en-US" sz="1200" spc="-1" strike="noStrike">
                      <a:solidFill>
                        <a:srgbClr val="3333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정육면체 112"/>
                <p:cNvGrpSpPr/>
                <p:nvPr/>
              </p:nvGrpSpPr>
              <p:grpSpPr>
                <a:xfrm>
                  <a:off x="3208320" y="1713960"/>
                  <a:ext cx="1661760" cy="720360"/>
                  <a:chOff x="3208320" y="1713960"/>
                  <a:chExt cx="1661760" cy="720360"/>
                </a:xfrm>
              </p:grpSpPr>
              <p:pic>
                <p:nvPicPr>
                  <p:cNvPr id="105" name="정육면체 1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8320" y="1713960"/>
                    <a:ext cx="1661760" cy="72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6" name=""/>
                  <p:cNvSpPr/>
                  <p:nvPr/>
                </p:nvSpPr>
                <p:spPr>
                  <a:xfrm>
                    <a:off x="3274560" y="1880640"/>
                    <a:ext cx="1374840" cy="445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ko-KR" sz="1200" spc="-1" strike="noStrike">
                        <a:solidFill>
                          <a:srgbClr val="333399"/>
                        </a:solidFill>
                        <a:latin typeface="돋움"/>
                        <a:ea typeface="돋움"/>
                      </a:rPr>
                      <a:t>채점</a:t>
                    </a:r>
                    <a:r>
                      <a:rPr b="1" lang="en-US" sz="1200" spc="-1" strike="noStrike">
                        <a:solidFill>
                          <a:srgbClr val="333399"/>
                        </a:solidFill>
                        <a:latin typeface="돋움"/>
                        <a:ea typeface="돋움"/>
                      </a:rPr>
                      <a:t>,</a:t>
                    </a:r>
                    <a:r>
                      <a:rPr b="1" lang="ko-KR" sz="1200" spc="-1" strike="noStrike">
                        <a:solidFill>
                          <a:srgbClr val="333399"/>
                        </a:solidFill>
                        <a:latin typeface="돋움"/>
                        <a:ea typeface="돋움"/>
                      </a:rPr>
                      <a:t> </a:t>
                    </a:r>
                    <a:r>
                      <a:rPr b="1" lang="ko-KR" sz="1200" spc="-1" strike="noStrike">
                        <a:solidFill>
                          <a:srgbClr val="333399"/>
                        </a:solidFill>
                        <a:latin typeface="돋움"/>
                        <a:ea typeface="돋움"/>
                      </a:rPr>
                      <a:t>평가 및 학습추천</a:t>
                    </a:r>
                    <a:endParaRPr b="1" lang="en-US" sz="1200" spc="-1" strike="noStrike">
                      <a:solidFill>
                        <a:srgbClr val="3333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정육면체 113"/>
                <p:cNvGrpSpPr/>
                <p:nvPr/>
              </p:nvGrpSpPr>
              <p:grpSpPr>
                <a:xfrm>
                  <a:off x="1746720" y="2637000"/>
                  <a:ext cx="1219680" cy="720360"/>
                  <a:chOff x="1746720" y="2637000"/>
                  <a:chExt cx="1219680" cy="720360"/>
                </a:xfrm>
              </p:grpSpPr>
              <p:pic>
                <p:nvPicPr>
                  <p:cNvPr id="108" name="정육면체 1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720" y="2637000"/>
                    <a:ext cx="1219680" cy="72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9" name=""/>
                  <p:cNvSpPr/>
                  <p:nvPr/>
                </p:nvSpPr>
                <p:spPr>
                  <a:xfrm>
                    <a:off x="1811880" y="2804040"/>
                    <a:ext cx="932400" cy="445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ko-KR" sz="1200" spc="-1" strike="noStrike">
                        <a:solidFill>
                          <a:srgbClr val="333399"/>
                        </a:solidFill>
                        <a:latin typeface="돋움"/>
                        <a:ea typeface="돋움"/>
                      </a:rPr>
                      <a:t>다음단계  학습</a:t>
                    </a:r>
                    <a:endParaRPr b="1" lang="en-US" sz="1200" spc="-1" strike="noStrike">
                      <a:solidFill>
                        <a:srgbClr val="3333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정육면체 114"/>
                <p:cNvGrpSpPr/>
                <p:nvPr/>
              </p:nvGrpSpPr>
              <p:grpSpPr>
                <a:xfrm>
                  <a:off x="3567960" y="2637000"/>
                  <a:ext cx="1231560" cy="720360"/>
                  <a:chOff x="3567960" y="2637000"/>
                  <a:chExt cx="1231560" cy="720360"/>
                </a:xfrm>
              </p:grpSpPr>
              <p:pic>
                <p:nvPicPr>
                  <p:cNvPr id="111" name="정육면체 1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7960" y="2637000"/>
                    <a:ext cx="1231560" cy="72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2" name=""/>
                  <p:cNvSpPr/>
                  <p:nvPr/>
                </p:nvSpPr>
                <p:spPr>
                  <a:xfrm>
                    <a:off x="3633840" y="2804040"/>
                    <a:ext cx="945000" cy="445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ko-KR" sz="1200" spc="-1" strike="noStrike">
                        <a:solidFill>
                          <a:srgbClr val="333399"/>
                        </a:solidFill>
                        <a:latin typeface="돋움"/>
                        <a:ea typeface="돋움"/>
                      </a:rPr>
                      <a:t>첨삭지도  학습</a:t>
                    </a:r>
                    <a:endParaRPr b="1" lang="en-US" sz="1200" spc="-1" strike="noStrike">
                      <a:solidFill>
                        <a:srgbClr val="333399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113" name="직선 화살표 연결선 116"/>
                <p:cNvCxnSpPr/>
                <p:nvPr/>
              </p:nvCxnSpPr>
              <p:spPr>
                <a:xfrm>
                  <a:off x="2120400" y="2103120"/>
                  <a:ext cx="1154880" cy="2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114" name="Shape 118"/>
                <p:cNvCxnSpPr/>
                <p:nvPr/>
              </p:nvCxnSpPr>
              <p:spPr>
                <a:xfrm flipH="1">
                  <a:off x="1811880" y="2102760"/>
                  <a:ext cx="2872800" cy="924120"/>
                </a:xfrm>
                <a:prstGeom prst="curvedConnector5">
                  <a:avLst>
                    <a:gd name="adj1" fmla="val -5965"/>
                    <a:gd name="adj2" fmla="val 20966"/>
                    <a:gd name="adj3" fmla="val -5965"/>
                  </a:avLst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arrow" w="med"/>
                </a:ln>
              </p:spPr>
            </p:cxnSp>
            <p:cxnSp>
              <p:nvCxnSpPr>
                <p:cNvPr id="115" name="직선 화살표 연결선 120"/>
                <p:cNvCxnSpPr/>
                <p:nvPr/>
              </p:nvCxnSpPr>
              <p:spPr>
                <a:xfrm>
                  <a:off x="2779200" y="3026880"/>
                  <a:ext cx="855000" cy="2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</p:grpSp>
        <p:sp>
          <p:nvSpPr>
            <p:cNvPr id="116" name="TextBox 128"/>
            <p:cNvSpPr/>
            <p:nvPr/>
          </p:nvSpPr>
          <p:spPr>
            <a:xfrm>
              <a:off x="1004760" y="3429000"/>
              <a:ext cx="84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Contents</a:t>
              </a:r>
              <a:endParaRPr b="1" lang="en-US" sz="12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17" name="TextBox 129"/>
            <p:cNvSpPr/>
            <p:nvPr/>
          </p:nvSpPr>
          <p:spPr>
            <a:xfrm>
              <a:off x="5442840" y="1357200"/>
              <a:ext cx="68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People</a:t>
              </a:r>
              <a:endParaRPr b="1" lang="en-US" sz="1200" spc="-1" strike="noStrike">
                <a:solidFill>
                  <a:srgbClr val="333399"/>
                </a:solidFill>
                <a:latin typeface="Arial"/>
              </a:endParaRPr>
            </a:p>
          </p:txBody>
        </p:sp>
        <p:grpSp>
          <p:nvGrpSpPr>
            <p:cNvPr id="118" name="모서리가 둥근 직사각형 133"/>
            <p:cNvGrpSpPr/>
            <p:nvPr/>
          </p:nvGrpSpPr>
          <p:grpSpPr>
            <a:xfrm>
              <a:off x="999720" y="3895560"/>
              <a:ext cx="1133640" cy="463320"/>
              <a:chOff x="999720" y="3895560"/>
              <a:chExt cx="1133640" cy="463320"/>
            </a:xfrm>
          </p:grpSpPr>
          <p:pic>
            <p:nvPicPr>
              <p:cNvPr id="119" name="모서리가 둥근 직사각형 133" descr=""/>
              <p:cNvPicPr/>
              <p:nvPr/>
            </p:nvPicPr>
            <p:blipFill>
              <a:blip r:embed="rId5"/>
              <a:stretch/>
            </p:blipFill>
            <p:spPr>
              <a:xfrm>
                <a:off x="999720" y="3895560"/>
                <a:ext cx="113364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1075320" y="3946680"/>
                <a:ext cx="98784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돋움"/>
                    <a:ea typeface="돋움"/>
                  </a:rPr>
                  <a:t>테스트</a:t>
                </a:r>
                <a:endParaRPr b="1" lang="en-US" sz="1200" spc="-1" strike="noStrike">
                  <a:solidFill>
                    <a:srgbClr val="333399"/>
                  </a:solidFill>
                  <a:latin typeface="Arial"/>
                </a:endParaRPr>
              </a:p>
            </p:txBody>
          </p:sp>
        </p:grpSp>
        <p:grpSp>
          <p:nvGrpSpPr>
            <p:cNvPr id="121" name="모서리가 둥근 직사각형 134"/>
            <p:cNvGrpSpPr/>
            <p:nvPr/>
          </p:nvGrpSpPr>
          <p:grpSpPr>
            <a:xfrm>
              <a:off x="2206800" y="3895560"/>
              <a:ext cx="1493280" cy="463320"/>
              <a:chOff x="2206800" y="3895560"/>
              <a:chExt cx="1493280" cy="463320"/>
            </a:xfrm>
          </p:grpSpPr>
          <p:pic>
            <p:nvPicPr>
              <p:cNvPr id="122" name="모서리가 둥근 직사각형 134" descr=""/>
              <p:cNvPicPr/>
              <p:nvPr/>
            </p:nvPicPr>
            <p:blipFill>
              <a:blip r:embed="rId6"/>
              <a:stretch/>
            </p:blipFill>
            <p:spPr>
              <a:xfrm>
                <a:off x="2206800" y="3895560"/>
                <a:ext cx="149328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2284200" y="3946680"/>
                <a:ext cx="13413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돋움"/>
                    <a:ea typeface="돋움"/>
                  </a:rPr>
                  <a:t>유형별 학습</a:t>
                </a:r>
                <a:endParaRPr b="1" lang="en-US" sz="1200" spc="-1" strike="noStrike">
                  <a:solidFill>
                    <a:srgbClr val="333399"/>
                  </a:solidFill>
                  <a:latin typeface="Arial"/>
                </a:endParaRPr>
              </a:p>
            </p:txBody>
          </p:sp>
        </p:grpSp>
        <p:grpSp>
          <p:nvGrpSpPr>
            <p:cNvPr id="124" name="모서리가 둥근 직사각형 135"/>
            <p:cNvGrpSpPr/>
            <p:nvPr/>
          </p:nvGrpSpPr>
          <p:grpSpPr>
            <a:xfrm>
              <a:off x="3785760" y="3895560"/>
              <a:ext cx="1212840" cy="463320"/>
              <a:chOff x="3785760" y="3895560"/>
              <a:chExt cx="1212840" cy="463320"/>
            </a:xfrm>
          </p:grpSpPr>
          <p:pic>
            <p:nvPicPr>
              <p:cNvPr id="125" name="모서리가 둥근 직사각형 135" descr=""/>
              <p:cNvPicPr/>
              <p:nvPr/>
            </p:nvPicPr>
            <p:blipFill>
              <a:blip r:embed="rId7"/>
              <a:stretch/>
            </p:blipFill>
            <p:spPr>
              <a:xfrm>
                <a:off x="3785760" y="3895560"/>
                <a:ext cx="121284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3864960" y="3946680"/>
                <a:ext cx="10623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돋움"/>
                    <a:ea typeface="돋움"/>
                  </a:rPr>
                  <a:t>첨삭교제</a:t>
                </a:r>
                <a:endParaRPr b="1" lang="en-US" sz="1200" spc="-1" strike="noStrike">
                  <a:solidFill>
                    <a:srgbClr val="333399"/>
                  </a:solidFill>
                  <a:latin typeface="Arial"/>
                </a:endParaRPr>
              </a:p>
            </p:txBody>
          </p:sp>
        </p:grpSp>
        <p:sp>
          <p:nvSpPr>
            <p:cNvPr id="127" name="왼쪽/오른쪽 화살표 136"/>
            <p:cNvSpPr/>
            <p:nvPr/>
          </p:nvSpPr>
          <p:spPr>
            <a:xfrm>
              <a:off x="5056200" y="2143080"/>
              <a:ext cx="371160" cy="214200"/>
            </a:xfrm>
            <a:prstGeom prst="leftRightArrow">
              <a:avLst>
                <a:gd name="adj1" fmla="val 50000"/>
                <a:gd name="adj2" fmla="val 65059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28" name="왼쪽/오른쪽 화살표 137"/>
            <p:cNvSpPr/>
            <p:nvPr/>
          </p:nvSpPr>
          <p:spPr>
            <a:xfrm>
              <a:off x="5056200" y="2643120"/>
              <a:ext cx="371160" cy="214200"/>
            </a:xfrm>
            <a:prstGeom prst="leftRightArrow">
              <a:avLst>
                <a:gd name="adj1" fmla="val 50000"/>
                <a:gd name="adj2" fmla="val 65059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29" name="위쪽/아래쪽 화살표 138"/>
            <p:cNvSpPr/>
            <p:nvPr/>
          </p:nvSpPr>
          <p:spPr>
            <a:xfrm>
              <a:off x="2266920" y="3429000"/>
              <a:ext cx="185400" cy="285480"/>
            </a:xfrm>
            <a:prstGeom prst="upDownArrow">
              <a:avLst>
                <a:gd name="adj1" fmla="val 50000"/>
                <a:gd name="adj2" fmla="val 38445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30" name="위쪽/아래쪽 화살표 139"/>
            <p:cNvSpPr/>
            <p:nvPr/>
          </p:nvSpPr>
          <p:spPr>
            <a:xfrm>
              <a:off x="3660840" y="3429000"/>
              <a:ext cx="187200" cy="285480"/>
            </a:xfrm>
            <a:prstGeom prst="upDownArrow">
              <a:avLst>
                <a:gd name="adj1" fmla="val 50000"/>
                <a:gd name="adj2" fmla="val 384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</p:grpSp>
      <p:grpSp>
        <p:nvGrpSpPr>
          <p:cNvPr id="131" name="그룹 152"/>
          <p:cNvGrpSpPr/>
          <p:nvPr/>
        </p:nvGrpSpPr>
        <p:grpSpPr>
          <a:xfrm>
            <a:off x="500040" y="4862520"/>
            <a:ext cx="5857920" cy="1430280"/>
            <a:chOff x="500040" y="4862520"/>
            <a:chExt cx="5857920" cy="1430280"/>
          </a:xfrm>
        </p:grpSpPr>
        <p:sp>
          <p:nvSpPr>
            <p:cNvPr id="132" name="직사각형 104"/>
            <p:cNvSpPr/>
            <p:nvPr/>
          </p:nvSpPr>
          <p:spPr>
            <a:xfrm>
              <a:off x="871200" y="4862520"/>
              <a:ext cx="5486760" cy="1430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33" name="직사각형 107"/>
            <p:cNvSpPr/>
            <p:nvPr/>
          </p:nvSpPr>
          <p:spPr>
            <a:xfrm>
              <a:off x="500040" y="4862520"/>
              <a:ext cx="371160" cy="1430280"/>
            </a:xfrm>
            <a:prstGeom prst="rect">
              <a:avLst/>
            </a:prstGeom>
            <a:solidFill>
              <a:srgbClr val="ffebf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333399"/>
                  </a:solidFill>
                  <a:latin typeface="돋움"/>
                  <a:ea typeface="돋움"/>
                </a:rPr>
                <a:t>기반환경</a:t>
              </a:r>
              <a:endParaRPr b="1" lang="en-US" sz="1200" spc="-1" strike="noStrike">
                <a:solidFill>
                  <a:srgbClr val="333399"/>
                </a:solidFill>
                <a:latin typeface="Arial"/>
              </a:endParaRPr>
            </a:p>
          </p:txBody>
        </p:sp>
        <p:pic>
          <p:nvPicPr>
            <p:cNvPr id="134" name="Picture 105" descr="C:\Program Files\Microsoft Office\MEDIA\CAGCAT10\j0300520.gif"/>
            <p:cNvPicPr/>
            <p:nvPr/>
          </p:nvPicPr>
          <p:blipFill>
            <a:blip r:embed="rId8"/>
            <a:stretch/>
          </p:blipFill>
          <p:spPr>
            <a:xfrm>
              <a:off x="5335200" y="5005440"/>
              <a:ext cx="835920" cy="5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106" descr="C:\Program Files\Microsoft Office\MEDIA\CAGCAT10\j0301252.wmf"/>
            <p:cNvPicPr/>
            <p:nvPr/>
          </p:nvPicPr>
          <p:blipFill>
            <a:blip r:embed="rId9"/>
            <a:stretch/>
          </p:blipFill>
          <p:spPr>
            <a:xfrm flipH="1">
              <a:off x="1009080" y="5076720"/>
              <a:ext cx="978120" cy="6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순서도: 자기 디스크 143"/>
            <p:cNvSpPr/>
            <p:nvPr/>
          </p:nvSpPr>
          <p:spPr>
            <a:xfrm>
              <a:off x="3940200" y="5505480"/>
              <a:ext cx="1116000" cy="573120"/>
            </a:xfrm>
            <a:prstGeom prst="flowChartMagneticDisk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성향</a:t>
              </a:r>
              <a:r>
                <a:rPr b="1" lang="ko-KR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DB</a:t>
              </a:r>
              <a:endParaRPr b="1" lang="en-US" sz="12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37" name="TextBox 144"/>
            <p:cNvSpPr/>
            <p:nvPr/>
          </p:nvSpPr>
          <p:spPr>
            <a:xfrm>
              <a:off x="5335560" y="5573520"/>
              <a:ext cx="928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제작된 컨텐츠 반영</a:t>
              </a:r>
              <a:endParaRPr b="1" lang="en-US" sz="12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38" name="TextBox 145"/>
            <p:cNvSpPr/>
            <p:nvPr/>
          </p:nvSpPr>
          <p:spPr>
            <a:xfrm>
              <a:off x="2359080" y="5648400"/>
              <a:ext cx="1581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웹 디자이너 </a:t>
              </a:r>
              <a:r>
                <a:rPr b="1" lang="en-US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or  </a:t>
              </a:r>
              <a:r>
                <a:rPr b="1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개발자 통한 컨텐츠 제작</a:t>
              </a:r>
              <a:endParaRPr b="1" lang="en-US" sz="12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39" name="TextBox 146"/>
            <p:cNvSpPr/>
            <p:nvPr/>
          </p:nvSpPr>
          <p:spPr>
            <a:xfrm>
              <a:off x="4373280" y="6015240"/>
              <a:ext cx="65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DB </a:t>
              </a:r>
              <a:r>
                <a:rPr b="1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입력</a:t>
              </a:r>
              <a:endParaRPr b="1" lang="en-US" sz="12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40" name="TextBox 147"/>
            <p:cNvSpPr/>
            <p:nvPr/>
          </p:nvSpPr>
          <p:spPr>
            <a:xfrm>
              <a:off x="834840" y="5648400"/>
              <a:ext cx="14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강사의</a:t>
              </a:r>
              <a:r>
                <a:rPr b="1" lang="en-US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 </a:t>
              </a:r>
              <a:r>
                <a:rPr b="1" lang="ko-KR" sz="12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필요  컨텐츠 제작요청</a:t>
              </a:r>
              <a:endParaRPr b="1" lang="en-US" sz="12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41" name="오른쪽 화살표 149"/>
            <p:cNvSpPr/>
            <p:nvPr/>
          </p:nvSpPr>
          <p:spPr>
            <a:xfrm>
              <a:off x="2028600" y="5076720"/>
              <a:ext cx="558720" cy="285480"/>
            </a:xfrm>
            <a:prstGeom prst="rightArrow">
              <a:avLst>
                <a:gd name="adj1" fmla="val 50000"/>
                <a:gd name="adj2" fmla="val 65083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42" name="자유형 150"/>
            <p:cNvSpPr/>
            <p:nvPr/>
          </p:nvSpPr>
          <p:spPr>
            <a:xfrm>
              <a:off x="3660840" y="5005080"/>
              <a:ext cx="1581120" cy="28548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43" name="아래쪽 화살표 151"/>
            <p:cNvSpPr/>
            <p:nvPr/>
          </p:nvSpPr>
          <p:spPr>
            <a:xfrm>
              <a:off x="4311720" y="5219640"/>
              <a:ext cx="279360" cy="285480"/>
            </a:xfrm>
            <a:prstGeom prst="downArrow">
              <a:avLst>
                <a:gd name="adj1" fmla="val 50000"/>
                <a:gd name="adj2" fmla="val 38416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</p:grpSp>
      <p:sp>
        <p:nvSpPr>
          <p:cNvPr id="144" name="TextBox 42"/>
          <p:cNvSpPr/>
          <p:nvPr/>
        </p:nvSpPr>
        <p:spPr>
          <a:xfrm>
            <a:off x="1047240" y="857160"/>
            <a:ext cx="23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99"/>
                </a:solidFill>
                <a:latin typeface="Arial"/>
              </a:rPr>
              <a:t>기존 교육 시스템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333399"/>
                </a:solidFill>
                <a:latin typeface="Arial"/>
              </a:rPr>
              <a:t>서비스 현황 분석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이등변 삼각형 46"/>
          <p:cNvSpPr/>
          <p:nvPr/>
        </p:nvSpPr>
        <p:spPr>
          <a:xfrm>
            <a:off x="2571840" y="4572000"/>
            <a:ext cx="1938240" cy="285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5319c"/>
              </a:gs>
              <a:gs pos="100000">
                <a:srgbClr val="955bff"/>
              </a:gs>
            </a:gsLst>
            <a:lin ang="16200000"/>
          </a:gradFill>
          <a:ln w="9360">
            <a:solidFill>
              <a:srgbClr val="9966ff"/>
            </a:solidFill>
            <a:round/>
          </a:ln>
          <a:effectLst>
            <a:outerShdw dist="50760" dir="540000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6" name="Picture 1" descr="C:\Program Files\Microsoft Office\MEDIA\CAGCAT10\j0292020.wmf"/>
          <p:cNvPicPr/>
          <p:nvPr/>
        </p:nvPicPr>
        <p:blipFill>
          <a:blip r:embed="rId10"/>
          <a:stretch/>
        </p:blipFill>
        <p:spPr>
          <a:xfrm>
            <a:off x="2571840" y="4906800"/>
            <a:ext cx="1019160" cy="743040"/>
          </a:xfrm>
          <a:prstGeom prst="rect">
            <a:avLst/>
          </a:prstGeom>
          <a:ln w="0">
            <a:noFill/>
          </a:ln>
        </p:spPr>
      </p:pic>
      <p:grpSp>
        <p:nvGrpSpPr>
          <p:cNvPr id="147" name="순서도: 자기 디스크 52"/>
          <p:cNvGrpSpPr/>
          <p:nvPr/>
        </p:nvGrpSpPr>
        <p:grpSpPr>
          <a:xfrm>
            <a:off x="2378160" y="1847880"/>
            <a:ext cx="633240" cy="560520"/>
            <a:chOff x="2378160" y="1847880"/>
            <a:chExt cx="633240" cy="560520"/>
          </a:xfrm>
        </p:grpSpPr>
        <p:pic>
          <p:nvPicPr>
            <p:cNvPr id="148" name="순서도: 자기 디스크 52" descr=""/>
            <p:cNvPicPr/>
            <p:nvPr/>
          </p:nvPicPr>
          <p:blipFill>
            <a:blip r:embed="rId11"/>
            <a:stretch/>
          </p:blipFill>
          <p:spPr>
            <a:xfrm>
              <a:off x="2378160" y="1847880"/>
              <a:ext cx="6332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500200" y="2076480"/>
              <a:ext cx="38736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99"/>
                  </a:solidFill>
                  <a:latin typeface="Arial"/>
                </a:rPr>
                <a:t>DB</a:t>
              </a:r>
              <a:endParaRPr b="1" lang="en-US" sz="800" spc="-1" strike="noStrike">
                <a:solidFill>
                  <a:srgbClr val="333399"/>
                </a:solidFill>
                <a:latin typeface="Arial"/>
              </a:endParaRPr>
            </a:p>
          </p:txBody>
        </p:sp>
      </p:grpSp>
      <p:sp>
        <p:nvSpPr>
          <p:cNvPr id="150" name="TextBox 8"/>
          <p:cNvSpPr/>
          <p:nvPr/>
        </p:nvSpPr>
        <p:spPr>
          <a:xfrm>
            <a:off x="6804000" y="1197000"/>
            <a:ext cx="22050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돋움"/>
                <a:ea typeface="돋움"/>
              </a:rPr>
              <a:t>1. </a:t>
            </a:r>
            <a:r>
              <a:rPr b="1" lang="ko-KR" sz="1200" spc="-1" strike="noStrike">
                <a:solidFill>
                  <a:srgbClr val="333399"/>
                </a:solidFill>
                <a:latin typeface="돋움"/>
                <a:ea typeface="돋움"/>
              </a:rPr>
              <a:t>교육 프로세스 관리의 부재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ㆍ컨텐츠의 단편적 흐름으로 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다양한 참여자 참가 불가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ㆍ교육전문가의 프로세스 교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수법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자신만의 컨텐츠 및 교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육 프로토콜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기능을 시스템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화 하는데 한계가 있음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돋움"/>
                <a:ea typeface="돋움"/>
              </a:rPr>
              <a:t>2. </a:t>
            </a:r>
            <a:r>
              <a:rPr b="1" lang="ko-KR" sz="1200" spc="-1" strike="noStrike">
                <a:solidFill>
                  <a:srgbClr val="333399"/>
                </a:solidFill>
                <a:latin typeface="돋움"/>
                <a:ea typeface="돋움"/>
              </a:rPr>
              <a:t>룰 관리기능 미흡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ㆍ표현식의 편집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GUI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제공 미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약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ㆍ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DB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값에 의한 성향분석 룰 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적용으로 인해 효율적 컨텐츠 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운영이 어려움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ㆍ가독성이 떨어지게 됨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ㆍ 비교연산자 등 복잡한 조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건식 표현이 불가능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ㆍ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DB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에 각 조건당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data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입력 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필요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ㆍ 중복 값이 많아져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data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충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돌 가능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ㆍ많은 부하가 가해져 처리 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속도 저해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돋움"/>
                <a:ea typeface="돋움"/>
              </a:rPr>
              <a:t>3. </a:t>
            </a:r>
            <a:r>
              <a:rPr b="1" lang="ko-KR" sz="1200" spc="-1" strike="noStrike">
                <a:solidFill>
                  <a:srgbClr val="333399"/>
                </a:solidFill>
                <a:latin typeface="돋움"/>
                <a:ea typeface="돋움"/>
              </a:rPr>
              <a:t>실시간 다각적 분석환경 미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333399"/>
                </a:solidFill>
                <a:latin typeface="돋움"/>
                <a:ea typeface="돋움"/>
              </a:rPr>
              <a:t>흡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333399"/>
                </a:solidFill>
                <a:latin typeface="돋움"/>
                <a:ea typeface="돋움"/>
              </a:rPr>
              <a:t> </a:t>
            </a:r>
            <a:r>
              <a:rPr b="1" lang="ko-KR" sz="1200" spc="-1" strike="noStrike">
                <a:solidFill>
                  <a:srgbClr val="333399"/>
                </a:solidFill>
                <a:latin typeface="돋움"/>
                <a:ea typeface="돋움"/>
              </a:rPr>
              <a:t>ㆍ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다양한 분석 자료 레포팅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에 대한 요구를 즉각 받아들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이기 힘듬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왼쪽 중괄호 10"/>
          <p:cNvSpPr/>
          <p:nvPr/>
        </p:nvSpPr>
        <p:spPr>
          <a:xfrm>
            <a:off x="6651720" y="1341360"/>
            <a:ext cx="201600" cy="5112000"/>
          </a:xfrm>
          <a:custGeom>
            <a:avLst/>
            <a:gdLst>
              <a:gd name="textAreaLeft" fmla="*/ 128880 w 201600"/>
              <a:gd name="textAreaRight" fmla="*/ 201960 w 201600"/>
              <a:gd name="textAreaTop" fmla="*/ 12600 h 5112000"/>
              <a:gd name="textAreaBottom" fmla="*/ 5099400 h 511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7"/>
                  <a:pt x="10800" y="173"/>
                </a:cubicBezTo>
                <a:lnTo>
                  <a:pt x="10800" y="10627"/>
                </a:lnTo>
                <a:cubicBezTo>
                  <a:pt x="10800" y="10714"/>
                  <a:pt x="5400" y="10800"/>
                  <a:pt x="0" y="10800"/>
                </a:cubicBezTo>
                <a:cubicBezTo>
                  <a:pt x="5400" y="10800"/>
                  <a:pt x="10800" y="10887"/>
                  <a:pt x="10800" y="10973"/>
                </a:cubicBezTo>
                <a:lnTo>
                  <a:pt x="10800" y="21427"/>
                </a:lnTo>
                <a:cubicBezTo>
                  <a:pt x="10800" y="2151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4000" y="1171440"/>
            <a:ext cx="8499240" cy="5329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fd8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Rectangle 115"/>
          <p:cNvSpPr/>
          <p:nvPr/>
        </p:nvSpPr>
        <p:spPr>
          <a:xfrm>
            <a:off x="374760" y="189000"/>
            <a:ext cx="822960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07960" indent="-50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99"/>
                </a:solidFill>
                <a:latin typeface="Arial"/>
              </a:rPr>
              <a:t>제시 방안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Line 116"/>
          <p:cNvSpPr/>
          <p:nvPr/>
        </p:nvSpPr>
        <p:spPr>
          <a:xfrm>
            <a:off x="395280" y="907920"/>
            <a:ext cx="784872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55" name="모서리가 둥근 직사각형 5"/>
          <p:cNvGrpSpPr/>
          <p:nvPr/>
        </p:nvGrpSpPr>
        <p:grpSpPr>
          <a:xfrm>
            <a:off x="2411280" y="2936880"/>
            <a:ext cx="1297080" cy="755640"/>
            <a:chOff x="2411280" y="2936880"/>
            <a:chExt cx="1297080" cy="755640"/>
          </a:xfrm>
        </p:grpSpPr>
        <p:pic>
          <p:nvPicPr>
            <p:cNvPr id="156" name="모서리가 둥근 직사각형 5" descr=""/>
            <p:cNvPicPr/>
            <p:nvPr/>
          </p:nvPicPr>
          <p:blipFill>
            <a:blip r:embed="rId1"/>
            <a:stretch/>
          </p:blipFill>
          <p:spPr>
            <a:xfrm>
              <a:off x="2411280" y="2936880"/>
              <a:ext cx="12970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490120" y="3079080"/>
              <a:ext cx="109476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BPM</a:t>
              </a:r>
              <a:endParaRPr b="1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</p:grpSp>
      <p:grpSp>
        <p:nvGrpSpPr>
          <p:cNvPr id="158" name="모서리가 둥근 직사각형 6"/>
          <p:cNvGrpSpPr/>
          <p:nvPr/>
        </p:nvGrpSpPr>
        <p:grpSpPr>
          <a:xfrm>
            <a:off x="5356080" y="2936880"/>
            <a:ext cx="1305000" cy="755640"/>
            <a:chOff x="5356080" y="2936880"/>
            <a:chExt cx="1305000" cy="755640"/>
          </a:xfrm>
        </p:grpSpPr>
        <p:pic>
          <p:nvPicPr>
            <p:cNvPr id="159" name="모서리가 둥근 직사각형 6" descr=""/>
            <p:cNvPicPr/>
            <p:nvPr/>
          </p:nvPicPr>
          <p:blipFill>
            <a:blip r:embed="rId2"/>
            <a:stretch/>
          </p:blipFill>
          <p:spPr>
            <a:xfrm>
              <a:off x="5356080" y="2936880"/>
              <a:ext cx="13050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5490000" y="3079080"/>
              <a:ext cx="109620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BRE</a:t>
              </a:r>
              <a:endParaRPr b="1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</p:grpSp>
      <p:grpSp>
        <p:nvGrpSpPr>
          <p:cNvPr id="161" name="모서리가 둥근 직사각형 7"/>
          <p:cNvGrpSpPr/>
          <p:nvPr/>
        </p:nvGrpSpPr>
        <p:grpSpPr>
          <a:xfrm>
            <a:off x="3835440" y="4341960"/>
            <a:ext cx="1457280" cy="750600"/>
            <a:chOff x="3835440" y="4341960"/>
            <a:chExt cx="1457280" cy="750600"/>
          </a:xfrm>
        </p:grpSpPr>
        <p:pic>
          <p:nvPicPr>
            <p:cNvPr id="162" name="모서리가 둥근 직사각형 7" descr=""/>
            <p:cNvPicPr/>
            <p:nvPr/>
          </p:nvPicPr>
          <p:blipFill>
            <a:blip r:embed="rId3"/>
            <a:stretch/>
          </p:blipFill>
          <p:spPr>
            <a:xfrm>
              <a:off x="3835440" y="4341960"/>
              <a:ext cx="1457280" cy="75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938400" y="4496040"/>
              <a:ext cx="126108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OLAP</a:t>
              </a:r>
              <a:endParaRPr b="1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</p:grpSp>
      <p:sp>
        <p:nvSpPr>
          <p:cNvPr id="164" name="TextBox 13"/>
          <p:cNvSpPr/>
          <p:nvPr/>
        </p:nvSpPr>
        <p:spPr>
          <a:xfrm>
            <a:off x="3132000" y="5060880"/>
            <a:ext cx="2880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이용자가 직접 데이터베이스를 검색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분석해서 문제점이나 해결책을 찾는 분석형 애플리케이션 개념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올랩 툴 또는 올랩 서버는 온라인 검색을 지원하는 도구로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대규모 연산이 필요한 질의를 고속으로 지원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단순 통계를 넘어 다각적 교육 흐름의 분석 제공을 함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19280" y="1773360"/>
            <a:ext cx="259236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기업 내외의 업무 프로세스를 가시화하고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업무의 수행과 관련된 사람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시스템을 프로세스에 맞게 실행ㆍ통제하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전체 업무 프로세스를 효율적으로 관리하고 최적화할 수 있도록 지원하는 변화 관리 및 시스템 구현 기법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교육의 흐름을 프로세스화 하여 컨텐츠와 사람이 하나의 흐름에 엮여 흘러가도록 한다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0760" y="2205000"/>
            <a:ext cx="2169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기업의 업무 규칙이나 절차 등을 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효과적으로 개발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관리할 수 있도록 하는 도구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개발 및 유지 보수가 용이하고 업무 환경이 변하더라도 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현업 담당자가 손쉽게 로직을 수정할 수 있다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3405240"/>
            <a:ext cx="207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  <a:ea typeface="돋움"/>
              </a:rPr>
              <a:t>Business Process Management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94160" y="3405240"/>
            <a:ext cx="15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  <a:ea typeface="돋움"/>
              </a:rPr>
              <a:t>Business Rule Engine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12160" y="4808520"/>
            <a:ext cx="200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  <a:ea typeface="돋움"/>
              </a:rPr>
              <a:t>On-Line Analytical Processing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104840" y="3908520"/>
            <a:ext cx="3395880" cy="144144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0720" y="3908520"/>
            <a:ext cx="3527280" cy="144144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500720" y="1173240"/>
            <a:ext cx="0" cy="273528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3" name="Picture 27" descr="C:\Program Files\Microsoft Office\MEDIA\CAGCAT10\j0293844.wmf"/>
          <p:cNvPicPr/>
          <p:nvPr/>
        </p:nvPicPr>
        <p:blipFill>
          <a:blip r:embed="rId4"/>
          <a:stretch/>
        </p:blipFill>
        <p:spPr>
          <a:xfrm>
            <a:off x="6300720" y="4219560"/>
            <a:ext cx="2227320" cy="2233800"/>
          </a:xfrm>
          <a:prstGeom prst="rect">
            <a:avLst/>
          </a:prstGeom>
          <a:ln w="0">
            <a:noFill/>
          </a:ln>
        </p:spPr>
      </p:pic>
      <p:grpSp>
        <p:nvGrpSpPr>
          <p:cNvPr id="174" name="모서리가 둥근 직사각형 8"/>
          <p:cNvGrpSpPr/>
          <p:nvPr/>
        </p:nvGrpSpPr>
        <p:grpSpPr>
          <a:xfrm>
            <a:off x="3727440" y="3500280"/>
            <a:ext cx="1622520" cy="755640"/>
            <a:chOff x="3727440" y="3500280"/>
            <a:chExt cx="1622520" cy="755640"/>
          </a:xfrm>
        </p:grpSpPr>
        <p:pic>
          <p:nvPicPr>
            <p:cNvPr id="175" name="모서리가 둥근 직사각형 8" descr=""/>
            <p:cNvPicPr/>
            <p:nvPr/>
          </p:nvPicPr>
          <p:blipFill>
            <a:blip r:embed="rId5"/>
            <a:stretch/>
          </p:blipFill>
          <p:spPr>
            <a:xfrm>
              <a:off x="3727440" y="3500280"/>
              <a:ext cx="16225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827520" y="3576960"/>
              <a:ext cx="142632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EFL</a:t>
              </a:r>
              <a:endParaRPr b="1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</p:grpSp>
      <p:sp>
        <p:nvSpPr>
          <p:cNvPr id="177" name="TextBox 42"/>
          <p:cNvSpPr/>
          <p:nvPr/>
        </p:nvSpPr>
        <p:spPr>
          <a:xfrm>
            <a:off x="1446480" y="981000"/>
            <a:ext cx="6260760" cy="733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PM, BRE, OLAP</a:t>
            </a:r>
            <a:r>
              <a:rPr b="1" lang="ko-KR" sz="1400" spc="-1" strike="noStrike">
                <a:solidFill>
                  <a:srgbClr val="333399"/>
                </a:solidFill>
                <a:latin typeface="Arial"/>
              </a:rPr>
              <a:t>등의 프로세스 혁신 기능을 온라인 강의 분야에 특화시켜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T</a:t>
            </a:r>
            <a:r>
              <a:rPr b="1" lang="ko-KR" sz="1400" spc="-1" strike="noStrike">
                <a:solidFill>
                  <a:srgbClr val="333399"/>
                </a:solidFill>
                <a:latin typeface="Arial"/>
              </a:rPr>
              <a:t>기술을 몰라도 쉽게 교육과정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,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99"/>
                </a:solidFill>
                <a:latin typeface="Arial"/>
              </a:rPr>
              <a:t>시험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ko-KR" sz="1400" spc="-1" strike="noStrike">
                <a:solidFill>
                  <a:srgbClr val="333399"/>
                </a:solidFill>
                <a:latin typeface="Arial"/>
              </a:rPr>
              <a:t>채점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ko-KR" sz="1400" spc="-1" strike="noStrike">
                <a:solidFill>
                  <a:srgbClr val="333399"/>
                </a:solidFill>
                <a:latin typeface="Arial"/>
              </a:rPr>
              <a:t>통지표 전송 등의 온라인 교육 컨텐츠간의 프로세스적 구성을 쉽게 할 수 있도록 도와주며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, 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99"/>
                </a:solidFill>
                <a:latin typeface="Arial"/>
              </a:rPr>
              <a:t>각 교사와 학생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ko-KR" sz="1400" spc="-1" strike="noStrike">
                <a:solidFill>
                  <a:srgbClr val="333399"/>
                </a:solidFill>
                <a:latin typeface="Arial"/>
              </a:rPr>
              <a:t>학부모간에 학습 진도율의 모니터링 및 성과의 분석에 대한 기반 기능을 제공해 줄 수 있다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4000" y="1020600"/>
            <a:ext cx="8380440" cy="4892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직사각형 37"/>
          <p:cNvSpPr/>
          <p:nvPr/>
        </p:nvSpPr>
        <p:spPr>
          <a:xfrm>
            <a:off x="250920" y="1004760"/>
            <a:ext cx="856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99"/>
                </a:solidFill>
                <a:latin typeface="Arial"/>
              </a:rPr>
              <a:t>사람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-Contents, </a:t>
            </a:r>
            <a:r>
              <a:rPr b="1" lang="ko-KR" sz="1400" spc="-1" strike="noStrike">
                <a:solidFill>
                  <a:srgbClr val="333399"/>
                </a:solidFill>
                <a:latin typeface="Arial"/>
              </a:rPr>
              <a:t>사람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ko-KR" sz="1400" spc="-1" strike="noStrike">
                <a:solidFill>
                  <a:srgbClr val="333399"/>
                </a:solidFill>
                <a:latin typeface="Arial"/>
              </a:rPr>
              <a:t>사람 간 교육 흐름에 입각하여 기존의 다양하고 풍부한 컨텐츠가 적합한 참여자에게 필요한 순간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USH </a:t>
            </a:r>
            <a:r>
              <a:rPr b="1" lang="ko-KR" sz="1400" spc="-1" strike="noStrike">
                <a:solidFill>
                  <a:srgbClr val="333399"/>
                </a:solidFill>
                <a:latin typeface="Arial"/>
              </a:rPr>
              <a:t>될 수 있도록 하여 교육 참여의 효과를 적극적으로 유도 한다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Rectangle 115"/>
          <p:cNvSpPr/>
          <p:nvPr/>
        </p:nvSpPr>
        <p:spPr>
          <a:xfrm>
            <a:off x="374760" y="189000"/>
            <a:ext cx="822960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07960" indent="-50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99"/>
                </a:solidFill>
                <a:latin typeface="Arial"/>
              </a:rPr>
              <a:t>제시 방안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Line 116"/>
          <p:cNvSpPr/>
          <p:nvPr/>
        </p:nvSpPr>
        <p:spPr>
          <a:xfrm>
            <a:off x="395280" y="906480"/>
            <a:ext cx="784872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직사각형 103"/>
          <p:cNvSpPr/>
          <p:nvPr/>
        </p:nvSpPr>
        <p:spPr>
          <a:xfrm>
            <a:off x="190440" y="1628640"/>
            <a:ext cx="5124600" cy="266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3680" y="1628640"/>
            <a:ext cx="5119560" cy="289080"/>
          </a:xfrm>
          <a:prstGeom prst="rect">
            <a:avLst/>
          </a:prstGeom>
          <a:gradFill rotWithShape="0">
            <a:gsLst>
              <a:gs pos="0">
                <a:srgbClr val="667274"/>
              </a:gs>
              <a:gs pos="50000">
                <a:srgbClr val="dff9fd"/>
              </a:gs>
              <a:gs pos="100000">
                <a:srgbClr val="667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돋움"/>
              </a:rPr>
              <a:t>BPM+BRE</a:t>
            </a:r>
            <a:r>
              <a:rPr b="1" lang="ko-KR" sz="1400" spc="-1" strike="noStrike">
                <a:solidFill>
                  <a:srgbClr val="333399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333399"/>
                </a:solidFill>
                <a:latin typeface="Arial"/>
                <a:ea typeface="돋움"/>
              </a:rPr>
              <a:t>기반 올페스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돋움"/>
              </a:rPr>
              <a:t>II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직사각형 103"/>
          <p:cNvSpPr/>
          <p:nvPr/>
        </p:nvSpPr>
        <p:spPr>
          <a:xfrm>
            <a:off x="5459400" y="1630440"/>
            <a:ext cx="3060720" cy="4133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59400" y="1630440"/>
            <a:ext cx="3059280" cy="287280"/>
          </a:xfrm>
          <a:prstGeom prst="rect">
            <a:avLst/>
          </a:prstGeom>
          <a:gradFill rotWithShape="0">
            <a:gsLst>
              <a:gs pos="0">
                <a:srgbClr val="667274"/>
              </a:gs>
              <a:gs pos="50000">
                <a:srgbClr val="dff9fd"/>
              </a:gs>
              <a:gs pos="100000">
                <a:srgbClr val="667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99"/>
                </a:solidFill>
                <a:latin typeface="Arial"/>
                <a:ea typeface="돋움"/>
              </a:rPr>
              <a:t>각 교육 참여자 개인의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돋움"/>
              </a:rPr>
              <a:t>Task-List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직사각형 103"/>
          <p:cNvSpPr/>
          <p:nvPr/>
        </p:nvSpPr>
        <p:spPr>
          <a:xfrm>
            <a:off x="179280" y="4363920"/>
            <a:ext cx="5137200" cy="216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7200" y="4365720"/>
            <a:ext cx="5123160" cy="287280"/>
          </a:xfrm>
          <a:prstGeom prst="rect">
            <a:avLst/>
          </a:prstGeom>
          <a:gradFill rotWithShape="0">
            <a:gsLst>
              <a:gs pos="0">
                <a:srgbClr val="667274"/>
              </a:gs>
              <a:gs pos="50000">
                <a:srgbClr val="dff9fd"/>
              </a:gs>
              <a:gs pos="100000">
                <a:srgbClr val="6672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99"/>
                </a:solidFill>
                <a:latin typeface="Arial"/>
                <a:ea typeface="돋움"/>
              </a:rPr>
              <a:t>제공 컨텐츠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3400" y="2852640"/>
            <a:ext cx="144720" cy="144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8120" y="2924280"/>
            <a:ext cx="2714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95400" y="2637000"/>
            <a:ext cx="574560" cy="574560"/>
          </a:xfrm>
          <a:prstGeom prst="diamond">
            <a:avLst/>
          </a:prstGeom>
          <a:gradFill rotWithShape="0">
            <a:gsLst>
              <a:gs pos="0">
                <a:srgbClr val="25531c"/>
              </a:gs>
              <a:gs pos="50000">
                <a:srgbClr val="52b53e"/>
              </a:gs>
              <a:gs pos="100000">
                <a:srgbClr val="25531c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돋움"/>
              </a:rPr>
              <a:t>Rule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43040" y="3211560"/>
            <a:ext cx="574560" cy="2160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333399"/>
                </a:solidFill>
                <a:latin typeface="Arial"/>
                <a:ea typeface="돋움체"/>
              </a:rPr>
              <a:t>컨텐츠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8120" y="3211560"/>
            <a:ext cx="574920" cy="2160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333399"/>
                </a:solidFill>
                <a:latin typeface="Arial"/>
                <a:ea typeface="돋움체"/>
              </a:rPr>
              <a:t>컨텐츠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43040" y="2419200"/>
            <a:ext cx="574560" cy="2160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333399"/>
                </a:solidFill>
                <a:latin typeface="Arial"/>
                <a:ea typeface="돋움체"/>
              </a:rPr>
              <a:t>컨텐츠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09920" y="2060640"/>
            <a:ext cx="574920" cy="2160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333399"/>
                </a:solidFill>
                <a:latin typeface="Arial"/>
                <a:ea typeface="돋움체"/>
              </a:rPr>
              <a:t>컨텐츠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09920" y="2379600"/>
            <a:ext cx="574920" cy="2160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333399"/>
                </a:solidFill>
                <a:latin typeface="Arial"/>
                <a:ea typeface="돋움체"/>
              </a:rPr>
              <a:t>컨텐츠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09920" y="2708280"/>
            <a:ext cx="574920" cy="2160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333399"/>
                </a:solidFill>
                <a:latin typeface="Arial"/>
                <a:ea typeface="돋움체"/>
              </a:rPr>
              <a:t>컨텐츠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09920" y="3068640"/>
            <a:ext cx="574920" cy="2160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333399"/>
                </a:solidFill>
                <a:latin typeface="Arial"/>
                <a:ea typeface="돋움체"/>
              </a:rPr>
              <a:t>컨텐츠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09920" y="3397320"/>
            <a:ext cx="574920" cy="2160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333399"/>
                </a:solidFill>
                <a:latin typeface="Arial"/>
                <a:ea typeface="돋움체"/>
              </a:rPr>
              <a:t>컨텐츠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09920" y="3710160"/>
            <a:ext cx="574920" cy="2156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333399"/>
                </a:solidFill>
                <a:latin typeface="Arial"/>
                <a:ea typeface="돋움체"/>
              </a:rPr>
              <a:t>컨텐츠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27040" y="3068640"/>
            <a:ext cx="209520" cy="20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427040" y="2555640"/>
            <a:ext cx="201600" cy="22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19400" y="3284640"/>
            <a:ext cx="31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219400" y="2484360"/>
            <a:ext cx="28872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084480" y="2147400"/>
            <a:ext cx="1224000" cy="344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84480" y="2492280"/>
            <a:ext cx="1231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84480" y="2492280"/>
            <a:ext cx="1224000" cy="32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971880" y="3178080"/>
            <a:ext cx="355680" cy="106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48120" y="3284640"/>
            <a:ext cx="352440" cy="23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48120" y="3284640"/>
            <a:ext cx="344520" cy="52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8120" y="2203560"/>
            <a:ext cx="574920" cy="574560"/>
          </a:xfrm>
          <a:prstGeom prst="diamond">
            <a:avLst/>
          </a:prstGeom>
          <a:gradFill rotWithShape="0">
            <a:gsLst>
              <a:gs pos="0">
                <a:srgbClr val="25531c"/>
              </a:gs>
              <a:gs pos="50000">
                <a:srgbClr val="52b53e"/>
              </a:gs>
              <a:gs pos="100000">
                <a:srgbClr val="25531c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돋움"/>
              </a:rPr>
              <a:t>Rule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73560" y="2997360"/>
            <a:ext cx="574560" cy="574560"/>
          </a:xfrm>
          <a:prstGeom prst="diamond">
            <a:avLst/>
          </a:prstGeom>
          <a:gradFill rotWithShape="0">
            <a:gsLst>
              <a:gs pos="0">
                <a:srgbClr val="25531c"/>
              </a:gs>
              <a:gs pos="50000">
                <a:srgbClr val="52b53e"/>
              </a:gs>
              <a:gs pos="100000">
                <a:srgbClr val="25531c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돋움"/>
              </a:rPr>
              <a:t>Rule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84480" y="3284640"/>
            <a:ext cx="297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35600" y="2060640"/>
            <a:ext cx="30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돋움체"/>
              </a:rPr>
              <a:t>…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6120" y="236232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돋움체"/>
              </a:rPr>
              <a:t>…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56120" y="264960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돋움체"/>
              </a:rPr>
              <a:t>…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35600" y="3009960"/>
            <a:ext cx="30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돋움체"/>
              </a:rPr>
              <a:t>…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56120" y="337032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돋움체"/>
              </a:rPr>
              <a:t>…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6120" y="365760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돋움체"/>
              </a:rPr>
              <a:t>…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17876" t="33836" r="5354" b="8105"/>
          <a:stretch/>
        </p:blipFill>
        <p:spPr>
          <a:xfrm>
            <a:off x="209520" y="5084640"/>
            <a:ext cx="1217520" cy="1297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20" name="" descr=""/>
          <p:cNvPicPr/>
          <p:nvPr/>
        </p:nvPicPr>
        <p:blipFill>
          <a:blip r:embed="rId2"/>
          <a:srcRect l="0" t="20720" r="0" b="0"/>
          <a:stretch/>
        </p:blipFill>
        <p:spPr>
          <a:xfrm>
            <a:off x="1500120" y="5084640"/>
            <a:ext cx="1224000" cy="1295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21" name="" descr=""/>
          <p:cNvPicPr/>
          <p:nvPr/>
        </p:nvPicPr>
        <p:blipFill>
          <a:blip r:embed="rId3"/>
          <a:srcRect l="17535" t="26688" r="5975" b="5482"/>
          <a:stretch/>
        </p:blipFill>
        <p:spPr>
          <a:xfrm>
            <a:off x="4019400" y="5084640"/>
            <a:ext cx="1152720" cy="126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22" name="" descr=""/>
          <p:cNvPicPr/>
          <p:nvPr/>
        </p:nvPicPr>
        <p:blipFill>
          <a:blip r:embed="rId4"/>
          <a:srcRect l="17973" t="13549" r="5616" b="1403"/>
          <a:stretch/>
        </p:blipFill>
        <p:spPr>
          <a:xfrm>
            <a:off x="2795760" y="5084640"/>
            <a:ext cx="1152360" cy="1254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23" name="" descr=""/>
          <p:cNvPicPr/>
          <p:nvPr/>
        </p:nvPicPr>
        <p:blipFill>
          <a:blip r:embed="rId5"/>
          <a:srcRect l="19596" t="6598" r="2052" b="50386"/>
          <a:stretch/>
        </p:blipFill>
        <p:spPr>
          <a:xfrm>
            <a:off x="5467320" y="3179880"/>
            <a:ext cx="3025800" cy="1258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4" name="" descr=""/>
          <p:cNvPicPr/>
          <p:nvPr/>
        </p:nvPicPr>
        <p:blipFill>
          <a:blip r:embed="rId6"/>
          <a:srcRect l="19766" t="13831" r="19648" b="55712"/>
          <a:stretch/>
        </p:blipFill>
        <p:spPr>
          <a:xfrm>
            <a:off x="5467320" y="1917720"/>
            <a:ext cx="3025800" cy="1185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5" name=""/>
          <p:cNvSpPr/>
          <p:nvPr/>
        </p:nvSpPr>
        <p:spPr>
          <a:xfrm flipV="1">
            <a:off x="809640" y="2997000"/>
            <a:ext cx="449280" cy="195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1979280" y="2636640"/>
            <a:ext cx="112680" cy="2266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2916000" y="3357720"/>
            <a:ext cx="463320" cy="152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537080" y="3368520"/>
            <a:ext cx="17280" cy="150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16120" y="4940280"/>
            <a:ext cx="720720" cy="360360"/>
          </a:xfrm>
          <a:prstGeom prst="ellipse">
            <a:avLst/>
          </a:prstGeom>
          <a:gradFill rotWithShape="0">
            <a:gsLst>
              <a:gs pos="0">
                <a:srgbClr val="462f75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돋움체"/>
                <a:ea typeface="돋움체"/>
              </a:rPr>
              <a:t>맞춤첨삭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11400" y="4940280"/>
            <a:ext cx="720720" cy="360360"/>
          </a:xfrm>
          <a:prstGeom prst="ellipse">
            <a:avLst/>
          </a:prstGeom>
          <a:gradFill rotWithShape="0">
            <a:gsLst>
              <a:gs pos="0">
                <a:srgbClr val="462f75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돋움체"/>
                <a:ea typeface="돋움체"/>
              </a:rPr>
              <a:t>학습시리즈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35400" y="4940280"/>
            <a:ext cx="720720" cy="360360"/>
          </a:xfrm>
          <a:prstGeom prst="ellipse">
            <a:avLst/>
          </a:prstGeom>
          <a:gradFill rotWithShape="0">
            <a:gsLst>
              <a:gs pos="0">
                <a:srgbClr val="462f75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돋움체"/>
                <a:ea typeface="돋움체"/>
              </a:rPr>
              <a:t>토론장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2120" y="4973760"/>
            <a:ext cx="658800" cy="326880"/>
          </a:xfrm>
          <a:prstGeom prst="ellipse">
            <a:avLst/>
          </a:prstGeom>
          <a:gradFill rotWithShape="0">
            <a:gsLst>
              <a:gs pos="0">
                <a:srgbClr val="462f75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돋움체"/>
                <a:ea typeface="돋움체"/>
              </a:rPr>
              <a:t>OLPES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63760" y="4148280"/>
            <a:ext cx="316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16480" y="1987560"/>
            <a:ext cx="20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16480" y="198756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63760" y="3284640"/>
            <a:ext cx="0" cy="86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7"/>
          <a:srcRect l="18386" t="19414" r="6987" b="34923"/>
          <a:stretch/>
        </p:blipFill>
        <p:spPr>
          <a:xfrm>
            <a:off x="5475240" y="4518000"/>
            <a:ext cx="3021120" cy="1162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aphicFrame>
        <p:nvGraphicFramePr>
          <p:cNvPr id="238" name="Object 49"/>
          <p:cNvGraphicFramePr/>
          <p:nvPr/>
        </p:nvGraphicFramePr>
        <p:xfrm>
          <a:off x="5580000" y="2346480"/>
          <a:ext cx="220680" cy="287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9" name="Object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80000" y="2346480"/>
                    <a:ext cx="2206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49"/>
          <p:cNvGraphicFramePr/>
          <p:nvPr/>
        </p:nvGraphicFramePr>
        <p:xfrm>
          <a:off x="5529240" y="3557520"/>
          <a:ext cx="220680" cy="287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1" name="Object 4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29240" y="3557520"/>
                    <a:ext cx="2206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49"/>
          <p:cNvGraphicFramePr/>
          <p:nvPr/>
        </p:nvGraphicFramePr>
        <p:xfrm>
          <a:off x="5529240" y="4941720"/>
          <a:ext cx="220680" cy="287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43" name="Object 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529240" y="4941720"/>
                    <a:ext cx="220680" cy="2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5865480" y="23335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660066"/>
                </a:solidFill>
                <a:latin typeface="Arial"/>
                <a:ea typeface="돋움"/>
              </a:rPr>
              <a:t>학생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839200" y="35575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660066"/>
                </a:solidFill>
                <a:latin typeface="Arial"/>
                <a:ea typeface="돋움"/>
              </a:rPr>
              <a:t>학부모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39200" y="49021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660066"/>
                </a:solidFill>
                <a:latin typeface="Arial"/>
                <a:ea typeface="돋움"/>
              </a:rPr>
              <a:t>선생님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47" name="Picture 15" descr="C:\Documents and Settings\uEngine.UENGINESERVER\My Documents\My Pictures\resize_jason129-babylove500.jpg"/>
          <p:cNvPicPr/>
          <p:nvPr/>
        </p:nvPicPr>
        <p:blipFill>
          <a:blip r:embed="rId14"/>
          <a:stretch/>
        </p:blipFill>
        <p:spPr>
          <a:xfrm>
            <a:off x="8101080" y="3286080"/>
            <a:ext cx="907920" cy="1890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6" descr="C:\Documents and Settings\uEngine.UENGINESERVER\My Documents\My Pictures\sylovehs48_134.gif"/>
          <p:cNvPicPr/>
          <p:nvPr/>
        </p:nvPicPr>
        <p:blipFill>
          <a:blip r:embed="rId15"/>
          <a:stretch/>
        </p:blipFill>
        <p:spPr>
          <a:xfrm>
            <a:off x="8101080" y="1917720"/>
            <a:ext cx="846000" cy="1822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7" descr="C:\Documents and Settings\uEngine.UENGINESERVER\My Documents\My Pictures\km36_856220.jpg"/>
          <p:cNvPicPr/>
          <p:nvPr/>
        </p:nvPicPr>
        <p:blipFill>
          <a:blip r:embed="rId16"/>
          <a:stretch/>
        </p:blipFill>
        <p:spPr>
          <a:xfrm>
            <a:off x="7956720" y="4581360"/>
            <a:ext cx="10350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7"/>
          <p:cNvSpPr/>
          <p:nvPr/>
        </p:nvSpPr>
        <p:spPr>
          <a:xfrm>
            <a:off x="395280" y="906480"/>
            <a:ext cx="784872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374760" y="189000"/>
            <a:ext cx="822960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07960" indent="-50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99"/>
                </a:solidFill>
                <a:latin typeface="굴림"/>
              </a:rPr>
              <a:t>제시 방안</a:t>
            </a:r>
            <a:r>
              <a:rPr b="1" lang="en-US" sz="2400" spc="-1" strike="noStrike">
                <a:solidFill>
                  <a:srgbClr val="333399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333399"/>
                </a:solidFill>
                <a:latin typeface="굴림"/>
              </a:rPr>
              <a:t>올페스</a:t>
            </a:r>
            <a:r>
              <a:rPr b="1" lang="en-US" sz="2400" spc="-1" strike="noStrike">
                <a:solidFill>
                  <a:srgbClr val="333399"/>
                </a:solidFill>
                <a:latin typeface="굴림"/>
              </a:rPr>
              <a:t>II </a:t>
            </a:r>
            <a:r>
              <a:rPr b="1" lang="ko-KR" sz="2400" spc="-1" strike="noStrike">
                <a:solidFill>
                  <a:srgbClr val="333399"/>
                </a:solidFill>
                <a:latin typeface="굴림"/>
              </a:rPr>
              <a:t>시스템 구성안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2" name="AutoShape 2"/>
          <p:cNvSpPr/>
          <p:nvPr/>
        </p:nvSpPr>
        <p:spPr>
          <a:xfrm>
            <a:off x="539640" y="3186000"/>
            <a:ext cx="4611960" cy="181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ebeb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3333"/>
            </a:solidFill>
            <a:prstDash val="dash"/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3" name="AutoShape 3"/>
          <p:cNvSpPr/>
          <p:nvPr/>
        </p:nvSpPr>
        <p:spPr>
          <a:xfrm>
            <a:off x="868320" y="4533840"/>
            <a:ext cx="4046760" cy="397080"/>
          </a:xfrm>
          <a:prstGeom prst="cube">
            <a:avLst>
              <a:gd name="adj" fmla="val 24995"/>
            </a:avLst>
          </a:prstGeom>
          <a:gradFill rotWithShape="0">
            <a:gsLst>
              <a:gs pos="0">
                <a:srgbClr val="ffcc00"/>
              </a:gs>
              <a:gs pos="50000">
                <a:srgbClr val="ffeeac"/>
              </a:gs>
              <a:gs pos="100000">
                <a:srgbClr val="ffcc00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돋움"/>
                <a:ea typeface="돋움"/>
              </a:rPr>
              <a:t>OLAP </a:t>
            </a:r>
            <a:r>
              <a:rPr b="1" lang="ko-KR" sz="1000" spc="-1" strike="noStrike">
                <a:solidFill>
                  <a:srgbClr val="333399"/>
                </a:solidFill>
                <a:latin typeface="돋움"/>
                <a:ea typeface="돋움"/>
              </a:rPr>
              <a:t>엔진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4" name="AutoShape 3"/>
          <p:cNvSpPr/>
          <p:nvPr/>
        </p:nvSpPr>
        <p:spPr>
          <a:xfrm>
            <a:off x="858960" y="4229280"/>
            <a:ext cx="4047840" cy="396720"/>
          </a:xfrm>
          <a:prstGeom prst="cube">
            <a:avLst>
              <a:gd name="adj" fmla="val 24995"/>
            </a:avLst>
          </a:prstGeom>
          <a:gradFill rotWithShape="0">
            <a:gsLst>
              <a:gs pos="0">
                <a:srgbClr val="ffcc00"/>
              </a:gs>
              <a:gs pos="50000">
                <a:srgbClr val="ffeeac"/>
              </a:gs>
              <a:gs pos="100000">
                <a:srgbClr val="ffcc00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333399"/>
                </a:solidFill>
                <a:latin typeface="돋움"/>
                <a:ea typeface="돋움"/>
              </a:rPr>
              <a:t>룰 엔진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855720" y="3936960"/>
            <a:ext cx="4046400" cy="397080"/>
          </a:xfrm>
          <a:prstGeom prst="cube">
            <a:avLst>
              <a:gd name="adj" fmla="val 24995"/>
            </a:avLst>
          </a:prstGeom>
          <a:gradFill rotWithShape="0">
            <a:gsLst>
              <a:gs pos="0">
                <a:srgbClr val="ffcc00"/>
              </a:gs>
              <a:gs pos="50000">
                <a:srgbClr val="ffeeac"/>
              </a:gs>
              <a:gs pos="100000">
                <a:srgbClr val="ffcc00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333399"/>
                </a:solidFill>
                <a:latin typeface="돋움"/>
                <a:ea typeface="돋움"/>
              </a:rPr>
              <a:t>프로세스 엔진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539640" y="1838160"/>
            <a:ext cx="4611960" cy="121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ebeb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3333"/>
            </a:solidFill>
            <a:prstDash val="dash"/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5622840" y="2184480"/>
            <a:ext cx="2260800" cy="4124160"/>
          </a:xfrm>
          <a:custGeom>
            <a:avLst/>
            <a:gdLst>
              <a:gd name="textAreaLeft" fmla="*/ 110160 w 2260800"/>
              <a:gd name="textAreaRight" fmla="*/ 2150640 w 2260800"/>
              <a:gd name="textAreaTop" fmla="*/ 110160 h 4124160"/>
              <a:gd name="textAreaBottom" fmla="*/ 4014000 h 4124160"/>
            </a:gdLst>
            <a:ahLst/>
            <a:rect l="textAreaLeft" t="textAreaTop" r="textAreaRight" b="textAreaBottom"/>
            <a:pathLst>
              <a:path w="21600" h="39400">
                <a:moveTo>
                  <a:pt x="3600" y="0"/>
                </a:moveTo>
                <a:arcTo wR="3600" hR="3600" stAng="16200000" swAng="-5400000"/>
                <a:lnTo>
                  <a:pt x="0" y="35800"/>
                </a:lnTo>
                <a:arcTo wR="3600" hR="3600" stAng="10800000" swAng="-5400000"/>
                <a:lnTo>
                  <a:pt x="18000" y="39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beb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3333"/>
            </a:solidFill>
            <a:prstDash val="dash"/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539640" y="5079960"/>
            <a:ext cx="4616640" cy="1109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ebeb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3333"/>
            </a:solidFill>
            <a:prstDash val="dash"/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9" name="AutoShape 8"/>
          <p:cNvSpPr/>
          <p:nvPr/>
        </p:nvSpPr>
        <p:spPr>
          <a:xfrm>
            <a:off x="727200" y="2181240"/>
            <a:ext cx="1319040" cy="744480"/>
          </a:xfrm>
          <a:prstGeom prst="cube">
            <a:avLst>
              <a:gd name="adj" fmla="val 2499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0" name="AutoShape 9"/>
          <p:cNvSpPr/>
          <p:nvPr/>
        </p:nvSpPr>
        <p:spPr>
          <a:xfrm>
            <a:off x="2046240" y="2181240"/>
            <a:ext cx="1320840" cy="744480"/>
          </a:xfrm>
          <a:prstGeom prst="cube">
            <a:avLst>
              <a:gd name="adj" fmla="val 24995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1" name="AutoShape 10"/>
          <p:cNvSpPr/>
          <p:nvPr/>
        </p:nvSpPr>
        <p:spPr>
          <a:xfrm>
            <a:off x="5924520" y="2992320"/>
            <a:ext cx="1600200" cy="744480"/>
          </a:xfrm>
          <a:prstGeom prst="cube">
            <a:avLst>
              <a:gd name="adj" fmla="val 24995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333399"/>
                </a:solidFill>
                <a:latin typeface="돋움"/>
                <a:ea typeface="돋움"/>
              </a:rPr>
              <a:t>교육 프로세스 및 컨텐츠 편집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2" name="AutoShape 11"/>
          <p:cNvSpPr/>
          <p:nvPr/>
        </p:nvSpPr>
        <p:spPr>
          <a:xfrm>
            <a:off x="5924520" y="4565520"/>
            <a:ext cx="1600200" cy="744840"/>
          </a:xfrm>
          <a:prstGeom prst="cube">
            <a:avLst>
              <a:gd name="adj" fmla="val 24995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333399"/>
                </a:solidFill>
                <a:latin typeface="돋움"/>
                <a:ea typeface="돋움"/>
              </a:rPr>
              <a:t>교육 프로세스 모델 매니저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AutoShape 12"/>
          <p:cNvSpPr/>
          <p:nvPr/>
        </p:nvSpPr>
        <p:spPr>
          <a:xfrm>
            <a:off x="615960" y="5470560"/>
            <a:ext cx="1044720" cy="596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3dcff"/>
              </a:gs>
              <a:gs pos="50000">
                <a:srgbClr val="f1faff"/>
              </a:gs>
              <a:gs pos="100000">
                <a:srgbClr val="a3dc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6284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333399"/>
                </a:solidFill>
                <a:latin typeface="돋움"/>
                <a:ea typeface="돋움"/>
              </a:rPr>
              <a:t>교육 컨텐츠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4" name="AutoShape 13"/>
          <p:cNvSpPr/>
          <p:nvPr/>
        </p:nvSpPr>
        <p:spPr>
          <a:xfrm>
            <a:off x="865080" y="3397320"/>
            <a:ext cx="1121040" cy="650880"/>
          </a:xfrm>
          <a:prstGeom prst="cube">
            <a:avLst>
              <a:gd name="adj" fmla="val 24995"/>
            </a:avLst>
          </a:prstGeom>
          <a:gradFill rotWithShape="0">
            <a:gsLst>
              <a:gs pos="0">
                <a:srgbClr val="ffcc00"/>
              </a:gs>
              <a:gs pos="50000">
                <a:srgbClr val="ffeeac"/>
              </a:gs>
              <a:gs pos="100000">
                <a:srgbClr val="ffcc00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333399"/>
                </a:solidFill>
                <a:latin typeface="돋움"/>
                <a:ea typeface="돋움"/>
              </a:rPr>
              <a:t>게시판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633240" y="1862280"/>
            <a:ext cx="267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333399"/>
                </a:solidFill>
                <a:latin typeface="돋움"/>
                <a:ea typeface="돋움"/>
              </a:rPr>
              <a:t>엘림에듀 포탈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5783400" y="2266920"/>
            <a:ext cx="22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333399"/>
                </a:solidFill>
                <a:latin typeface="돋움"/>
                <a:ea typeface="돋움"/>
              </a:rPr>
              <a:t>교육 프로세스 및 수강자 매니저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625320" y="5100480"/>
            <a:ext cx="405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333399"/>
                </a:solidFill>
                <a:latin typeface="돋움"/>
                <a:ea typeface="돋움"/>
              </a:rPr>
              <a:t>컨텐츠 저장소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727200" y="2327400"/>
            <a:ext cx="113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333399"/>
                </a:solidFill>
                <a:latin typeface="돋움"/>
                <a:ea typeface="돋움"/>
              </a:rPr>
              <a:t>학습 과제 리스트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9" name="Text Box 19"/>
          <p:cNvSpPr/>
          <p:nvPr/>
        </p:nvSpPr>
        <p:spPr>
          <a:xfrm>
            <a:off x="1857240" y="2327400"/>
            <a:ext cx="14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333399"/>
                </a:solidFill>
                <a:latin typeface="돋움"/>
                <a:ea typeface="돋움"/>
              </a:rPr>
              <a:t>교육 성과 분석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70" name="Group 21"/>
          <p:cNvGrpSpPr/>
          <p:nvPr/>
        </p:nvGrpSpPr>
        <p:grpSpPr>
          <a:xfrm>
            <a:off x="1924200" y="3397320"/>
            <a:ext cx="1026720" cy="650520"/>
            <a:chOff x="1924200" y="3397320"/>
            <a:chExt cx="1026720" cy="650520"/>
          </a:xfrm>
        </p:grpSpPr>
        <p:sp>
          <p:nvSpPr>
            <p:cNvPr id="271" name="AutoShape 22"/>
            <p:cNvSpPr/>
            <p:nvPr/>
          </p:nvSpPr>
          <p:spPr>
            <a:xfrm>
              <a:off x="1924200" y="3397320"/>
              <a:ext cx="1026720" cy="65052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eeac"/>
                </a:gs>
                <a:gs pos="100000">
                  <a:srgbClr val="ffcc00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99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272" name="Text Box 23"/>
            <p:cNvSpPr/>
            <p:nvPr/>
          </p:nvSpPr>
          <p:spPr>
            <a:xfrm>
              <a:off x="1977840" y="3564000"/>
              <a:ext cx="692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000" spc="-1" strike="noStrike">
                  <a:solidFill>
                    <a:srgbClr val="333399"/>
                  </a:solidFill>
                  <a:latin typeface="돋움"/>
                  <a:ea typeface="돋움"/>
                </a:rPr>
                <a:t>토론장</a:t>
              </a:r>
              <a:endParaRPr b="1" lang="en-US" sz="1000" spc="-1" strike="noStrike">
                <a:solidFill>
                  <a:srgbClr val="333399"/>
                </a:solidFill>
                <a:latin typeface="Arial"/>
              </a:endParaRPr>
            </a:p>
          </p:txBody>
        </p:sp>
      </p:grpSp>
      <p:sp>
        <p:nvSpPr>
          <p:cNvPr id="273" name="AutoShape 29"/>
          <p:cNvSpPr/>
          <p:nvPr/>
        </p:nvSpPr>
        <p:spPr>
          <a:xfrm>
            <a:off x="3362400" y="2185920"/>
            <a:ext cx="1600200" cy="746280"/>
          </a:xfrm>
          <a:prstGeom prst="cube">
            <a:avLst>
              <a:gd name="adj" fmla="val 24995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4" name="Text Box 30"/>
          <p:cNvSpPr/>
          <p:nvPr/>
        </p:nvSpPr>
        <p:spPr>
          <a:xfrm>
            <a:off x="3174840" y="2379600"/>
            <a:ext cx="169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333399"/>
                </a:solidFill>
                <a:latin typeface="돋움"/>
                <a:ea typeface="돋움"/>
              </a:rPr>
              <a:t>교육 프로세스 플레이어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75" name="Group 31"/>
          <p:cNvGrpSpPr/>
          <p:nvPr/>
        </p:nvGrpSpPr>
        <p:grpSpPr>
          <a:xfrm>
            <a:off x="2878200" y="3397320"/>
            <a:ext cx="1028160" cy="650520"/>
            <a:chOff x="2878200" y="3397320"/>
            <a:chExt cx="1028160" cy="650520"/>
          </a:xfrm>
        </p:grpSpPr>
        <p:sp>
          <p:nvSpPr>
            <p:cNvPr id="276" name="AutoShape 32"/>
            <p:cNvSpPr/>
            <p:nvPr/>
          </p:nvSpPr>
          <p:spPr>
            <a:xfrm>
              <a:off x="2878200" y="3397320"/>
              <a:ext cx="1028160" cy="65052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eeac"/>
                </a:gs>
                <a:gs pos="100000">
                  <a:srgbClr val="ffcc00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99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277" name="Text Box 33"/>
            <p:cNvSpPr/>
            <p:nvPr/>
          </p:nvSpPr>
          <p:spPr>
            <a:xfrm>
              <a:off x="2971800" y="3564000"/>
              <a:ext cx="693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000" spc="-1" strike="noStrike">
                  <a:solidFill>
                    <a:srgbClr val="333399"/>
                  </a:solidFill>
                  <a:latin typeface="돋움"/>
                  <a:ea typeface="돋움"/>
                </a:rPr>
                <a:t>포털</a:t>
              </a:r>
              <a:endParaRPr b="1" lang="en-US" sz="1000" spc="-1" strike="noStrike">
                <a:solidFill>
                  <a:srgbClr val="333399"/>
                </a:solidFill>
                <a:latin typeface="Arial"/>
              </a:endParaRPr>
            </a:p>
          </p:txBody>
        </p:sp>
      </p:grpSp>
      <p:sp>
        <p:nvSpPr>
          <p:cNvPr id="278" name="AutoShape 34"/>
          <p:cNvSpPr/>
          <p:nvPr/>
        </p:nvSpPr>
        <p:spPr>
          <a:xfrm>
            <a:off x="1692360" y="5479920"/>
            <a:ext cx="1046160" cy="596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3dcff"/>
              </a:gs>
              <a:gs pos="50000">
                <a:srgbClr val="f1faff"/>
              </a:gs>
              <a:gs pos="100000">
                <a:srgbClr val="a3dc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6284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333399"/>
                </a:solidFill>
                <a:latin typeface="돋움"/>
                <a:ea typeface="돋움"/>
              </a:rPr>
              <a:t>성향 룰 베이스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9" name="AutoShape 35"/>
          <p:cNvSpPr/>
          <p:nvPr/>
        </p:nvSpPr>
        <p:spPr>
          <a:xfrm>
            <a:off x="5924520" y="5284800"/>
            <a:ext cx="1600200" cy="746280"/>
          </a:xfrm>
          <a:prstGeom prst="cube">
            <a:avLst>
              <a:gd name="adj" fmla="val 24995"/>
            </a:avLst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333399"/>
                </a:solidFill>
                <a:latin typeface="돋움"/>
                <a:ea typeface="돋움"/>
              </a:rPr>
              <a:t>교육 프로세스 인스턴스 매니저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AutoShape 36"/>
          <p:cNvSpPr/>
          <p:nvPr/>
        </p:nvSpPr>
        <p:spPr>
          <a:xfrm>
            <a:off x="5924520" y="3732120"/>
            <a:ext cx="1600200" cy="746280"/>
          </a:xfrm>
          <a:prstGeom prst="cube">
            <a:avLst>
              <a:gd name="adj" fmla="val 24995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333399"/>
                </a:solidFill>
                <a:latin typeface="돋움"/>
                <a:ea typeface="돋움"/>
              </a:rPr>
              <a:t>교육 프로세스 시뮬레이션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Line 37"/>
          <p:cNvSpPr/>
          <p:nvPr/>
        </p:nvSpPr>
        <p:spPr>
          <a:xfrm flipV="1">
            <a:off x="1293840" y="2882520"/>
            <a:ext cx="3240" cy="4222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2" name="Line 38"/>
          <p:cNvSpPr/>
          <p:nvPr/>
        </p:nvSpPr>
        <p:spPr>
          <a:xfrm flipV="1">
            <a:off x="2705040" y="2882520"/>
            <a:ext cx="3240" cy="4222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3" name="Line 39"/>
          <p:cNvSpPr/>
          <p:nvPr/>
        </p:nvSpPr>
        <p:spPr>
          <a:xfrm flipV="1">
            <a:off x="4022640" y="2882520"/>
            <a:ext cx="3240" cy="4222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Line 40"/>
          <p:cNvSpPr/>
          <p:nvPr/>
        </p:nvSpPr>
        <p:spPr>
          <a:xfrm flipH="1">
            <a:off x="1799640" y="4840200"/>
            <a:ext cx="90360" cy="351000"/>
          </a:xfrm>
          <a:prstGeom prst="pie">
            <a:avLst/>
          </a:prstGeom>
          <a:noFill/>
          <a:ln w="25560">
            <a:solidFill>
              <a:srgbClr val="333399"/>
            </a:solidFill>
            <a:miter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5" name="Line 41"/>
          <p:cNvSpPr/>
          <p:nvPr/>
        </p:nvSpPr>
        <p:spPr>
          <a:xfrm flipH="1">
            <a:off x="3700440" y="4840200"/>
            <a:ext cx="92160" cy="351000"/>
          </a:xfrm>
          <a:prstGeom prst="pie">
            <a:avLst/>
          </a:prstGeom>
          <a:noFill/>
          <a:ln w="25560">
            <a:solidFill>
              <a:srgbClr val="333399"/>
            </a:solidFill>
            <a:miter/>
            <a:tailEnd len="med" type="triangle" w="med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86" name="AutoShape 42"/>
          <p:cNvCxnSpPr>
            <a:stCxn id="262" idx="2"/>
            <a:endCxn id="252" idx="3"/>
          </p:cNvCxnSpPr>
          <p:nvPr/>
        </p:nvCxnSpPr>
        <p:spPr>
          <a:xfrm rot="10800000">
            <a:off x="5150880" y="4095000"/>
            <a:ext cx="773640" cy="935640"/>
          </a:xfrm>
          <a:prstGeom prst="bentConnector3">
            <a:avLst>
              <a:gd name="adj1" fmla="val 50093"/>
            </a:avLst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7" name="AutoShape 43"/>
          <p:cNvCxnSpPr>
            <a:stCxn id="279" idx="2"/>
            <a:endCxn id="258" idx="3"/>
          </p:cNvCxnSpPr>
          <p:nvPr/>
        </p:nvCxnSpPr>
        <p:spPr>
          <a:xfrm rot="10800000">
            <a:off x="5155560" y="5635080"/>
            <a:ext cx="768960" cy="116280"/>
          </a:xfrm>
          <a:prstGeom prst="bentConnector3">
            <a:avLst>
              <a:gd name="adj1" fmla="val 49976"/>
            </a:avLst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288" name="AutoShape 44"/>
          <p:cNvCxnSpPr>
            <a:stCxn id="262" idx="2"/>
            <a:endCxn id="258" idx="3"/>
          </p:cNvCxnSpPr>
          <p:nvPr/>
        </p:nvCxnSpPr>
        <p:spPr>
          <a:xfrm flipV="1" rot="10800000">
            <a:off x="5155560" y="5029560"/>
            <a:ext cx="768960" cy="605880"/>
          </a:xfrm>
          <a:prstGeom prst="bentConnector3">
            <a:avLst>
              <a:gd name="adj1" fmla="val 49976"/>
            </a:avLst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289" name="AutoShape 45"/>
          <p:cNvCxnSpPr>
            <a:stCxn id="280" idx="2"/>
            <a:endCxn id="252" idx="3"/>
          </p:cNvCxnSpPr>
          <p:nvPr/>
        </p:nvCxnSpPr>
        <p:spPr>
          <a:xfrm rot="10800000">
            <a:off x="5150880" y="4095000"/>
            <a:ext cx="773640" cy="104040"/>
          </a:xfrm>
          <a:prstGeom prst="bentConnector3">
            <a:avLst>
              <a:gd name="adj1" fmla="val 50093"/>
            </a:avLst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290" name="AutoShape 46"/>
          <p:cNvCxnSpPr>
            <a:stCxn id="261" idx="2"/>
            <a:endCxn id="258" idx="3"/>
          </p:cNvCxnSpPr>
          <p:nvPr/>
        </p:nvCxnSpPr>
        <p:spPr>
          <a:xfrm flipV="1" rot="10800000">
            <a:off x="5155560" y="3456360"/>
            <a:ext cx="768960" cy="2179080"/>
          </a:xfrm>
          <a:prstGeom prst="bentConnector3">
            <a:avLst>
              <a:gd name="adj1" fmla="val 49976"/>
            </a:avLst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91" name="AutoShape 47"/>
          <p:cNvSpPr/>
          <p:nvPr/>
        </p:nvSpPr>
        <p:spPr>
          <a:xfrm>
            <a:off x="3855960" y="5470560"/>
            <a:ext cx="1200240" cy="596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3dcff"/>
              </a:gs>
              <a:gs pos="50000">
                <a:srgbClr val="f1faff"/>
              </a:gs>
              <a:gs pos="100000">
                <a:srgbClr val="a3dc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6284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333399"/>
                </a:solidFill>
                <a:latin typeface="돋움"/>
                <a:ea typeface="돋움"/>
              </a:rPr>
              <a:t>교육 실행 결과 데이터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92" name="Object 48"/>
          <p:cNvGraphicFramePr/>
          <p:nvPr/>
        </p:nvGraphicFramePr>
        <p:xfrm>
          <a:off x="1104840" y="1125360"/>
          <a:ext cx="352440" cy="532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3" name="Object 4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04840" y="1125360"/>
                    <a:ext cx="35244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49"/>
          <p:cNvGraphicFramePr/>
          <p:nvPr/>
        </p:nvGraphicFramePr>
        <p:xfrm>
          <a:off x="2239920" y="1117440"/>
          <a:ext cx="352440" cy="530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95" name="Object 4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39920" y="1117440"/>
                    <a:ext cx="3524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50"/>
          <p:cNvGraphicFramePr/>
          <p:nvPr/>
        </p:nvGraphicFramePr>
        <p:xfrm>
          <a:off x="5186520" y="1319040"/>
          <a:ext cx="392040" cy="590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97" name="Object 5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186520" y="1319040"/>
                    <a:ext cx="39204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51"/>
          <p:cNvSpPr/>
          <p:nvPr/>
        </p:nvSpPr>
        <p:spPr>
          <a:xfrm>
            <a:off x="1413000" y="1147680"/>
            <a:ext cx="4935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2120" rIns="132120" tIns="65880" bIns="65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20840"/>
                <a:tab algn="l" pos="2641680"/>
                <a:tab algn="l" pos="3962520"/>
                <a:tab algn="l" pos="5283360"/>
                <a:tab algn="l" pos="6603840"/>
                <a:tab algn="l" pos="7924680"/>
                <a:tab algn="l" pos="9245520"/>
                <a:tab algn="l" pos="10566360"/>
              </a:tabLst>
            </a:pPr>
            <a:r>
              <a:rPr b="1" lang="ko-KR" sz="1000" spc="-1" strike="noStrike">
                <a:solidFill>
                  <a:srgbClr val="333399"/>
                </a:solidFill>
                <a:latin typeface="돋움"/>
                <a:ea typeface="돋움"/>
              </a:rPr>
              <a:t>수강자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Text Box 52"/>
          <p:cNvSpPr/>
          <p:nvPr/>
        </p:nvSpPr>
        <p:spPr>
          <a:xfrm>
            <a:off x="2565360" y="1149480"/>
            <a:ext cx="4935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2120" rIns="132120" tIns="65880" bIns="65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20840"/>
                <a:tab algn="l" pos="2641680"/>
                <a:tab algn="l" pos="3962520"/>
                <a:tab algn="l" pos="5283360"/>
                <a:tab algn="l" pos="6603840"/>
                <a:tab algn="l" pos="7924680"/>
                <a:tab algn="l" pos="9245520"/>
                <a:tab algn="l" pos="10566360"/>
              </a:tabLst>
            </a:pPr>
            <a:r>
              <a:rPr b="1" lang="ko-KR" sz="1000" spc="-1" strike="noStrike">
                <a:solidFill>
                  <a:srgbClr val="333399"/>
                </a:solidFill>
                <a:latin typeface="돋움"/>
                <a:ea typeface="돋움"/>
              </a:rPr>
              <a:t>학부모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0" name="Text Box 53"/>
          <p:cNvSpPr/>
          <p:nvPr/>
        </p:nvSpPr>
        <p:spPr>
          <a:xfrm>
            <a:off x="5546160" y="1486080"/>
            <a:ext cx="417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2120" rIns="132120" tIns="65880" bIns="65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20840"/>
                <a:tab algn="l" pos="2641680"/>
                <a:tab algn="l" pos="3962520"/>
                <a:tab algn="l" pos="5283360"/>
                <a:tab algn="l" pos="6603840"/>
                <a:tab algn="l" pos="7924680"/>
                <a:tab algn="l" pos="9245520"/>
                <a:tab algn="l" pos="10566360"/>
              </a:tabLst>
            </a:pPr>
            <a:r>
              <a:rPr b="1" lang="ko-KR" sz="1000" spc="-1" strike="noStrike">
                <a:solidFill>
                  <a:srgbClr val="333399"/>
                </a:solidFill>
                <a:latin typeface="돋움"/>
                <a:ea typeface="돋움"/>
              </a:rPr>
              <a:t>강사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01" name="Object 54"/>
          <p:cNvGraphicFramePr/>
          <p:nvPr/>
        </p:nvGraphicFramePr>
        <p:xfrm>
          <a:off x="6642000" y="1319040"/>
          <a:ext cx="389160" cy="592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02" name="Object 5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642000" y="1319040"/>
                    <a:ext cx="3891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Text Box 55"/>
          <p:cNvSpPr/>
          <p:nvPr/>
        </p:nvSpPr>
        <p:spPr>
          <a:xfrm>
            <a:off x="6907320" y="1486080"/>
            <a:ext cx="14097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2120" rIns="132120" tIns="65880" bIns="65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20840"/>
                <a:tab algn="l" pos="2641680"/>
                <a:tab algn="l" pos="3962520"/>
                <a:tab algn="l" pos="5283360"/>
                <a:tab algn="l" pos="6603840"/>
                <a:tab algn="l" pos="7924680"/>
                <a:tab algn="l" pos="9245520"/>
                <a:tab algn="l" pos="10566360"/>
              </a:tabLst>
            </a:pPr>
            <a:r>
              <a:rPr b="1" lang="ko-KR" sz="1000" spc="-1" strike="noStrike">
                <a:solidFill>
                  <a:srgbClr val="333399"/>
                </a:solidFill>
                <a:latin typeface="돋움"/>
                <a:ea typeface="돋움"/>
              </a:rPr>
              <a:t>개발자 </a:t>
            </a:r>
            <a:r>
              <a:rPr b="1" lang="en-US" sz="1000" spc="-1" strike="noStrike">
                <a:solidFill>
                  <a:srgbClr val="333399"/>
                </a:solidFill>
                <a:latin typeface="돋움"/>
                <a:ea typeface="돋움"/>
              </a:rPr>
              <a:t>/ </a:t>
            </a:r>
            <a:r>
              <a:rPr b="1" lang="ko-KR" sz="1000" spc="-1" strike="noStrike">
                <a:solidFill>
                  <a:srgbClr val="333399"/>
                </a:solidFill>
                <a:latin typeface="돋움"/>
                <a:ea typeface="돋움"/>
              </a:rPr>
              <a:t>시스템 관리자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4" name="Line 56"/>
          <p:cNvSpPr/>
          <p:nvPr/>
        </p:nvSpPr>
        <p:spPr>
          <a:xfrm>
            <a:off x="1870200" y="1536840"/>
            <a:ext cx="4680" cy="4222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5" name="Line 57"/>
          <p:cNvSpPr/>
          <p:nvPr/>
        </p:nvSpPr>
        <p:spPr>
          <a:xfrm>
            <a:off x="3232080" y="1536840"/>
            <a:ext cx="3240" cy="4222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6" name="Line 58"/>
          <p:cNvSpPr/>
          <p:nvPr/>
        </p:nvSpPr>
        <p:spPr>
          <a:xfrm>
            <a:off x="5327640" y="1781280"/>
            <a:ext cx="473040" cy="4190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7" name="Line 59"/>
          <p:cNvSpPr/>
          <p:nvPr/>
        </p:nvSpPr>
        <p:spPr>
          <a:xfrm>
            <a:off x="6846840" y="1781280"/>
            <a:ext cx="4680" cy="4190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8" name="AutoShape 60"/>
          <p:cNvSpPr/>
          <p:nvPr/>
        </p:nvSpPr>
        <p:spPr>
          <a:xfrm>
            <a:off x="727200" y="1052640"/>
            <a:ext cx="3859200" cy="58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9" name="AutoShape 61"/>
          <p:cNvSpPr/>
          <p:nvPr/>
        </p:nvSpPr>
        <p:spPr>
          <a:xfrm>
            <a:off x="5113440" y="1133640"/>
            <a:ext cx="3108240" cy="84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10" name="Group 31"/>
          <p:cNvGrpSpPr/>
          <p:nvPr/>
        </p:nvGrpSpPr>
        <p:grpSpPr>
          <a:xfrm>
            <a:off x="3746520" y="3397320"/>
            <a:ext cx="1209240" cy="650520"/>
            <a:chOff x="3746520" y="3397320"/>
            <a:chExt cx="1209240" cy="650520"/>
          </a:xfrm>
        </p:grpSpPr>
        <p:sp>
          <p:nvSpPr>
            <p:cNvPr id="311" name="AutoShape 32"/>
            <p:cNvSpPr/>
            <p:nvPr/>
          </p:nvSpPr>
          <p:spPr>
            <a:xfrm>
              <a:off x="3840120" y="3397320"/>
              <a:ext cx="1115640" cy="65052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eeac"/>
                </a:gs>
                <a:gs pos="100000">
                  <a:srgbClr val="ffcc00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99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312" name="Text Box 33"/>
            <p:cNvSpPr/>
            <p:nvPr/>
          </p:nvSpPr>
          <p:spPr>
            <a:xfrm>
              <a:off x="3746520" y="3564000"/>
              <a:ext cx="102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000" spc="-1" strike="noStrike">
                  <a:solidFill>
                    <a:srgbClr val="333399"/>
                  </a:solidFill>
                  <a:latin typeface="돋움"/>
                  <a:ea typeface="돋움"/>
                </a:rPr>
                <a:t>멀티미디어 컨텐츠</a:t>
              </a:r>
              <a:endParaRPr b="1" lang="en-US" sz="1000" spc="-1" strike="noStrike">
                <a:solidFill>
                  <a:srgbClr val="333399"/>
                </a:solidFill>
                <a:latin typeface="Arial"/>
              </a:endParaRPr>
            </a:p>
          </p:txBody>
        </p:sp>
      </p:grpSp>
      <p:sp>
        <p:nvSpPr>
          <p:cNvPr id="313" name="TextBox 68"/>
          <p:cNvSpPr/>
          <p:nvPr/>
        </p:nvSpPr>
        <p:spPr>
          <a:xfrm>
            <a:off x="4748040" y="347652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633240" y="3200400"/>
            <a:ext cx="395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333399"/>
                </a:solidFill>
                <a:latin typeface="돋움"/>
                <a:ea typeface="돋움"/>
              </a:rPr>
              <a:t>올페스 </a:t>
            </a:r>
            <a:r>
              <a:rPr b="1" lang="en-US" sz="1000" spc="-1" strike="noStrike">
                <a:solidFill>
                  <a:srgbClr val="333399"/>
                </a:solidFill>
                <a:latin typeface="돋움"/>
                <a:ea typeface="돋움"/>
              </a:rPr>
              <a:t>II </a:t>
            </a:r>
            <a:r>
              <a:rPr b="1" lang="ko-KR" sz="1000" spc="-1" strike="noStrike">
                <a:solidFill>
                  <a:srgbClr val="333399"/>
                </a:solidFill>
                <a:latin typeface="돋움"/>
                <a:ea typeface="돋움"/>
              </a:rPr>
              <a:t>엔진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15" name="Object 7"/>
          <p:cNvGraphicFramePr/>
          <p:nvPr/>
        </p:nvGraphicFramePr>
        <p:xfrm>
          <a:off x="3438360" y="1108080"/>
          <a:ext cx="354240" cy="530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16" name="Object 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438360" y="1108080"/>
                    <a:ext cx="3542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Text Box 52"/>
          <p:cNvSpPr/>
          <p:nvPr/>
        </p:nvSpPr>
        <p:spPr>
          <a:xfrm>
            <a:off x="3673440" y="1125360"/>
            <a:ext cx="417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2120" rIns="132120" tIns="65880" bIns="65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20840"/>
                <a:tab algn="l" pos="2641680"/>
                <a:tab algn="l" pos="3962520"/>
                <a:tab algn="l" pos="5283360"/>
                <a:tab algn="l" pos="6603840"/>
                <a:tab algn="l" pos="7924680"/>
                <a:tab algn="l" pos="9245520"/>
                <a:tab algn="l" pos="10566360"/>
              </a:tabLst>
            </a:pPr>
            <a:r>
              <a:rPr b="1" lang="ko-KR" sz="1000" spc="-1" strike="noStrike">
                <a:solidFill>
                  <a:srgbClr val="333399"/>
                </a:solidFill>
                <a:latin typeface="돋움"/>
                <a:ea typeface="돋움"/>
              </a:rPr>
              <a:t>교우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8" name="AutoShape 34"/>
          <p:cNvSpPr/>
          <p:nvPr/>
        </p:nvSpPr>
        <p:spPr>
          <a:xfrm>
            <a:off x="2768760" y="5479920"/>
            <a:ext cx="1046160" cy="596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3dcff"/>
              </a:gs>
              <a:gs pos="50000">
                <a:srgbClr val="f1faff"/>
              </a:gs>
              <a:gs pos="100000">
                <a:srgbClr val="a3dc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6284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333399"/>
                </a:solidFill>
                <a:latin typeface="돋움"/>
                <a:ea typeface="돋움"/>
              </a:rPr>
              <a:t>기타 교육 도구들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539640" y="1268280"/>
          <a:ext cx="8209080" cy="5073840"/>
        </p:xfrm>
        <a:graphic>
          <a:graphicData uri="http://schemas.openxmlformats.org/drawingml/2006/table">
            <a:tbl>
              <a:tblPr/>
              <a:tblGrid>
                <a:gridCol w="622440"/>
                <a:gridCol w="2235240"/>
                <a:gridCol w="1430280"/>
                <a:gridCol w="1428840"/>
                <a:gridCol w="1428480"/>
                <a:gridCol w="106380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능비교항목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LOAD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LAMS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pperCore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UEFL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da1"/>
                    </a:solidFill>
                  </a:tcPr>
                </a:tc>
              </a:tr>
              <a:tr h="27648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흐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룰 편집기능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차흐름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 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엔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nly)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da1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기흐름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X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 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엔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nly)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da1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병렬흐름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X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X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 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엔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nly)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da1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반복흐름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X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X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 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엔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nly)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da1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UI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반 룰 정의기능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X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X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da1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시젼 트리 룰 정의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X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X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da1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시젼 테이블 룰 정의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da1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뮬레이터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da1"/>
                    </a:solidFill>
                  </a:tcPr>
                </a:tc>
              </a:tr>
              <a:tr h="450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플레이어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-Do List 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찾아오는 나의 과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제공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X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X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X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da1"/>
                    </a:solidFill>
                  </a:tcPr>
                </a:tc>
              </a:tr>
              <a:tr h="31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노티기능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X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X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da1"/>
                    </a:solidFill>
                  </a:tcPr>
                </a:tc>
              </a:tr>
              <a:tr h="31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육진행모니터링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X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da1"/>
                    </a:solidFill>
                  </a:tcPr>
                </a:tc>
              </a:tr>
              <a:tr h="330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석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레포팅기능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LAP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반 다차원 성향분석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X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X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X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da1"/>
                    </a:solidFill>
                  </a:tcPr>
                </a:tc>
              </a:tr>
              <a:tr h="48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석결과 레포팅 및 게시 기능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X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X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X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da1"/>
                    </a:solidFill>
                  </a:tcPr>
                </a:tc>
              </a:tr>
              <a:tr h="351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표준지원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CORM, LD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LD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LD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PEL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da1"/>
                    </a:solidFill>
                  </a:tcPr>
                </a:tc>
              </a:tr>
              <a:tr h="350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국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영국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호주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네덜란드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한국</a:t>
                      </a:r>
                      <a:endParaRPr b="1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fda1"/>
                    </a:solidFill>
                  </a:tcPr>
                </a:tc>
              </a:tr>
            </a:tbl>
          </a:graphicData>
        </a:graphic>
      </p:graphicFrame>
      <p:sp>
        <p:nvSpPr>
          <p:cNvPr id="320" name="Rectangle 395"/>
          <p:cNvSpPr/>
          <p:nvPr/>
        </p:nvSpPr>
        <p:spPr>
          <a:xfrm>
            <a:off x="1770480" y="907920"/>
            <a:ext cx="538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EFL</a:t>
            </a:r>
            <a:r>
              <a:rPr b="1" lang="ko-KR" sz="1400" spc="-1" strike="noStrike">
                <a:solidFill>
                  <a:srgbClr val="333399"/>
                </a:solidFill>
                <a:latin typeface="Arial"/>
              </a:rPr>
              <a:t>은 국내유일의 흐름기반 교육 엔진이며 외산의 엔진에 비해서도 다음과 같은 장점을 갖고 있다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1" name="Rectangle 115"/>
          <p:cNvSpPr/>
          <p:nvPr/>
        </p:nvSpPr>
        <p:spPr>
          <a:xfrm>
            <a:off x="414360" y="65160"/>
            <a:ext cx="822960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07960" indent="-50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99"/>
                </a:solidFill>
                <a:latin typeface="굴림"/>
              </a:rPr>
              <a:t>참고사례 </a:t>
            </a:r>
            <a:r>
              <a:rPr b="1" lang="en-US" sz="24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333399"/>
                </a:solidFill>
                <a:latin typeface="굴림"/>
              </a:rPr>
              <a:t>비교자료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2" name="Line 116"/>
          <p:cNvSpPr/>
          <p:nvPr/>
        </p:nvSpPr>
        <p:spPr>
          <a:xfrm>
            <a:off x="434880" y="782640"/>
            <a:ext cx="784872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 flipV="1">
            <a:off x="2521080" y="4038480"/>
            <a:ext cx="4749840" cy="1368720"/>
          </a:xfrm>
          <a:custGeom>
            <a:avLst/>
            <a:gdLst>
              <a:gd name="textAreaLeft" fmla="*/ 1044360 w 4749840"/>
              <a:gd name="textAreaRight" fmla="*/ 3705480 w 4749840"/>
              <a:gd name="textAreaTop" fmla="*/ 300960 h 1368720"/>
              <a:gd name="textAreaBottom" fmla="*/ 106776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d700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56000" y="5433840"/>
            <a:ext cx="4681440" cy="1090800"/>
          </a:xfrm>
          <a:prstGeom prst="rect">
            <a:avLst/>
          </a:prstGeom>
          <a:gradFill rotWithShape="0">
            <a:gsLst>
              <a:gs pos="0">
                <a:srgbClr val="fc8420"/>
              </a:gs>
              <a:gs pos="50000">
                <a:srgbClr val="ffd700"/>
              </a:gs>
              <a:gs pos="100000">
                <a:srgbClr val="fc8420"/>
              </a:gs>
            </a:gsLst>
            <a:lin ang="13500000"/>
          </a:gradFill>
          <a:ln w="57240">
            <a:solidFill>
              <a:srgbClr val="ff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Arial"/>
              </a:rPr>
              <a:t>운영 비용 절감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Arial"/>
              </a:rPr>
              <a:t>서비스의 질적 향상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Arial"/>
              </a:rPr>
              <a:t>대 고객 만족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Arial"/>
              </a:rPr>
              <a:t> → </a:t>
            </a:r>
            <a:r>
              <a:rPr b="1" i="1" lang="ko-KR" sz="1800" spc="-1" strike="noStrike">
                <a:solidFill>
                  <a:srgbClr val="660066"/>
                </a:solidFill>
                <a:latin typeface="Arial"/>
              </a:rPr>
              <a:t>새로운</a:t>
            </a: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ko-KR" sz="1800" spc="-1" strike="noStrike">
                <a:solidFill>
                  <a:srgbClr val="660066"/>
                </a:solidFill>
                <a:latin typeface="Arial"/>
              </a:rPr>
              <a:t>논술 교육의 표준 선도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5" name="AutoShape 4"/>
          <p:cNvSpPr/>
          <p:nvPr/>
        </p:nvSpPr>
        <p:spPr>
          <a:xfrm>
            <a:off x="4143240" y="1314360"/>
            <a:ext cx="1428840" cy="41306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cc00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99cc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1352520" y="3094200"/>
            <a:ext cx="2719440" cy="6681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ccecff"/>
              </a:gs>
              <a:gs pos="100000">
                <a:srgbClr val="bbe0e3"/>
              </a:gs>
            </a:gsLst>
            <a:lin ang="5400000"/>
          </a:gradFill>
          <a:ln w="19080">
            <a:solidFill>
              <a:srgbClr val="3366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가 복잡하여 직접 접근 못해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전문가 통한 관리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7" name="Rectangle 9"/>
          <p:cNvSpPr/>
          <p:nvPr/>
        </p:nvSpPr>
        <p:spPr>
          <a:xfrm>
            <a:off x="1352520" y="3817800"/>
            <a:ext cx="2719440" cy="6685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ccecff"/>
              </a:gs>
              <a:gs pos="100000">
                <a:srgbClr val="bbe0e3"/>
              </a:gs>
            </a:gsLst>
            <a:lin ang="5400000"/>
          </a:gradFill>
          <a:ln w="19080">
            <a:solidFill>
              <a:srgbClr val="3366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시스템 변경에 많은 시간 소요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요구사항 변질 가능성 높음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8" name="Rectangle 10"/>
          <p:cNvSpPr/>
          <p:nvPr/>
        </p:nvSpPr>
        <p:spPr>
          <a:xfrm>
            <a:off x="1352520" y="4556160"/>
            <a:ext cx="2719440" cy="6681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ccecff"/>
              </a:gs>
              <a:gs pos="100000">
                <a:srgbClr val="bbe0e3"/>
              </a:gs>
            </a:gsLst>
            <a:lin ang="5400000"/>
          </a:gradFill>
          <a:ln w="19080">
            <a:solidFill>
              <a:srgbClr val="3366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분석이 필요할 때마다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전문가를 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통해 개발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9" name="Rectangle 11"/>
          <p:cNvSpPr/>
          <p:nvPr/>
        </p:nvSpPr>
        <p:spPr>
          <a:xfrm>
            <a:off x="5637240" y="1557360"/>
            <a:ext cx="3286080" cy="6681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0066ff"/>
              </a:gs>
              <a:gs pos="100000">
                <a:srgbClr val="3399ff"/>
              </a:gs>
            </a:gsLst>
            <a:lin ang="5400000"/>
          </a:gradFill>
          <a:ln w="19080">
            <a:solidFill>
              <a:srgbClr val="3366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Arial"/>
              </a:rPr>
              <a:t>사람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ko-KR" sz="1400" spc="-1" strike="noStrike">
                <a:solidFill>
                  <a:srgbClr val="ffffff"/>
                </a:solidFill>
                <a:latin typeface="Arial"/>
              </a:rPr>
              <a:t>컨텐츠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ko-KR" sz="1400" spc="-1" strike="noStrike">
                <a:solidFill>
                  <a:srgbClr val="ffffff"/>
                </a:solidFill>
                <a:latin typeface="Arial"/>
              </a:rPr>
              <a:t>사람 간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ko-KR" sz="1400" spc="-1" strike="noStrike">
                <a:solidFill>
                  <a:srgbClr val="ffffff"/>
                </a:solidFill>
                <a:latin typeface="Arial"/>
              </a:rPr>
              <a:t>즉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ko-KR" sz="1400" spc="-1" strike="noStrike">
                <a:solidFill>
                  <a:srgbClr val="ffffff"/>
                </a:solidFill>
                <a:latin typeface="Arial"/>
              </a:rPr>
              <a:t>학부모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ko-KR" sz="1400" spc="-1" strike="noStrike">
                <a:solidFill>
                  <a:srgbClr val="ffffff"/>
                </a:solidFill>
                <a:latin typeface="Arial"/>
              </a:rPr>
              <a:t>타 참여자 까지 유기적으로 연결하는 교육흐름 제공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0" name="Rectangle 12"/>
          <p:cNvSpPr/>
          <p:nvPr/>
        </p:nvSpPr>
        <p:spPr>
          <a:xfrm>
            <a:off x="5635800" y="3822840"/>
            <a:ext cx="3294000" cy="6681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0066ff"/>
              </a:gs>
              <a:gs pos="100000">
                <a:srgbClr val="3399ff"/>
              </a:gs>
            </a:gsLst>
            <a:lin ang="5400000"/>
          </a:gradFill>
          <a:ln w="19080">
            <a:solidFill>
              <a:srgbClr val="3366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Arial"/>
              </a:rPr>
              <a:t>컨텐츠 요구의 즉각적 수용이 가능하며 제작비용 절감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1" name="Rectangle 13"/>
          <p:cNvSpPr/>
          <p:nvPr/>
        </p:nvSpPr>
        <p:spPr>
          <a:xfrm>
            <a:off x="5627520" y="4583160"/>
            <a:ext cx="3295800" cy="7174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0066ff"/>
              </a:gs>
              <a:gs pos="100000">
                <a:srgbClr val="3399ff"/>
              </a:gs>
            </a:gsLst>
            <a:lin ang="5400000"/>
          </a:gradFill>
          <a:ln w="19080">
            <a:solidFill>
              <a:srgbClr val="3366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LAP </a:t>
            </a:r>
            <a:r>
              <a:rPr b="1" lang="ko-KR" sz="1400" spc="-1" strike="noStrike">
                <a:solidFill>
                  <a:srgbClr val="ffffff"/>
                </a:solidFill>
                <a:latin typeface="Arial"/>
              </a:rPr>
              <a:t>툴을 이용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, IT </a:t>
            </a:r>
            <a:r>
              <a:rPr b="1" lang="ko-KR" sz="1400" spc="-1" strike="noStrike">
                <a:solidFill>
                  <a:srgbClr val="ffffff"/>
                </a:solidFill>
                <a:latin typeface="Arial"/>
              </a:rPr>
              <a:t>비전문가도 교육 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Arial"/>
              </a:rPr>
              <a:t>프로세스별 구체적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ko-KR" sz="1400" spc="-1" strike="noStrike">
                <a:solidFill>
                  <a:srgbClr val="ffffff"/>
                </a:solidFill>
                <a:latin typeface="Arial"/>
              </a:rPr>
              <a:t>다각적 분석결과를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Arial"/>
              </a:rPr>
              <a:t>만들어 게시할 수 있음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2" name="AutoShape 17"/>
          <p:cNvSpPr/>
          <p:nvPr/>
        </p:nvSpPr>
        <p:spPr>
          <a:xfrm rot="16200000">
            <a:off x="260280" y="3176280"/>
            <a:ext cx="1584000" cy="381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cff"/>
              </a:gs>
              <a:gs pos="100000">
                <a:srgbClr val="765e76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3" name="Rectangle 21"/>
          <p:cNvSpPr/>
          <p:nvPr/>
        </p:nvSpPr>
        <p:spPr>
          <a:xfrm>
            <a:off x="1357200" y="2368440"/>
            <a:ext cx="2719440" cy="6685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ccecff"/>
              </a:gs>
              <a:gs pos="100000">
                <a:srgbClr val="bbe0e3"/>
              </a:gs>
            </a:gsLst>
            <a:lin ang="5400000"/>
          </a:gradFill>
          <a:ln w="19080">
            <a:solidFill>
              <a:srgbClr val="3366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각 상황별 유형을 전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화 하여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에 관리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4" name="Rectangle 22"/>
          <p:cNvSpPr/>
          <p:nvPr/>
        </p:nvSpPr>
        <p:spPr>
          <a:xfrm>
            <a:off x="5643720" y="3095640"/>
            <a:ext cx="3294000" cy="6681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0066ff"/>
              </a:gs>
              <a:gs pos="100000">
                <a:srgbClr val="3399ff"/>
              </a:gs>
            </a:gsLst>
            <a:lin ang="5400000"/>
          </a:gradFill>
          <a:ln w="19080">
            <a:solidFill>
              <a:srgbClr val="3366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n-It User</a:t>
            </a:r>
            <a:r>
              <a:rPr b="1" lang="ko-KR" sz="1400" spc="-1" strike="noStrike">
                <a:solidFill>
                  <a:srgbClr val="ffffff"/>
                </a:solidFill>
                <a:latin typeface="Arial"/>
              </a:rPr>
              <a:t>가 직접 디자이너 생성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ko-KR" sz="1400" spc="-1" strike="noStrike">
                <a:solidFill>
                  <a:srgbClr val="ffffff"/>
                </a:solidFill>
                <a:latin typeface="Arial"/>
              </a:rPr>
              <a:t>수정 가능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Rectangle 23"/>
          <p:cNvSpPr/>
          <p:nvPr/>
        </p:nvSpPr>
        <p:spPr>
          <a:xfrm>
            <a:off x="1355760" y="1562040"/>
            <a:ext cx="2719440" cy="6685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ccecff"/>
              </a:gs>
              <a:gs pos="100000">
                <a:srgbClr val="bbe0e3"/>
              </a:gs>
            </a:gsLst>
            <a:lin ang="5400000"/>
          </a:gradFill>
          <a:ln w="19080">
            <a:solidFill>
              <a:srgbClr val="3366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사람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컨텐츠 간의 단편적 흐름의 교육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6" name="Rectangle 24"/>
          <p:cNvSpPr/>
          <p:nvPr/>
        </p:nvSpPr>
        <p:spPr>
          <a:xfrm>
            <a:off x="5635800" y="2373480"/>
            <a:ext cx="3294000" cy="6681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0066ff"/>
              </a:gs>
              <a:gs pos="100000">
                <a:srgbClr val="3399ff"/>
              </a:gs>
            </a:gsLst>
            <a:lin ang="5400000"/>
          </a:gradFill>
          <a:ln w="19080">
            <a:solidFill>
              <a:srgbClr val="3366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ule </a:t>
            </a:r>
            <a:r>
              <a:rPr b="1" lang="ko-KR" sz="1400" spc="-1" strike="noStrike">
                <a:solidFill>
                  <a:srgbClr val="ffffff"/>
                </a:solidFill>
                <a:latin typeface="Arial"/>
              </a:rPr>
              <a:t>엔진에서 비교연산자를 이용한 다양한 유형관리 가능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7" name="Oval 25"/>
          <p:cNvSpPr/>
          <p:nvPr/>
        </p:nvSpPr>
        <p:spPr>
          <a:xfrm>
            <a:off x="179280" y="15937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2700000"/>
          </a:gradFill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99"/>
                </a:solidFill>
                <a:latin typeface="Arial"/>
              </a:rPr>
              <a:t>컨텐츠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99"/>
                </a:solidFill>
                <a:latin typeface="Arial"/>
              </a:rPr>
              <a:t>이용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8" name="Oval 26"/>
          <p:cNvSpPr/>
          <p:nvPr/>
        </p:nvSpPr>
        <p:spPr>
          <a:xfrm>
            <a:off x="142920" y="3051000"/>
            <a:ext cx="685800" cy="6858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2700000"/>
          </a:gradFill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99"/>
                </a:solidFill>
                <a:latin typeface="Arial"/>
              </a:rPr>
              <a:t>시스템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99"/>
                </a:solidFill>
                <a:latin typeface="Arial"/>
              </a:rPr>
              <a:t>유지보수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9" name="Oval 27"/>
          <p:cNvSpPr/>
          <p:nvPr/>
        </p:nvSpPr>
        <p:spPr>
          <a:xfrm>
            <a:off x="142920" y="44719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2700000"/>
          </a:gradFill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99"/>
                </a:solidFill>
                <a:latin typeface="Arial"/>
              </a:rPr>
              <a:t>분석기능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Rectangle 28"/>
          <p:cNvSpPr/>
          <p:nvPr/>
        </p:nvSpPr>
        <p:spPr>
          <a:xfrm>
            <a:off x="1587240" y="1000080"/>
            <a:ext cx="123048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ko-KR" sz="1400" spc="-1" strike="noStrike">
                <a:solidFill>
                  <a:srgbClr val="333399"/>
                </a:solidFill>
                <a:latin typeface="Arial"/>
              </a:rPr>
              <a:t>기존의 교육시스템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1" name="Rectangle 29"/>
          <p:cNvSpPr/>
          <p:nvPr/>
        </p:nvSpPr>
        <p:spPr>
          <a:xfrm>
            <a:off x="5644440" y="1000080"/>
            <a:ext cx="756720" cy="307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99ff"/>
              </a:gs>
              <a:gs pos="100000">
                <a:srgbClr val="cce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EFL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2" name="Rectangle 18"/>
          <p:cNvSpPr/>
          <p:nvPr/>
        </p:nvSpPr>
        <p:spPr>
          <a:xfrm>
            <a:off x="374760" y="189000"/>
            <a:ext cx="822960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07960" indent="-50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99"/>
                </a:solidFill>
                <a:latin typeface="Arial"/>
              </a:rPr>
              <a:t>기대 효과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3" name="Line 19"/>
          <p:cNvSpPr/>
          <p:nvPr/>
        </p:nvSpPr>
        <p:spPr>
          <a:xfrm>
            <a:off x="395280" y="906480"/>
            <a:ext cx="784872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4" name="AutoShape 18"/>
          <p:cNvSpPr/>
          <p:nvPr/>
        </p:nvSpPr>
        <p:spPr>
          <a:xfrm rot="16200000">
            <a:off x="808200" y="1717200"/>
            <a:ext cx="533160" cy="381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cff"/>
              </a:gs>
              <a:gs pos="100000">
                <a:srgbClr val="765e76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5" name="AutoShape 18"/>
          <p:cNvSpPr/>
          <p:nvPr/>
        </p:nvSpPr>
        <p:spPr>
          <a:xfrm rot="16200000">
            <a:off x="785880" y="4684320"/>
            <a:ext cx="549000" cy="358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cff"/>
              </a:gs>
              <a:gs pos="100000">
                <a:srgbClr val="765e76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06:30:07Z</dcterms:created>
  <dc:creator>이화연</dc:creator>
  <dc:description/>
  <dc:language>en-US</dc:language>
  <cp:lastModifiedBy>MoojeK</cp:lastModifiedBy>
  <dcterms:modified xsi:type="dcterms:W3CDTF">2007-11-20T13:05:33Z</dcterms:modified>
  <cp:revision>656</cp:revision>
  <dc:subject/>
  <dc:title>슬라이드 1</dc:title>
</cp:coreProperties>
</file>