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FE3-84E1-40AD-9B7D-48F569E13A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D5C-1B0B-461D-872C-23ADBC35D6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8928-4F6A-4E23-86B5-3707A7EB42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8EE-891D-439E-959D-C2266EE6ACE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47B9-C18F-41B7-961D-834DEE156A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F128-46FA-4123-A429-77F5465D5EC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A5F-333B-4D23-A83B-0EC58C3A975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BAAF-BD97-4360-A2B0-2A16077982C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D129-BE75-4514-B21C-B7125F5785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63AD-0836-4FDC-AD3D-EC0A0A630B7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A50-5D8E-4914-B4B1-BA5C9CE4659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85B-6D6C-4726-89CE-BF5D5ECA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6C1-21EA-4E2E-8FC7-6C9C6DD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8FA1-1C6C-459D-9CD7-7944C360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66B-B6FF-477F-AB89-3E37A1C6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6D4B-9067-4712-9F1D-370CFBFF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A45E-EA62-4D91-87A0-BC346E09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6FFD-05B4-41C9-8EF5-328B3C3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A20E-85A0-4789-8BC2-AAF8BDBD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E0B3-52BA-4D73-880D-4AD0705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DC95-E24B-4287-85F8-32608970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3859-D702-4972-ABCD-3BE2C59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CED-7C96-47F4-9F8F-E1E7EA2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6B5D-1805-487A-BF14-0EB2FC4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F8D2-6E4C-4F3E-8FA6-D79B0F12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459E-EDE7-4169-8A23-2D0C3D7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0499-B8AD-4D16-A1DF-6A888DDD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139A-388A-4A19-B476-C53891BA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E6EE2-4443-4ABC-9BC8-A6A5DB4C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47085-8E7A-470B-97C7-8AD3D90D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C3BBA-18AA-465A-AB44-94C7ADDE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D0A47-96CF-43AA-ADC4-2625AFC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4F889-1532-4473-819C-27103D20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0A6-A089-40C9-AC8D-C61F531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82F33-4F46-4C45-9392-A42869F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95465-4AA0-484E-80E3-D415D5A1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F4B68-FDBB-470C-8AD3-5A291A1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6BE28-12FC-49D2-9193-168CDBF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72F42F-B553-49FF-9102-2677C659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5739F-E379-4285-BA4E-8CF1EF11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30C0B-C38B-4BF7-9FC2-B5D2517C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5A95-A706-4D4D-94A5-34B0749A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F19D-50C4-408D-A885-6D2C102F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57CF-FA4A-4851-AEEB-825DAAD1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6E6-7D0D-4F35-8E1D-DDBE98B0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0F2E-8383-4422-8EA8-532001D5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DD0E-E6ED-4107-855B-F546351B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F1B9-417A-49F7-95E4-DB3073B0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44B6-7033-41C1-A30F-0340E201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FC41-3DEE-4510-95F8-3C9F077E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CE609-D9ED-4528-99D4-0CA2064F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5708-BBC5-4128-97BB-9BBDEBB6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1BC6-837B-4387-9AAA-851118CB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9405-8738-4C76-9AA3-05F7EEB1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61A86-B132-48F0-A8E2-61ABBBE2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2E0-CBCD-4E33-9AC0-AC04394A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08A51-10E1-4131-A46D-69BBADAB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187E8-134F-4288-B2BE-F6DAA12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858D8-0B2B-44CE-8E66-D805EC51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A1975-BA25-45CA-91C1-C4248B60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AB825F-FCD5-455D-B8A8-10FB845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42520-D7F3-4D03-A210-464E6A7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B223A-9853-4789-934C-7EB92DD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B211E-81F7-4B54-B2D8-FF1E7E1E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75F31-81A9-46CC-B1A3-ABFB2AA4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09867-2504-4989-90E8-B0271988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441-4772-4173-BEB3-9EC10008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04D77-5883-42A5-B4B3-F018C45E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A07D3-6890-4E51-8420-E85BFB30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D7C3E-5091-466F-A565-611EC939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16D1F-7DC3-4550-B403-8792000B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CCB76-DAD8-4877-AA4A-989C6456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68244-F96F-4D67-A846-819BD286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00CF6-465D-46AF-811F-CADB77B1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12829-5C35-42BC-BE97-F2C347A1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80CB4-B24A-4118-8B31-FC52863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3F25E6-67E4-4804-87D8-4538A2E8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E65-A851-4C71-8A8B-DFDC19B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E34D-4058-4855-8D5B-AD021D58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A8EE4-4302-4B85-9313-427AD65C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33CAC6-A527-4C24-AAB9-CEED2D43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60D65D-2C65-440E-8C05-42E0B6C2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2524D-6FFC-4B92-A568-FD7E110D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57AD3-1A58-497A-A9ED-E09DCFD0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2F522-1F32-4290-8E3A-1904D0E7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F7623-728D-43AF-B391-119D8FAB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A10F1-7FA5-42FE-8B74-551684A3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70042-002B-42AA-86C6-9F9F31C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561-6D89-47C7-ACFD-C68ADE1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2A567-E4D3-474C-9FB3-04AE9BB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F0B78B-C3A5-4D40-B03C-841C490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3F0B3-4CEE-4B30-83B6-A2B87E5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27DA4-0DC9-43F5-AB71-3C3FB95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24CFE-D7A2-435C-BEFD-2FE48A62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DD2D-1D0F-44D6-9608-0377416A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선 연결선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4B37-98F2-4FC7-A71A-9BFC82B2B6C1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직선 연결선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직선 연결선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F06-A7FF-48E1-B08D-9B86A913C820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사각형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직사각형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직사각형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사각형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직선 연결선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직선 연결선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직선 연결선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직선 연결선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선 연결선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타원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타원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타원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타원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타원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C40F-5755-4B0A-89D2-009C846952FB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406-0431-4709-AEDF-63A366014094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직선 연결선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직선 연결선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선 연결선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직사각형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직선 연결선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타원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F6B-A847-4B2A-975F-1D2CCD27D708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031-65CA-4D68-8D42-709E1C3934F4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직사각형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3b3c4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직사각형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1d1d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직사각형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1d1d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직사각형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9ed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직선 연결선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3b3c4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직선 연결선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9ed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직선 연결선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직선 연결선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3b3c4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직선 연결선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직사각형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3b3c4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타원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타원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타원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타원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타원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직선 연결선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dede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edede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edede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84ED-A6AF-4F1A-A752-2AFA11779A12}" type="datetime">
              <a:rPr b="0" lang="ko-KR" sz="1200" spc="-1" strike="noStrike">
                <a:solidFill>
                  <a:srgbClr val="dedede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edede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edede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dedede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AC24-4BDE-4BE2-B7FD-4D4C33B256AC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직선 연결선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직선 연결선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직선 연결선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직사각형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선 연결선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타원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71B3-F3D7-418E-A445-8675E1AF3954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E32-977C-42A0-B6BD-14C8E64BA128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직선 연결선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직선 연결선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직선 연결선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직선 연결선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직사각형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직선 연결선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타원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35A1-D67E-430B-93FF-5FA28225797C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E8B6-FA28-4E35-A20D-492C3033AC70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직선 연결선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타원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직선 연결선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직사각형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3b3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직선 연결선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직선 연결선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3b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직선 연결선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48497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b3b3c4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0c0c3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6988-61EF-4621-85B3-1C5315B72A12}" type="datetime"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168-C52E-4FAF-A38E-4C36E374F27C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23640" y="1341360"/>
            <a:ext cx="6262920" cy="130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24456"/>
                </a:solidFill>
                <a:latin typeface="Century Schoolbook"/>
              </a:rPr>
              <a:t>JRemote</a:t>
            </a:r>
            <a:endParaRPr b="0" lang="en-US" sz="46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148360" y="3716280"/>
            <a:ext cx="33098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Team Name : </a:t>
            </a:r>
            <a:r>
              <a:rPr b="1" lang="ko-KR" sz="1800" spc="-1" strike="noStrike">
                <a:solidFill>
                  <a:srgbClr val="424456"/>
                </a:solidFill>
                <a:latin typeface="Century Schoolbook"/>
              </a:rPr>
              <a:t>젠가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Member : </a:t>
            </a:r>
            <a:r>
              <a:rPr b="1" lang="ko-KR" sz="1800" spc="-1" strike="noStrike">
                <a:solidFill>
                  <a:srgbClr val="424456"/>
                </a:solidFill>
                <a:latin typeface="Century Schoolbook"/>
              </a:rPr>
              <a:t>김가현</a:t>
            </a: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(</a:t>
            </a:r>
            <a:r>
              <a:rPr b="1" lang="ko-KR" sz="1800" spc="-1" strike="noStrike">
                <a:solidFill>
                  <a:srgbClr val="424456"/>
                </a:solidFill>
                <a:latin typeface="Century Schoolbook"/>
              </a:rPr>
              <a:t>팀장</a:t>
            </a: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) , </a:t>
            </a:r>
            <a:r>
              <a:rPr b="1" lang="ko-KR" sz="1800" spc="-1" strike="noStrike">
                <a:solidFill>
                  <a:srgbClr val="424456"/>
                </a:solidFill>
                <a:latin typeface="Century Schoolbook"/>
              </a:rPr>
              <a:t>빈리영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Century Schoolbook"/>
              </a:rPr>
              <a:t>Mentor : </a:t>
            </a:r>
            <a:r>
              <a:rPr b="1" lang="ko-KR" sz="1800" spc="-1" strike="noStrike">
                <a:solidFill>
                  <a:srgbClr val="424456"/>
                </a:solidFill>
                <a:latin typeface="Century Schoolbook"/>
              </a:rPr>
              <a:t>조성재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슬라이드 번호 개체 틀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855-91D3-48DD-9BBA-D7EA2FA2D9F6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시연 및 질의 응답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수고하셨습니다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감사합니다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^^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3B16-3488-4B40-91B0-C12CDA907BDA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차례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Remote </a:t>
            </a: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Remote </a:t>
            </a: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의 개발환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Remote</a:t>
            </a: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의 구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ject </a:t>
            </a: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진행내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3548a"/>
              </a:buClr>
              <a:buSzPct val="70000"/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시연 및 질의 응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FE1-F12D-4893-BCEF-F702F8432340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소개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0080" indent="-457200">
              <a:spcBef>
                <a:spcPts val="601"/>
              </a:spcBef>
              <a:buClr>
                <a:srgbClr val="484979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Java </a:t>
            </a:r>
            <a:r>
              <a:rPr b="0" lang="ko-KR" sz="1800" spc="-1" strike="noStrike">
                <a:solidFill>
                  <a:srgbClr val="000000"/>
                </a:solidFill>
                <a:latin typeface="Century Schoolbook"/>
              </a:rPr>
              <a:t>를 이용한 원격 제어 기능을 구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개발 동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53548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로 개발된 원격제어 프로그램을 만들어보고 싶음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53548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기존의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VNC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는 소스코드가 복잡하여 사용하기가 어려움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53548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ava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로 된 쓰기 쉬운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mote 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프로그램을 만들고 싶어서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목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4040" indent="-457200">
              <a:spcBef>
                <a:spcPts val="524"/>
              </a:spcBef>
              <a:buClr>
                <a:srgbClr val="53548a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다른 자바 프로그램 에서도 쓸 수 있는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PI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로써 제공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란</a:t>
            </a: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?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707-7B63-4FD6-97E4-F17768B39176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바닥글 개체 틀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젠가 </a:t>
            </a:r>
            <a:r>
              <a:rPr b="0" lang="en-US" sz="1200" spc="-1" strike="noStrike">
                <a:solidFill>
                  <a:srgbClr val="424456"/>
                </a:solidFill>
                <a:latin typeface="Century Schoolbook"/>
                <a:ea typeface="휴먼매직체"/>
              </a:rPr>
              <a:t>- JRemo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슬라이드 번호 개체 틀 1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D4EB-D8CB-4855-9C27-71944D2E5F56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작업환경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dows XP, Ubuntu Linux, Tr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실행환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2714760" y="2786040"/>
            <a:ext cx="3390840" cy="14652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7b7c5"/>
              </a:gs>
              <a:gs pos="100000">
                <a:srgbClr val="f1f1f3"/>
              </a:gs>
            </a:gsLst>
            <a:lin ang="27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Remo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1" name="그룹 18"/>
          <p:cNvGrpSpPr/>
          <p:nvPr/>
        </p:nvGrpSpPr>
        <p:grpSpPr>
          <a:xfrm>
            <a:off x="2719440" y="4319640"/>
            <a:ext cx="3386160" cy="857160"/>
            <a:chOff x="2719440" y="4319640"/>
            <a:chExt cx="3386160" cy="857160"/>
          </a:xfrm>
        </p:grpSpPr>
        <p:sp>
          <p:nvSpPr>
            <p:cNvPr id="372" name="AutoShape 6"/>
            <p:cNvSpPr/>
            <p:nvPr/>
          </p:nvSpPr>
          <p:spPr>
            <a:xfrm>
              <a:off x="2719440" y="4319640"/>
              <a:ext cx="3386160" cy="85716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438086"/>
                  </a:solidFill>
                  <a:latin typeface="Arial"/>
                </a:rPr>
                <a:t>Java Virtual Machine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373" name="Object 10"/>
            <p:cNvGraphicFramePr/>
            <p:nvPr/>
          </p:nvGraphicFramePr>
          <p:xfrm>
            <a:off x="2937600" y="4462560"/>
            <a:ext cx="442440" cy="56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4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37600" y="4462560"/>
                      <a:ext cx="442440" cy="5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5" name="그룹 19"/>
          <p:cNvGrpSpPr/>
          <p:nvPr/>
        </p:nvGrpSpPr>
        <p:grpSpPr>
          <a:xfrm>
            <a:off x="2747880" y="5243400"/>
            <a:ext cx="857160" cy="847800"/>
            <a:chOff x="2747880" y="5243400"/>
            <a:chExt cx="857160" cy="847800"/>
          </a:xfrm>
        </p:grpSpPr>
        <p:sp>
          <p:nvSpPr>
            <p:cNvPr id="376" name="AutoShape 7"/>
            <p:cNvSpPr/>
            <p:nvPr/>
          </p:nvSpPr>
          <p:spPr>
            <a:xfrm>
              <a:off x="2747880" y="5243400"/>
              <a:ext cx="857160" cy="84780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2f634d"/>
                </a:gs>
                <a:gs pos="50000">
                  <a:srgbClr val="65d7a6"/>
                </a:gs>
                <a:gs pos="100000">
                  <a:srgbClr val="2f634d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7" name="Picture 12" descr="tux"/>
            <p:cNvPicPr/>
            <p:nvPr/>
          </p:nvPicPr>
          <p:blipFill>
            <a:blip r:embed="rId3"/>
            <a:stretch/>
          </p:blipFill>
          <p:spPr>
            <a:xfrm>
              <a:off x="2962080" y="5295600"/>
              <a:ext cx="47304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8" name="그룹 20"/>
          <p:cNvGrpSpPr/>
          <p:nvPr/>
        </p:nvGrpSpPr>
        <p:grpSpPr>
          <a:xfrm>
            <a:off x="3676680" y="5243400"/>
            <a:ext cx="1171440" cy="847800"/>
            <a:chOff x="3676680" y="5243400"/>
            <a:chExt cx="1171440" cy="847800"/>
          </a:xfrm>
        </p:grpSpPr>
        <p:sp>
          <p:nvSpPr>
            <p:cNvPr id="379" name="AutoShape 8"/>
            <p:cNvSpPr/>
            <p:nvPr/>
          </p:nvSpPr>
          <p:spPr>
            <a:xfrm>
              <a:off x="3676680" y="5243400"/>
              <a:ext cx="1171440" cy="84780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2f634d"/>
                </a:gs>
                <a:gs pos="50000">
                  <a:srgbClr val="65d7a6"/>
                </a:gs>
                <a:gs pos="100000">
                  <a:srgbClr val="2f634d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indow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80" name="Picture 13" descr="windowslogo"/>
            <p:cNvPicPr/>
            <p:nvPr/>
          </p:nvPicPr>
          <p:blipFill>
            <a:blip r:embed="rId4"/>
            <a:stretch/>
          </p:blipFill>
          <p:spPr>
            <a:xfrm>
              <a:off x="4080600" y="5324040"/>
              <a:ext cx="552960" cy="50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그룹 22"/>
          <p:cNvGrpSpPr/>
          <p:nvPr/>
        </p:nvGrpSpPr>
        <p:grpSpPr>
          <a:xfrm>
            <a:off x="4890960" y="5253120"/>
            <a:ext cx="1231920" cy="847800"/>
            <a:chOff x="4890960" y="5253120"/>
            <a:chExt cx="1231920" cy="847800"/>
          </a:xfrm>
        </p:grpSpPr>
        <p:sp>
          <p:nvSpPr>
            <p:cNvPr id="382" name="AutoShape 9"/>
            <p:cNvSpPr/>
            <p:nvPr/>
          </p:nvSpPr>
          <p:spPr>
            <a:xfrm>
              <a:off x="4890960" y="5253120"/>
              <a:ext cx="1231920" cy="847800"/>
            </a:xfrm>
            <a:prstGeom prst="roundRect">
              <a:avLst>
                <a:gd name="adj" fmla="val 9106"/>
              </a:avLst>
            </a:prstGeom>
            <a:gradFill rotWithShape="0">
              <a:gsLst>
                <a:gs pos="0">
                  <a:srgbClr val="2f634d"/>
                </a:gs>
                <a:gs pos="50000">
                  <a:srgbClr val="65d7a6"/>
                </a:gs>
                <a:gs pos="100000">
                  <a:srgbClr val="2f634d"/>
                </a:gs>
              </a:gsLst>
              <a:lin ang="2700000"/>
            </a:gra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dedede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cintosh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83" name="Picture 14" descr="mac"/>
            <p:cNvPicPr/>
            <p:nvPr/>
          </p:nvPicPr>
          <p:blipFill>
            <a:blip r:embed="rId5"/>
            <a:stretch/>
          </p:blipFill>
          <p:spPr>
            <a:xfrm>
              <a:off x="5219640" y="5305320"/>
              <a:ext cx="583920" cy="54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AutoShape 15"/>
          <p:cNvSpPr/>
          <p:nvPr/>
        </p:nvSpPr>
        <p:spPr>
          <a:xfrm>
            <a:off x="2916360" y="3284640"/>
            <a:ext cx="1304640" cy="344520"/>
          </a:xfrm>
          <a:prstGeom prst="roundRect">
            <a:avLst>
              <a:gd name="adj" fmla="val 9106"/>
            </a:avLst>
          </a:prstGeom>
          <a:solidFill>
            <a:srgbClr val="438086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AutoShape 17"/>
          <p:cNvSpPr/>
          <p:nvPr/>
        </p:nvSpPr>
        <p:spPr>
          <a:xfrm>
            <a:off x="2843280" y="3716280"/>
            <a:ext cx="3168720" cy="432000"/>
          </a:xfrm>
          <a:prstGeom prst="roundRect">
            <a:avLst>
              <a:gd name="adj" fmla="val 9106"/>
            </a:avLst>
          </a:prstGeom>
          <a:solidFill>
            <a:srgbClr val="f1f1f3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222b"/>
                </a:solidFill>
                <a:latin typeface="Arial"/>
              </a:rPr>
              <a:t>Sw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AutoShape 18"/>
          <p:cNvSpPr/>
          <p:nvPr/>
        </p:nvSpPr>
        <p:spPr>
          <a:xfrm>
            <a:off x="4533840" y="3284640"/>
            <a:ext cx="1305000" cy="344520"/>
          </a:xfrm>
          <a:prstGeom prst="roundRect">
            <a:avLst>
              <a:gd name="adj" fmla="val 9106"/>
            </a:avLst>
          </a:prstGeom>
          <a:solidFill>
            <a:srgbClr val="c2a874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deded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의 개발환경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8" name="슬라이드 번호 개체 틀 2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F510-3B9E-4E39-9BD1-2088DDBE4231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의 구조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49B6-D7E1-4192-96DA-A88571638B37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1" name="그룹 33"/>
          <p:cNvGrpSpPr/>
          <p:nvPr/>
        </p:nvGrpSpPr>
        <p:grpSpPr>
          <a:xfrm>
            <a:off x="2347560" y="3500280"/>
            <a:ext cx="4010400" cy="368280"/>
            <a:chOff x="2347560" y="3500280"/>
            <a:chExt cx="4010400" cy="368280"/>
          </a:xfrm>
        </p:grpSpPr>
        <p:cxnSp>
          <p:nvCxnSpPr>
            <p:cNvPr id="392" name="직선 화살표 연결선 9"/>
            <p:cNvCxnSpPr/>
            <p:nvPr/>
          </p:nvCxnSpPr>
          <p:spPr>
            <a:xfrm>
              <a:off x="2347560" y="3571560"/>
              <a:ext cx="4010760" cy="2160"/>
            </a:xfrm>
            <a:prstGeom prst="straightConnector1">
              <a:avLst/>
            </a:prstGeom>
            <a:ln w="28440">
              <a:solidFill>
                <a:srgbClr val="3a3b81"/>
              </a:solidFill>
              <a:miter/>
              <a:tailEnd len="med" type="arrow" w="med"/>
            </a:ln>
          </p:spPr>
        </p:cxnSp>
        <p:sp>
          <p:nvSpPr>
            <p:cNvPr id="393" name="TextBox 11"/>
            <p:cNvSpPr/>
            <p:nvPr/>
          </p:nvSpPr>
          <p:spPr>
            <a:xfrm>
              <a:off x="3919680" y="3500280"/>
              <a:ext cx="96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94" name="그룹 22" descr=""/>
          <p:cNvPicPr/>
          <p:nvPr/>
        </p:nvPicPr>
        <p:blipFill>
          <a:blip r:embed="rId1"/>
          <a:stretch/>
        </p:blipFill>
        <p:spPr>
          <a:xfrm>
            <a:off x="1255680" y="2908440"/>
            <a:ext cx="1109520" cy="1322280"/>
          </a:xfrm>
          <a:prstGeom prst="rect">
            <a:avLst/>
          </a:prstGeom>
          <a:ln w="0">
            <a:noFill/>
          </a:ln>
        </p:spPr>
      </p:pic>
      <p:pic>
        <p:nvPicPr>
          <p:cNvPr id="395" name="그룹 25" descr=""/>
          <p:cNvPicPr/>
          <p:nvPr/>
        </p:nvPicPr>
        <p:blipFill>
          <a:blip r:embed="rId2"/>
          <a:stretch/>
        </p:blipFill>
        <p:spPr>
          <a:xfrm>
            <a:off x="3614760" y="1695600"/>
            <a:ext cx="1609560" cy="1680840"/>
          </a:xfrm>
          <a:prstGeom prst="rect">
            <a:avLst/>
          </a:prstGeom>
          <a:ln w="0">
            <a:noFill/>
          </a:ln>
        </p:spPr>
      </p:pic>
      <p:pic>
        <p:nvPicPr>
          <p:cNvPr id="396" name="그룹 32" descr=""/>
          <p:cNvPicPr/>
          <p:nvPr/>
        </p:nvPicPr>
        <p:blipFill>
          <a:blip r:embed="rId3"/>
          <a:stretch/>
        </p:blipFill>
        <p:spPr>
          <a:xfrm>
            <a:off x="6340320" y="2944800"/>
            <a:ext cx="1608120" cy="1255680"/>
          </a:xfrm>
          <a:prstGeom prst="rect">
            <a:avLst/>
          </a:prstGeom>
          <a:ln w="0">
            <a:noFill/>
          </a:ln>
        </p:spPr>
      </p:pic>
      <p:cxnSp>
        <p:nvCxnSpPr>
          <p:cNvPr id="397" name="꺾인 연결선 35"/>
          <p:cNvCxnSpPr/>
          <p:nvPr/>
        </p:nvCxnSpPr>
        <p:spPr>
          <a:xfrm flipH="1" flipV="1" rot="5400000">
            <a:off x="2524320" y="1820160"/>
            <a:ext cx="394560" cy="1823400"/>
          </a:xfrm>
          <a:prstGeom prst="bentConnector2">
            <a:avLst/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  <p:cxnSp>
        <p:nvCxnSpPr>
          <p:cNvPr id="398" name="Shape 38"/>
          <p:cNvCxnSpPr/>
          <p:nvPr/>
        </p:nvCxnSpPr>
        <p:spPr>
          <a:xfrm flipV="1" rot="16200000">
            <a:off x="5958720" y="1780200"/>
            <a:ext cx="430920" cy="1939320"/>
          </a:xfrm>
          <a:prstGeom prst="bentConnector2">
            <a:avLst/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  <p:pic>
        <p:nvPicPr>
          <p:cNvPr id="399" name="그룹 42" descr=""/>
          <p:cNvPicPr/>
          <p:nvPr/>
        </p:nvPicPr>
        <p:blipFill>
          <a:blip r:embed="rId4"/>
          <a:stretch/>
        </p:blipFill>
        <p:spPr>
          <a:xfrm>
            <a:off x="3475080" y="4248000"/>
            <a:ext cx="1962000" cy="774720"/>
          </a:xfrm>
          <a:prstGeom prst="rect">
            <a:avLst/>
          </a:prstGeom>
          <a:ln w="0">
            <a:noFill/>
          </a:ln>
        </p:spPr>
      </p:pic>
      <p:pic>
        <p:nvPicPr>
          <p:cNvPr id="400" name="그룹 48" descr=""/>
          <p:cNvPicPr/>
          <p:nvPr/>
        </p:nvPicPr>
        <p:blipFill>
          <a:blip r:embed="rId5"/>
          <a:stretch/>
        </p:blipFill>
        <p:spPr>
          <a:xfrm>
            <a:off x="3193920" y="5224320"/>
            <a:ext cx="2536920" cy="1389240"/>
          </a:xfrm>
          <a:prstGeom prst="rect">
            <a:avLst/>
          </a:prstGeom>
          <a:ln w="0">
            <a:noFill/>
          </a:ln>
        </p:spPr>
      </p:pic>
      <p:cxnSp>
        <p:nvCxnSpPr>
          <p:cNvPr id="401" name="Shape 52"/>
          <p:cNvCxnSpPr/>
          <p:nvPr/>
        </p:nvCxnSpPr>
        <p:spPr>
          <a:xfrm>
            <a:off x="1810800" y="4214880"/>
            <a:ext cx="1669320" cy="435600"/>
          </a:xfrm>
          <a:prstGeom prst="bentConnector3">
            <a:avLst>
              <a:gd name="adj1" fmla="val 86"/>
            </a:avLst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  <p:cxnSp>
        <p:nvCxnSpPr>
          <p:cNvPr id="402" name="꺾인 연결선 54"/>
          <p:cNvCxnSpPr/>
          <p:nvPr/>
        </p:nvCxnSpPr>
        <p:spPr>
          <a:xfrm flipV="1" rot="10800000">
            <a:off x="5433120" y="4178880"/>
            <a:ext cx="1710720" cy="470520"/>
          </a:xfrm>
          <a:prstGeom prst="bentConnector3">
            <a:avLst>
              <a:gd name="adj1" fmla="val 736"/>
            </a:avLst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  <p:cxnSp>
        <p:nvCxnSpPr>
          <p:cNvPr id="403" name="Shape 57"/>
          <p:cNvCxnSpPr/>
          <p:nvPr/>
        </p:nvCxnSpPr>
        <p:spPr>
          <a:xfrm flipH="1" rot="16200000">
            <a:off x="1703880" y="4321440"/>
            <a:ext cx="1608840" cy="1394640"/>
          </a:xfrm>
          <a:prstGeom prst="bentConnector2">
            <a:avLst/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  <p:cxnSp>
        <p:nvCxnSpPr>
          <p:cNvPr id="404" name="Shape 59"/>
          <p:cNvCxnSpPr/>
          <p:nvPr/>
        </p:nvCxnSpPr>
        <p:spPr>
          <a:xfrm rot="5400000">
            <a:off x="5602320" y="4282200"/>
            <a:ext cx="1643760" cy="1438920"/>
          </a:xfrm>
          <a:prstGeom prst="bentConnector2">
            <a:avLst/>
          </a:prstGeom>
          <a:ln w="28440">
            <a:solidFill>
              <a:srgbClr val="3a3b8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2840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사전 계획 일정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실제 진행 상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o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our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cu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Century Schoolbook"/>
              </a:rPr>
              <a:t>전체 일정에 지연이 있었음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진행내용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961-257C-4DC6-9141-78E7C74E63B6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8" name="Picture 7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572080" cy="1216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409" name="그룹 17"/>
          <p:cNvGrpSpPr/>
          <p:nvPr/>
        </p:nvGrpSpPr>
        <p:grpSpPr>
          <a:xfrm>
            <a:off x="2562120" y="4233960"/>
            <a:ext cx="3714840" cy="1285920"/>
            <a:chOff x="2562120" y="4233960"/>
            <a:chExt cx="3714840" cy="1285920"/>
          </a:xfrm>
        </p:grpSpPr>
        <p:sp>
          <p:nvSpPr>
            <p:cNvPr id="410" name="직사각형 16"/>
            <p:cNvSpPr/>
            <p:nvPr/>
          </p:nvSpPr>
          <p:spPr>
            <a:xfrm>
              <a:off x="2581920" y="4249080"/>
              <a:ext cx="3695040" cy="12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11" name="직사각형 14"/>
            <p:cNvGrpSpPr/>
            <p:nvPr/>
          </p:nvGrpSpPr>
          <p:grpSpPr>
            <a:xfrm>
              <a:off x="2774160" y="4734000"/>
              <a:ext cx="3450240" cy="246960"/>
              <a:chOff x="2774160" y="4734000"/>
              <a:chExt cx="3450240" cy="246960"/>
            </a:xfrm>
          </p:grpSpPr>
          <p:pic>
            <p:nvPicPr>
              <p:cNvPr id="412" name="직사각형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774160" y="4734000"/>
                <a:ext cx="3450240" cy="2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2795040" y="4752720"/>
                <a:ext cx="341100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4" name="직사각형 15"/>
            <p:cNvGrpSpPr/>
            <p:nvPr/>
          </p:nvGrpSpPr>
          <p:grpSpPr>
            <a:xfrm>
              <a:off x="2774160" y="5077440"/>
              <a:ext cx="3450240" cy="246960"/>
              <a:chOff x="2774160" y="5077440"/>
              <a:chExt cx="3450240" cy="246960"/>
            </a:xfrm>
          </p:grpSpPr>
          <p:pic>
            <p:nvPicPr>
              <p:cNvPr id="415" name="직사각형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774160" y="5077440"/>
                <a:ext cx="3450240" cy="2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>
                <a:off x="2795040" y="5096160"/>
                <a:ext cx="341100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7" name="직사각형 7"/>
            <p:cNvGrpSpPr/>
            <p:nvPr/>
          </p:nvGrpSpPr>
          <p:grpSpPr>
            <a:xfrm>
              <a:off x="2562120" y="4233960"/>
              <a:ext cx="393840" cy="1271160"/>
              <a:chOff x="2562120" y="4233960"/>
              <a:chExt cx="393840" cy="1271160"/>
            </a:xfrm>
          </p:grpSpPr>
          <p:pic>
            <p:nvPicPr>
              <p:cNvPr id="418" name="직사각형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562120" y="4233960"/>
                <a:ext cx="393840" cy="127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 rot="5400000">
                <a:off x="2141280" y="4689000"/>
                <a:ext cx="123552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0" name="직사각형 10"/>
            <p:cNvGrpSpPr/>
            <p:nvPr/>
          </p:nvGrpSpPr>
          <p:grpSpPr>
            <a:xfrm>
              <a:off x="2786400" y="4788000"/>
              <a:ext cx="1442880" cy="174600"/>
              <a:chOff x="2786400" y="4788000"/>
              <a:chExt cx="1442880" cy="174600"/>
            </a:xfrm>
          </p:grpSpPr>
          <p:pic>
            <p:nvPicPr>
              <p:cNvPr id="421" name="직사각형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6400" y="4788000"/>
                <a:ext cx="1442880" cy="17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2795040" y="4794840"/>
                <a:ext cx="143064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3" name="직사각형 11"/>
            <p:cNvGrpSpPr/>
            <p:nvPr/>
          </p:nvGrpSpPr>
          <p:grpSpPr>
            <a:xfrm>
              <a:off x="2786400" y="5143680"/>
              <a:ext cx="521280" cy="168480"/>
              <a:chOff x="2786400" y="5143680"/>
              <a:chExt cx="521280" cy="168480"/>
            </a:xfrm>
          </p:grpSpPr>
          <p:pic>
            <p:nvPicPr>
              <p:cNvPr id="424" name="직사각형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2786400" y="5143680"/>
                <a:ext cx="52128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2795040" y="5148000"/>
                <a:ext cx="5068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직사각형 13"/>
            <p:cNvGrpSpPr/>
            <p:nvPr/>
          </p:nvGrpSpPr>
          <p:grpSpPr>
            <a:xfrm>
              <a:off x="2774160" y="4372200"/>
              <a:ext cx="3450240" cy="246960"/>
              <a:chOff x="2774160" y="4372200"/>
              <a:chExt cx="3450240" cy="246960"/>
            </a:xfrm>
          </p:grpSpPr>
          <p:pic>
            <p:nvPicPr>
              <p:cNvPr id="427" name="직사각형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4160" y="4372200"/>
                <a:ext cx="3450240" cy="24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2795040" y="4389840"/>
                <a:ext cx="341100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9" name="직사각형 8"/>
            <p:cNvGrpSpPr/>
            <p:nvPr/>
          </p:nvGrpSpPr>
          <p:grpSpPr>
            <a:xfrm>
              <a:off x="2786400" y="4438800"/>
              <a:ext cx="1873440" cy="168480"/>
              <a:chOff x="2786400" y="4438800"/>
              <a:chExt cx="1873440" cy="168480"/>
            </a:xfrm>
          </p:grpSpPr>
          <p:pic>
            <p:nvPicPr>
              <p:cNvPr id="430" name="직사각형 8" descr=""/>
              <p:cNvPicPr/>
              <p:nvPr/>
            </p:nvPicPr>
            <p:blipFill>
              <a:blip r:embed="rId8"/>
              <a:stretch/>
            </p:blipFill>
            <p:spPr>
              <a:xfrm>
                <a:off x="2786400" y="4438800"/>
                <a:ext cx="1873440" cy="16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2795040" y="4442040"/>
                <a:ext cx="18568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주요 기능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85B-8BD1-407A-9E62-27CE005D4494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4" name="그룹 74" descr=""/>
          <p:cNvPicPr/>
          <p:nvPr/>
        </p:nvPicPr>
        <p:blipFill>
          <a:blip r:embed="rId1"/>
          <a:stretch/>
        </p:blipFill>
        <p:spPr>
          <a:xfrm>
            <a:off x="1225440" y="1901880"/>
            <a:ext cx="6620040" cy="44798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진행내용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로드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EF50-DBF3-47BC-83F3-9BB18D2067B3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진행내용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1"/>
          <a:stretch/>
        </p:blipFill>
        <p:spPr>
          <a:xfrm>
            <a:off x="2286000" y="1785960"/>
            <a:ext cx="4286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ki – JRem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entury Schoolbook"/>
              </a:rPr>
              <a:t>시간이력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3548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슬라이드 번호 개체 틀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52EB-D48D-468B-AA97-EAB2ED6C0ABA}" type="slidenum">
              <a:rPr b="1" lang="ko-KR" sz="1400" spc="-1" strike="noStrike">
                <a:solidFill>
                  <a:srgbClr val="ffffff"/>
                </a:solidFill>
                <a:latin typeface="Century Schoolbook"/>
                <a:ea typeface="휴먼매직체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4740120" cy="3714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3214800" y="2500200"/>
            <a:ext cx="4740120" cy="37148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-571680">
              <a:buClr>
                <a:srgbClr val="424456"/>
              </a:buClr>
              <a:buFont typeface="Century Schoolbook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24456"/>
                </a:solidFill>
                <a:latin typeface="Century Schoolbook"/>
              </a:rPr>
              <a:t>JREMOTE </a:t>
            </a:r>
            <a:r>
              <a:rPr b="0" lang="ko-KR" sz="3000" spc="-1" strike="noStrike">
                <a:solidFill>
                  <a:srgbClr val="424456"/>
                </a:solidFill>
                <a:latin typeface="Century Schoolbook"/>
              </a:rPr>
              <a:t>진행내용</a:t>
            </a:r>
            <a:endParaRPr b="0" lang="en-US" sz="3000" spc="-1" strike="noStrike">
              <a:solidFill>
                <a:srgbClr val="424456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9:07:31Z</dcterms:created>
  <dc:creator>Windows XP</dc:creator>
  <dc:description/>
  <dc:language>en-US</dc:language>
  <cp:lastModifiedBy>Windows XP</cp:lastModifiedBy>
  <dcterms:modified xsi:type="dcterms:W3CDTF">2008-10-10T05:11:26Z</dcterms:modified>
  <cp:revision>60</cp:revision>
  <dc:subject/>
  <dc:title>JRemote</dc:title>
</cp:coreProperties>
</file>