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바탕"/>
                <a:ea typeface="바탕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96D7B-391E-4A04-B286-81358C6142F9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AD6CE-FE48-4E92-B95F-2375D222C898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F0982-AE42-4F71-B229-F84EA5790D2E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0B5F3-BA8B-43EE-9F34-BA4C1043F705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51841-619B-4B1B-920C-7CD886AFDDD1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C1E77-636F-4E58-9F04-E324232A115D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4D349-85A9-418F-B80F-8542F1BDEDE0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DEF45-CEBF-4D4F-815A-6980685FD8B9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B8995-97D8-4741-9911-9E9F8FB1A852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B153C-4AE6-4420-8B97-D1CCE8CC0504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57E94-2E4C-45C3-8471-95A360B8BA59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8C7A75-5469-4B2B-9AC3-314290447E1B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A0C64-4261-4612-AD84-F593E82A66FE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A05D8-D6E7-4FF8-B9B6-0AFF044E0B91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1C2BA-69C5-4019-88DA-4E9AF4C4C2E1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FAF34-A7B4-4B5A-877F-6949FC7CA22C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67643-782E-4031-B3F7-87A0DEFA770B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D1592-4725-4A10-839E-E9C4BE74EF1C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A18D4-01E1-4662-8D83-7D799CE9D766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605A4-FC98-45A8-818E-C020A309FD48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B265B-C045-4EF2-AE1E-4E8962508F84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7D8A9-982A-4755-B39C-6D6ED29A0838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E31C31-5432-495E-8398-0440B1FF0559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A04C2-1FDA-48B1-B9A2-E914D5C36ABD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돋움체"/>
                <a:ea typeface="돋움체"/>
              </a:rPr>
              <a:t>캔</a:t>
            </a:r>
            <a:r>
              <a:rPr b="1" lang="en-US" sz="2000" spc="-1" strike="noStrike">
                <a:solidFill>
                  <a:srgbClr val="ffffff"/>
                </a:solidFill>
                <a:latin typeface="돋움체"/>
                <a:ea typeface="돋움체"/>
              </a:rPr>
              <a:t>, PT, </a:t>
            </a:r>
            <a:r>
              <a:rPr b="1" lang="en-US" sz="2000" spc="-1" strike="noStrike">
                <a:solidFill>
                  <a:srgbClr val="ffffff"/>
                </a:solidFill>
                <a:latin typeface="돋움체"/>
                <a:ea typeface="돋움체"/>
              </a:rPr>
              <a:t>병과 같은 재활용품들이 일반 쓰레기화로 자원의 낭비를 초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6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E2971-B915-4BD1-94B0-74A9DF3B06BF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3315CB-4A65-407B-A8FA-425E0F4A8935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42BC-D540-4FCC-8150-40149BD3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DCA-9F94-4288-80FB-23EBD153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A348-C67F-4814-94AF-789EB9527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89FA-EE8A-4B8A-90BC-C8A2ED40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5B51-5CD4-4565-A33E-195C11A2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E22-7865-4D54-B69C-E850F59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50D3-E927-46C7-93A5-F5E883AD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B4D-FE92-4DA2-A28C-A88EDD68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AE1-41E2-412B-A77A-2EB93FC8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321C-6B53-42CC-8B68-5EA7EB44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05C-F05A-41F3-805B-8C3CC357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A06-6B9D-4921-BCE4-AB2049CE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29528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727280" indent="-21600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158920" indent="-215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바탕"/>
                <a:ea typeface="바탕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9C1A1C-5403-429D-86FD-420A317827B6}" type="slidenum">
              <a:rPr b="0" lang="en-US" sz="1400" spc="-1" strike="noStrike">
                <a:solidFill>
                  <a:srgbClr val="000000"/>
                </a:solidFill>
                <a:latin typeface="바탕"/>
                <a:ea typeface="바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4111560" y="6480000"/>
            <a:ext cx="57895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영남직업능력개발원 임베디드 프로그래밍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조원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김상우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김경연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이창중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김동환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굴림"/>
              </a:rPr>
              <a:t>유상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AutoShape 2"/>
          <p:cNvSpPr/>
          <p:nvPr/>
        </p:nvSpPr>
        <p:spPr>
          <a:xfrm>
            <a:off x="1619280" y="2340000"/>
            <a:ext cx="7559640" cy="2340000"/>
          </a:xfrm>
          <a:prstGeom prst="roundRect">
            <a:avLst>
              <a:gd name="adj" fmla="val 23065"/>
            </a:avLst>
          </a:prstGeom>
          <a:solidFill>
            <a:srgbClr val="ffd320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굴림"/>
              </a:rPr>
              <a:t>RFID </a:t>
            </a:r>
            <a:r>
              <a:rPr b="1" i="1" lang="ko-KR" sz="4000" spc="-1" strike="noStrike">
                <a:solidFill>
                  <a:srgbClr val="000000"/>
                </a:solidFill>
                <a:latin typeface="굴림"/>
              </a:rPr>
              <a:t>및 영상처리를 이용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ko-KR" sz="4000" spc="-1" strike="noStrike">
                <a:solidFill>
                  <a:srgbClr val="000000"/>
                </a:solidFill>
                <a:latin typeface="굴림"/>
              </a:rPr>
              <a:t>재활용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ko-KR" sz="4000" spc="-1" strike="noStrike">
                <a:solidFill>
                  <a:srgbClr val="000000"/>
                </a:solidFill>
                <a:latin typeface="굴림"/>
              </a:rPr>
              <a:t>(GRBS)</a:t>
            </a:r>
            <a:r>
              <a:rPr b="1" i="1" lang="ko-KR" sz="40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2182680" y="1922400"/>
            <a:ext cx="1979640" cy="603360"/>
          </a:xfrm>
          <a:prstGeom prst="roundRect">
            <a:avLst>
              <a:gd name="adj" fmla="val 3631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공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SW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기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6289560" y="360360"/>
            <a:ext cx="3789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700360" y="227160"/>
            <a:ext cx="37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720720" y="1440000"/>
            <a:ext cx="216072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주요 기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720720" y="2160720"/>
            <a:ext cx="2160720" cy="90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사용자 식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720720" y="3240000"/>
            <a:ext cx="216072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재활용품 인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720720" y="4140360"/>
            <a:ext cx="216072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재활용품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720720" y="5040360"/>
            <a:ext cx="216072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적립금 조회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적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3959280" y="1440000"/>
            <a:ext cx="216036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적용 기술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3959280" y="2160720"/>
            <a:ext cx="5040360" cy="90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RFID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태그가 내장된 카드 인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UDP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소켓통신으로 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카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드 </a:t>
            </a:r>
            <a:r>
              <a:rPr b="1" lang="ko-KR" sz="1600" spc="-1" strike="noStrike">
                <a:solidFill>
                  <a:srgbClr val="ffffff"/>
                </a:solidFill>
                <a:latin typeface="굴림"/>
              </a:rPr>
              <a:t>인증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여부 검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(RFID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모듈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: 13.56MHz, ISO 15693, RS232 serial)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959280" y="3240000"/>
            <a:ext cx="504036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CAM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제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촬영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영상처리 알고리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 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WEB CAM Logitech pro 4000 )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AutoShape 11"/>
          <p:cNvSpPr/>
          <p:nvPr/>
        </p:nvSpPr>
        <p:spPr>
          <a:xfrm>
            <a:off x="3959280" y="4140360"/>
            <a:ext cx="504036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Timer Interrupt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를 통한 서보모터 제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3959280" y="5040360"/>
            <a:ext cx="5040360" cy="72072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UDP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소켓통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2879640" y="234000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879640" y="3240000"/>
            <a:ext cx="1079640" cy="540000"/>
          </a:xfrm>
          <a:prstGeom prst="rightArrow">
            <a:avLst>
              <a:gd name="adj1" fmla="val 52704"/>
              <a:gd name="adj2" fmla="val 89211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AutoShape 15"/>
          <p:cNvSpPr/>
          <p:nvPr/>
        </p:nvSpPr>
        <p:spPr>
          <a:xfrm>
            <a:off x="2879640" y="414036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AutoShape 16"/>
          <p:cNvSpPr/>
          <p:nvPr/>
        </p:nvSpPr>
        <p:spPr>
          <a:xfrm>
            <a:off x="2879640" y="504036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6289560" y="360360"/>
            <a:ext cx="3789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2700360" y="227160"/>
            <a:ext cx="3419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539640" y="2016000"/>
            <a:ext cx="9360000" cy="5185080"/>
          </a:xfrm>
          <a:prstGeom prst="roundRect">
            <a:avLst>
              <a:gd name="adj" fmla="val 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6207120" y="431964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514760" y="2336760"/>
            <a:ext cx="755640" cy="434880"/>
          </a:xfrm>
          <a:prstGeom prst="roundRect">
            <a:avLst>
              <a:gd name="adj" fmla="val 36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CAM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4730760" y="2879640"/>
            <a:ext cx="360360" cy="540000"/>
          </a:xfrm>
          <a:prstGeom prst="upDownArrow">
            <a:avLst>
              <a:gd name="adj1" fmla="val 50000"/>
              <a:gd name="adj2" fmla="val 29831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770040" y="4208400"/>
            <a:ext cx="1042920" cy="760320"/>
          </a:xfrm>
          <a:prstGeom prst="roundRect">
            <a:avLst>
              <a:gd name="adj" fmla="val 25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RF-ID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카드리더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27120" y="2392200"/>
            <a:ext cx="915840" cy="614520"/>
          </a:xfrm>
          <a:prstGeom prst="parallelogram">
            <a:avLst>
              <a:gd name="adj" fmla="val 37258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RF-ID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카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922400" y="442764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2" name="Group 10"/>
          <p:cNvGrpSpPr/>
          <p:nvPr/>
        </p:nvGrpSpPr>
        <p:grpSpPr>
          <a:xfrm>
            <a:off x="2879640" y="3527280"/>
            <a:ext cx="3216240" cy="2194200"/>
            <a:chOff x="2879640" y="3527280"/>
            <a:chExt cx="3216240" cy="2194200"/>
          </a:xfrm>
        </p:grpSpPr>
        <p:sp>
          <p:nvSpPr>
            <p:cNvPr id="133" name="AutoShape 11"/>
            <p:cNvSpPr/>
            <p:nvPr/>
          </p:nvSpPr>
          <p:spPr>
            <a:xfrm>
              <a:off x="2879640" y="3527280"/>
              <a:ext cx="3216240" cy="2194200"/>
            </a:xfrm>
            <a:prstGeom prst="roundRect">
              <a:avLst>
                <a:gd name="adj" fmla="val 69"/>
              </a:avLst>
            </a:prstGeom>
            <a:solidFill>
              <a:srgbClr val="33a3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MV2440 </a:t>
              </a: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보드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AutoShape 12"/>
            <p:cNvSpPr/>
            <p:nvPr/>
          </p:nvSpPr>
          <p:spPr>
            <a:xfrm>
              <a:off x="3060360" y="3779640"/>
              <a:ext cx="1259640" cy="1617840"/>
            </a:xfrm>
            <a:custGeom>
              <a:avLst/>
              <a:gdLst>
                <a:gd name="textAreaLeft" fmla="*/ 360 w 1259640"/>
                <a:gd name="textAreaRight" fmla="*/ 1259280 w 1259640"/>
                <a:gd name="textAreaTop" fmla="*/ 360 h 1617840"/>
                <a:gd name="textAreaBottom" fmla="*/ 1617480 h 1617840"/>
              </a:gdLst>
              <a:ahLst/>
              <a:rect l="textAreaLeft" t="textAreaTop" r="textAreaRight" b="textAreaBottom"/>
              <a:pathLst>
                <a:path w="21600" h="27741">
                  <a:moveTo>
                    <a:pt x="27" y="0"/>
                  </a:moveTo>
                  <a:arcTo wR="27" hR="27" stAng="16200000" swAng="-5400000"/>
                  <a:lnTo>
                    <a:pt x="0" y="27714"/>
                  </a:lnTo>
                  <a:arcTo wR="27" hR="27" stAng="10800000" swAng="-5400000"/>
                  <a:lnTo>
                    <a:pt x="21573" y="27741"/>
                  </a:lnTo>
                  <a:arcTo wR="27" hR="27" stAng="5400000" swAng="-5400000"/>
                  <a:lnTo>
                    <a:pt x="21600" y="27"/>
                  </a:lnTo>
                  <a:arcTo wR="27" hR="27" stAng="0" swAng="-5400000"/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터치스크린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(LCD)</a:t>
              </a:r>
              <a:r>
                <a:rPr b="1" lang="en-US" sz="1500" spc="-1" strike="noStrike">
                  <a:solidFill>
                    <a:srgbClr val="000000"/>
                  </a:solidFill>
                  <a:latin typeface="굴림"/>
                </a:rPr>
                <a:t>‏</a:t>
              </a:r>
              <a:endParaRPr b="0" lang="en-US" sz="15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5" name="Text Box 13"/>
          <p:cNvSpPr/>
          <p:nvPr/>
        </p:nvSpPr>
        <p:spPr>
          <a:xfrm>
            <a:off x="1778040" y="4140360"/>
            <a:ext cx="10796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시리얼 통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054760" y="3024360"/>
            <a:ext cx="1079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USB 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포트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8329680" y="406872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Oval 16"/>
          <p:cNvSpPr/>
          <p:nvPr/>
        </p:nvSpPr>
        <p:spPr>
          <a:xfrm>
            <a:off x="9121680" y="3168720"/>
            <a:ext cx="64764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모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8329680" y="338472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8329680" y="475128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8329680" y="3168720"/>
            <a:ext cx="1079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PORTA(0)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 Box 20"/>
          <p:cNvSpPr/>
          <p:nvPr/>
        </p:nvSpPr>
        <p:spPr>
          <a:xfrm>
            <a:off x="8329680" y="3816360"/>
            <a:ext cx="1079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PORTA(1)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8329680" y="4500720"/>
            <a:ext cx="10792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PORTA(2)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9121680" y="3887640"/>
            <a:ext cx="647640" cy="64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모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8329680" y="5435640"/>
            <a:ext cx="720720" cy="36036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24"/>
          <p:cNvSpPr/>
          <p:nvPr/>
        </p:nvSpPr>
        <p:spPr>
          <a:xfrm>
            <a:off x="8329680" y="5184720"/>
            <a:ext cx="1079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PORTA(4)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9121680" y="4608360"/>
            <a:ext cx="647640" cy="64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모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9121680" y="5364000"/>
            <a:ext cx="647640" cy="64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모터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987480" y="2913120"/>
            <a:ext cx="915840" cy="614160"/>
          </a:xfrm>
          <a:prstGeom prst="parallelogram">
            <a:avLst>
              <a:gd name="adj" fmla="val 37280"/>
            </a:avLst>
          </a:prstGeom>
          <a:solidFill>
            <a:srgbClr val="579d1c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RF-ID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카드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AutoShape 28"/>
          <p:cNvSpPr/>
          <p:nvPr/>
        </p:nvSpPr>
        <p:spPr>
          <a:xfrm>
            <a:off x="6999120" y="3492360"/>
            <a:ext cx="1187640" cy="2241720"/>
          </a:xfrm>
          <a:custGeom>
            <a:avLst/>
            <a:gdLst>
              <a:gd name="textAreaLeft" fmla="*/ 360 w 1187640"/>
              <a:gd name="textAreaRight" fmla="*/ 1187280 w 1187640"/>
              <a:gd name="textAreaTop" fmla="*/ 360 h 2241720"/>
              <a:gd name="textAreaBottom" fmla="*/ 2241360 h 2241720"/>
            </a:gdLst>
            <a:ahLst/>
            <a:rect l="textAreaLeft" t="textAreaTop" r="textAreaRight" b="textAreaBottom"/>
            <a:pathLst>
              <a:path w="21600" h="40765">
                <a:moveTo>
                  <a:pt x="28" y="0"/>
                </a:moveTo>
                <a:arcTo wR="28" hR="28" stAng="16200000" swAng="-5400000"/>
                <a:lnTo>
                  <a:pt x="0" y="40737"/>
                </a:lnTo>
                <a:arcTo wR="28" hR="28" stAng="10800000" swAng="-5400000"/>
                <a:lnTo>
                  <a:pt x="21572" y="40765"/>
                </a:lnTo>
                <a:arcTo wR="28" hR="28" stAng="5400000" swAng="-5400000"/>
                <a:lnTo>
                  <a:pt x="21600" y="28"/>
                </a:lnTo>
                <a:arcTo wR="28" hR="28" stAng="0" swAng="-5400000"/>
                <a:close/>
              </a:path>
            </a:pathLst>
          </a:custGeom>
          <a:solidFill>
            <a:srgbClr val="33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굴림"/>
              </a:rPr>
              <a:t>ATMega128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AutoShape 29"/>
          <p:cNvSpPr/>
          <p:nvPr/>
        </p:nvSpPr>
        <p:spPr>
          <a:xfrm>
            <a:off x="1093680" y="3672000"/>
            <a:ext cx="360360" cy="539640"/>
          </a:xfrm>
          <a:prstGeom prst="upDownArrow">
            <a:avLst>
              <a:gd name="adj1" fmla="val 50000"/>
              <a:gd name="adj2" fmla="val 29811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 Box 30"/>
          <p:cNvSpPr/>
          <p:nvPr/>
        </p:nvSpPr>
        <p:spPr>
          <a:xfrm>
            <a:off x="6062760" y="4068720"/>
            <a:ext cx="1079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시리얼 통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31"/>
          <p:cNvSpPr/>
          <p:nvPr/>
        </p:nvSpPr>
        <p:spPr>
          <a:xfrm>
            <a:off x="4730760" y="5832360"/>
            <a:ext cx="360360" cy="540000"/>
          </a:xfrm>
          <a:prstGeom prst="upDownArrow">
            <a:avLst>
              <a:gd name="adj1" fmla="val 50000"/>
              <a:gd name="adj2" fmla="val 29831"/>
            </a:avLst>
          </a:prstGeom>
          <a:solidFill>
            <a:srgbClr val="83ca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32"/>
          <p:cNvSpPr/>
          <p:nvPr/>
        </p:nvSpPr>
        <p:spPr>
          <a:xfrm>
            <a:off x="4040280" y="6512040"/>
            <a:ext cx="1571400" cy="434880"/>
          </a:xfrm>
          <a:prstGeom prst="roundRect">
            <a:avLst>
              <a:gd name="adj" fmla="val 361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굴림"/>
              </a:rPr>
              <a:t>SEVER</a:t>
            </a:r>
            <a:endParaRPr b="0" lang="en-US" sz="1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 Box 33"/>
          <p:cNvSpPr/>
          <p:nvPr/>
        </p:nvSpPr>
        <p:spPr>
          <a:xfrm>
            <a:off x="5054760" y="5975280"/>
            <a:ext cx="129528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UDP </a:t>
            </a:r>
            <a:r>
              <a:rPr b="0" lang="en-US" sz="1200" spc="-1" strike="noStrike">
                <a:solidFill>
                  <a:srgbClr val="b80047"/>
                </a:solidFill>
                <a:latin typeface="돋움체"/>
                <a:ea typeface="돋움체"/>
              </a:rPr>
              <a:t>소켓 통신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34"/>
          <p:cNvSpPr/>
          <p:nvPr/>
        </p:nvSpPr>
        <p:spPr>
          <a:xfrm>
            <a:off x="539640" y="1440000"/>
            <a:ext cx="2880000" cy="720720"/>
          </a:xfrm>
          <a:prstGeom prst="roundRect">
            <a:avLst>
              <a:gd name="adj" fmla="val 2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시스템 구성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35"/>
          <p:cNvSpPr/>
          <p:nvPr/>
        </p:nvSpPr>
        <p:spPr>
          <a:xfrm>
            <a:off x="5219640" y="1619280"/>
            <a:ext cx="1440000" cy="539640"/>
          </a:xfrm>
          <a:prstGeom prst="wedgeRoundRectCallout">
            <a:avLst>
              <a:gd name="adj1" fmla="val -35680"/>
              <a:gd name="adj2" fmla="val 97500"/>
              <a:gd name="adj3" fmla="val 1666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영상인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AutoShape 36"/>
          <p:cNvSpPr/>
          <p:nvPr/>
        </p:nvSpPr>
        <p:spPr>
          <a:xfrm>
            <a:off x="360360" y="5400720"/>
            <a:ext cx="1260360" cy="539640"/>
          </a:xfrm>
          <a:prstGeom prst="wedgeRoundRectCallout">
            <a:avLst>
              <a:gd name="adj1" fmla="val 21064"/>
              <a:gd name="adj2" fmla="val -125212"/>
              <a:gd name="adj3" fmla="val 1666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카드인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AutoShape 37"/>
          <p:cNvSpPr/>
          <p:nvPr/>
        </p:nvSpPr>
        <p:spPr>
          <a:xfrm>
            <a:off x="8099280" y="1619280"/>
            <a:ext cx="1260720" cy="539640"/>
          </a:xfrm>
          <a:prstGeom prst="wedgeRoundRectCallout">
            <a:avLst>
              <a:gd name="adj1" fmla="val 33287"/>
              <a:gd name="adj2" fmla="val 157657"/>
              <a:gd name="adj3" fmla="val 16667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물품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"/>
          <p:cNvPicPr/>
          <p:nvPr/>
        </p:nvPicPr>
        <p:blipFill>
          <a:blip r:embed="rId2"/>
          <a:stretch/>
        </p:blipFill>
        <p:spPr>
          <a:xfrm>
            <a:off x="3111480" y="1494000"/>
            <a:ext cx="6667560" cy="58482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2"/>
          <p:cNvSpPr/>
          <p:nvPr/>
        </p:nvSpPr>
        <p:spPr>
          <a:xfrm>
            <a:off x="6289560" y="360360"/>
            <a:ext cx="3789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700360" y="227160"/>
            <a:ext cx="3779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88960" y="1117440"/>
            <a:ext cx="2160720" cy="54000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영상 처리 과정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25440" y="1994040"/>
            <a:ext cx="2700360" cy="1079280"/>
          </a:xfrm>
          <a:prstGeom prst="roundRect">
            <a:avLst>
              <a:gd name="adj" fmla="val 144"/>
            </a:avLst>
          </a:prstGeom>
          <a:solidFill>
            <a:srgbClr val="314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CAM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으로 촬영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영상을 가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04720" y="4873680"/>
            <a:ext cx="2340000" cy="1260360"/>
          </a:xfrm>
          <a:prstGeom prst="roundRect">
            <a:avLst>
              <a:gd name="adj" fmla="val 125"/>
            </a:avLst>
          </a:prstGeom>
          <a:solidFill>
            <a:srgbClr val="314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가장 확률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높은 것을 채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( 80%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이상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325440" y="3614760"/>
            <a:ext cx="2700360" cy="720720"/>
          </a:xfrm>
          <a:prstGeom prst="roundRect">
            <a:avLst>
              <a:gd name="adj" fmla="val 218"/>
            </a:avLst>
          </a:prstGeom>
          <a:solidFill>
            <a:srgbClr val="3140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Sample Data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와 비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278320" y="1222200"/>
            <a:ext cx="2160720" cy="540000"/>
          </a:xfrm>
          <a:prstGeom prst="roundRect">
            <a:avLst>
              <a:gd name="adj" fmla="val 292"/>
            </a:avLst>
          </a:prstGeom>
          <a:solidFill>
            <a:srgbClr val="4b1f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영상 처리 과정의 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1405080" y="2894040"/>
            <a:ext cx="539640" cy="720720"/>
          </a:xfrm>
          <a:prstGeom prst="downArrow">
            <a:avLst>
              <a:gd name="adj1" fmla="val 50000"/>
              <a:gd name="adj2" fmla="val 3338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1405080" y="4154400"/>
            <a:ext cx="539640" cy="720720"/>
          </a:xfrm>
          <a:prstGeom prst="downArrow">
            <a:avLst>
              <a:gd name="adj1" fmla="val 50000"/>
              <a:gd name="adj2" fmla="val 3338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6289560" y="360360"/>
            <a:ext cx="3789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2700360" y="227160"/>
            <a:ext cx="36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관리자 시스템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AutoShape 3"/>
          <p:cNvSpPr/>
          <p:nvPr/>
        </p:nvSpPr>
        <p:spPr>
          <a:xfrm>
            <a:off x="720720" y="1440000"/>
            <a:ext cx="216072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주요 기능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720720" y="2160720"/>
            <a:ext cx="2160720" cy="90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사용자 식별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인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720720" y="3240000"/>
            <a:ext cx="2160720" cy="161928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시스템 관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사용자 관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실시간 정보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카드 관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3959280" y="1440000"/>
            <a:ext cx="216036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적용 기술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3959280" y="2160720"/>
            <a:ext cx="5040360" cy="90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UDP</a:t>
            </a: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소켓통신으로 인증된 사용자여부 검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AutoShape 8"/>
          <p:cNvSpPr/>
          <p:nvPr/>
        </p:nvSpPr>
        <p:spPr>
          <a:xfrm>
            <a:off x="3959280" y="3240000"/>
            <a:ext cx="5040360" cy="1440000"/>
          </a:xfrm>
          <a:prstGeom prst="flowChartProcess">
            <a:avLst/>
          </a:prstGeom>
          <a:solidFill>
            <a:srgbClr val="33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MySQL DB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서버와 통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2879640" y="234000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879640" y="3419640"/>
            <a:ext cx="1079640" cy="539640"/>
          </a:xfrm>
          <a:prstGeom prst="rightArrow">
            <a:avLst>
              <a:gd name="adj1" fmla="val 52704"/>
              <a:gd name="adj2" fmla="val 89270"/>
            </a:avLst>
          </a:prstGeom>
          <a:solidFill>
            <a:srgbClr val="ff950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2519280" y="2340000"/>
            <a:ext cx="521964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화면 구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회수기 시스템 화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관리자 시스템 화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3303720" y="2352600"/>
            <a:ext cx="2276280" cy="30481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539640" y="234000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6119640" y="2340000"/>
            <a:ext cx="2276640" cy="304812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6"/>
          <p:cNvSpPr/>
          <p:nvPr/>
        </p:nvSpPr>
        <p:spPr>
          <a:xfrm>
            <a:off x="8999640" y="2879640"/>
            <a:ext cx="900000" cy="54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AutoShape 7"/>
          <p:cNvSpPr/>
          <p:nvPr/>
        </p:nvSpPr>
        <p:spPr>
          <a:xfrm>
            <a:off x="8999640" y="3600360"/>
            <a:ext cx="900000" cy="54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조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AutoShape 8"/>
          <p:cNvSpPr/>
          <p:nvPr/>
        </p:nvSpPr>
        <p:spPr>
          <a:xfrm>
            <a:off x="2700360" y="3419640"/>
            <a:ext cx="720720" cy="539640"/>
          </a:xfrm>
          <a:prstGeom prst="rightArrow">
            <a:avLst>
              <a:gd name="adj1" fmla="val 45509"/>
              <a:gd name="adj2" fmla="val 6210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400720" y="3419640"/>
            <a:ext cx="720720" cy="539640"/>
          </a:xfrm>
          <a:prstGeom prst="rightArrow">
            <a:avLst>
              <a:gd name="adj1" fmla="val 45509"/>
              <a:gd name="adj2" fmla="val 6210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AutoShape 10"/>
          <p:cNvSpPr/>
          <p:nvPr/>
        </p:nvSpPr>
        <p:spPr>
          <a:xfrm>
            <a:off x="8280360" y="2879640"/>
            <a:ext cx="720720" cy="540000"/>
          </a:xfrm>
          <a:prstGeom prst="rightArrow">
            <a:avLst>
              <a:gd name="adj1" fmla="val 45509"/>
              <a:gd name="adj2" fmla="val 62068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AutoShape 11"/>
          <p:cNvSpPr/>
          <p:nvPr/>
        </p:nvSpPr>
        <p:spPr>
          <a:xfrm>
            <a:off x="8280360" y="3600360"/>
            <a:ext cx="720720" cy="540000"/>
          </a:xfrm>
          <a:prstGeom prst="rightArrow">
            <a:avLst>
              <a:gd name="adj1" fmla="val 45509"/>
              <a:gd name="adj2" fmla="val 62068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712880" y="2160720"/>
            <a:ext cx="2276640" cy="3047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5103720" y="2160720"/>
            <a:ext cx="2276640" cy="3047760"/>
          </a:xfrm>
          <a:prstGeom prst="rect">
            <a:avLst/>
          </a:prstGeom>
          <a:ln w="0">
            <a:noFill/>
          </a:ln>
        </p:spPr>
      </p:pic>
      <p:sp>
        <p:nvSpPr>
          <p:cNvPr id="196" name="Oval 5"/>
          <p:cNvSpPr/>
          <p:nvPr/>
        </p:nvSpPr>
        <p:spPr>
          <a:xfrm>
            <a:off x="2008080" y="3419640"/>
            <a:ext cx="1979640" cy="539640"/>
          </a:xfrm>
          <a:prstGeom prst="ellipse">
            <a:avLst/>
          </a:prstGeom>
          <a:noFill/>
          <a:ln w="72000">
            <a:solidFill>
              <a:srgbClr val="ff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4140360" y="3419640"/>
            <a:ext cx="900000" cy="539640"/>
          </a:xfrm>
          <a:prstGeom prst="rightArrow">
            <a:avLst>
              <a:gd name="adj1" fmla="val 45509"/>
              <a:gd name="adj2" fmla="val 7755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AutoShape 7"/>
          <p:cNvSpPr/>
          <p:nvPr/>
        </p:nvSpPr>
        <p:spPr>
          <a:xfrm flipH="1" flipV="1">
            <a:off x="3239280" y="5039640"/>
            <a:ext cx="2879640" cy="1260360"/>
          </a:xfrm>
          <a:prstGeom prst="pie">
            <a:avLst/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8640720" y="3060720"/>
            <a:ext cx="1440000" cy="90000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영상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423720" y="235260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3"/>
          <a:stretch/>
        </p:blipFill>
        <p:spPr>
          <a:xfrm>
            <a:off x="3124080" y="234000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4"/>
          <a:stretch/>
        </p:blipFill>
        <p:spPr>
          <a:xfrm>
            <a:off x="5877000" y="2340000"/>
            <a:ext cx="2276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Oval 7"/>
          <p:cNvSpPr/>
          <p:nvPr/>
        </p:nvSpPr>
        <p:spPr>
          <a:xfrm>
            <a:off x="836640" y="2879640"/>
            <a:ext cx="1979640" cy="540000"/>
          </a:xfrm>
          <a:prstGeom prst="ellipse">
            <a:avLst/>
          </a:prstGeom>
          <a:noFill/>
          <a:ln w="72000">
            <a:solidFill>
              <a:srgbClr val="ff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AutoShape 8"/>
          <p:cNvSpPr/>
          <p:nvPr/>
        </p:nvSpPr>
        <p:spPr>
          <a:xfrm>
            <a:off x="2700360" y="3240000"/>
            <a:ext cx="539640" cy="54000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AutoShape 9"/>
          <p:cNvSpPr/>
          <p:nvPr/>
        </p:nvSpPr>
        <p:spPr>
          <a:xfrm>
            <a:off x="5400720" y="3240000"/>
            <a:ext cx="539640" cy="54000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AutoShape 10"/>
          <p:cNvSpPr/>
          <p:nvPr/>
        </p:nvSpPr>
        <p:spPr>
          <a:xfrm>
            <a:off x="8099280" y="3240000"/>
            <a:ext cx="540000" cy="54000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2"/>
          <a:stretch/>
        </p:blipFill>
        <p:spPr>
          <a:xfrm>
            <a:off x="423720" y="431964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2700360" y="912960"/>
            <a:ext cx="2276280" cy="304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4"/>
          <a:stretch/>
        </p:blipFill>
        <p:spPr>
          <a:xfrm>
            <a:off x="5219640" y="900000"/>
            <a:ext cx="2276640" cy="30481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5"/>
          <a:stretch/>
        </p:blipFill>
        <p:spPr>
          <a:xfrm>
            <a:off x="7740720" y="900000"/>
            <a:ext cx="2276280" cy="304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6"/>
          <a:stretch/>
        </p:blipFill>
        <p:spPr>
          <a:xfrm>
            <a:off x="179280" y="912960"/>
            <a:ext cx="2276640" cy="3047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7"/>
          <a:stretch/>
        </p:blipFill>
        <p:spPr>
          <a:xfrm>
            <a:off x="7380360" y="4319640"/>
            <a:ext cx="2276280" cy="304812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7"/>
          <p:cNvSpPr/>
          <p:nvPr/>
        </p:nvSpPr>
        <p:spPr>
          <a:xfrm>
            <a:off x="1619280" y="3959280"/>
            <a:ext cx="107964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분류실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회수기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AutoShape 10"/>
          <p:cNvSpPr/>
          <p:nvPr/>
        </p:nvSpPr>
        <p:spPr>
          <a:xfrm>
            <a:off x="2340000" y="2160720"/>
            <a:ext cx="539640" cy="53964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4859280" y="2160720"/>
            <a:ext cx="539640" cy="53964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7380360" y="2160720"/>
            <a:ext cx="539640" cy="539640"/>
          </a:xfrm>
          <a:prstGeom prst="rightArrow">
            <a:avLst>
              <a:gd name="adj1" fmla="val 45509"/>
              <a:gd name="adj2" fmla="val 46505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1079640" y="3780000"/>
            <a:ext cx="539640" cy="539640"/>
          </a:xfrm>
          <a:prstGeom prst="downArrow">
            <a:avLst>
              <a:gd name="adj1" fmla="val 48972"/>
              <a:gd name="adj2" fmla="val 4876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AutoShape 14"/>
          <p:cNvSpPr/>
          <p:nvPr/>
        </p:nvSpPr>
        <p:spPr>
          <a:xfrm>
            <a:off x="8459640" y="3780000"/>
            <a:ext cx="540000" cy="539640"/>
          </a:xfrm>
          <a:prstGeom prst="downArrow">
            <a:avLst>
              <a:gd name="adj1" fmla="val 48972"/>
              <a:gd name="adj2" fmla="val 48769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관리자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6360" y="1800360"/>
            <a:ext cx="2122560" cy="29638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4"/>
          <p:cNvSpPr/>
          <p:nvPr/>
        </p:nvSpPr>
        <p:spPr>
          <a:xfrm>
            <a:off x="360360" y="1260360"/>
            <a:ext cx="1619280" cy="360360"/>
          </a:xfrm>
          <a:prstGeom prst="roundRect">
            <a:avLst>
              <a:gd name="adj" fmla="val 440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로그인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3"/>
          <a:stretch/>
        </p:blipFill>
        <p:spPr>
          <a:xfrm>
            <a:off x="2700360" y="1800360"/>
            <a:ext cx="7354800" cy="57117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6"/>
          <p:cNvSpPr/>
          <p:nvPr/>
        </p:nvSpPr>
        <p:spPr>
          <a:xfrm>
            <a:off x="2160720" y="3060720"/>
            <a:ext cx="539640" cy="720720"/>
          </a:xfrm>
          <a:prstGeom prst="rightArrow">
            <a:avLst>
              <a:gd name="adj1" fmla="val 44037"/>
              <a:gd name="adj2" fmla="val 43042"/>
            </a:avLst>
          </a:prstGeom>
          <a:solidFill>
            <a:srgbClr val="ffd32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3240000" y="1260360"/>
            <a:ext cx="1619280" cy="360360"/>
          </a:xfrm>
          <a:prstGeom prst="roundRect">
            <a:avLst>
              <a:gd name="adj" fmla="val 440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작업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"/>
          <p:cNvSpPr/>
          <p:nvPr/>
        </p:nvSpPr>
        <p:spPr>
          <a:xfrm rot="18900000">
            <a:off x="1930320" y="1331640"/>
            <a:ext cx="5589720" cy="4449600"/>
          </a:xfrm>
          <a:prstGeom prst="roundRect">
            <a:avLst>
              <a:gd name="adj" fmla="val 14310"/>
            </a:avLst>
          </a:prstGeom>
          <a:solidFill>
            <a:srgbClr val="33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3780000" y="179280"/>
            <a:ext cx="2700000" cy="900360"/>
          </a:xfrm>
          <a:prstGeom prst="roundRect">
            <a:avLst>
              <a:gd name="adj" fmla="val 50000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목  차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519280" y="1619280"/>
            <a:ext cx="665964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1. GRBS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스템 소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세부시스템별 기능 및 적용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화면 구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향후 발전방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관리자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979640" y="1619280"/>
            <a:ext cx="7559640" cy="594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3"/>
          <a:stretch/>
        </p:blipFill>
        <p:spPr>
          <a:xfrm>
            <a:off x="4165560" y="3386160"/>
            <a:ext cx="3600360" cy="291456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1440000" y="1260360"/>
            <a:ext cx="3060720" cy="360360"/>
          </a:xfrm>
          <a:prstGeom prst="roundRect">
            <a:avLst>
              <a:gd name="adj" fmla="val 440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FID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태그를 등록하는 모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" descr=""/>
          <p:cNvPicPr/>
          <p:nvPr/>
        </p:nvPicPr>
        <p:blipFill>
          <a:blip r:embed="rId2"/>
          <a:stretch/>
        </p:blipFill>
        <p:spPr>
          <a:xfrm>
            <a:off x="1979640" y="1619280"/>
            <a:ext cx="7559640" cy="5940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"/>
          <p:cNvSpPr/>
          <p:nvPr/>
        </p:nvSpPr>
        <p:spPr>
          <a:xfrm>
            <a:off x="8459640" y="360360"/>
            <a:ext cx="1457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700360" y="227160"/>
            <a:ext cx="4680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관리자 시스템 화면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AutoShape 4"/>
          <p:cNvSpPr/>
          <p:nvPr/>
        </p:nvSpPr>
        <p:spPr>
          <a:xfrm>
            <a:off x="1440000" y="1260360"/>
            <a:ext cx="3060720" cy="360360"/>
          </a:xfrm>
          <a:prstGeom prst="roundRect">
            <a:avLst>
              <a:gd name="adj" fmla="val 440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카드 정보를 확인하는 모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3419640" y="3041640"/>
            <a:ext cx="2519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  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2519280" y="2249640"/>
            <a:ext cx="540720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향후 발전방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개발 진행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발전방향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8099280" y="366840"/>
            <a:ext cx="1914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향후 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3419640" y="227160"/>
            <a:ext cx="36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개발 진행도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539640" y="1023840"/>
            <a:ext cx="8818560" cy="1854360"/>
            <a:chOff x="539640" y="1023840"/>
            <a:chExt cx="8818560" cy="1854360"/>
          </a:xfrm>
        </p:grpSpPr>
        <p:sp>
          <p:nvSpPr>
            <p:cNvPr id="244" name="AutoShape 4"/>
            <p:cNvSpPr/>
            <p:nvPr/>
          </p:nvSpPr>
          <p:spPr>
            <a:xfrm>
              <a:off x="539640" y="1023840"/>
              <a:ext cx="8818560" cy="1854360"/>
            </a:xfrm>
            <a:prstGeom prst="foldedCorner">
              <a:avLst>
                <a:gd name="adj" fmla="val 12500"/>
              </a:avLst>
            </a:prstGeom>
            <a:solidFill>
              <a:srgbClr val="355e00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Text Box 5"/>
            <p:cNvSpPr/>
            <p:nvPr/>
          </p:nvSpPr>
          <p:spPr>
            <a:xfrm>
              <a:off x="580680" y="1117080"/>
              <a:ext cx="306000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e6ff00"/>
                  </a:solidFill>
                  <a:latin typeface="굴림"/>
                </a:rPr>
                <a:t>회수기 시스템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Text Box 6"/>
            <p:cNvSpPr/>
            <p:nvPr/>
          </p:nvSpPr>
          <p:spPr>
            <a:xfrm>
              <a:off x="688680" y="1769400"/>
              <a:ext cx="8489520" cy="9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카드 식별 시스템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영상처리 시스템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자동 분리 모터제어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회수기 이용자 인터페이스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 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추가적립금 이벤트 게임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재활용품 저장공간 확인 센서 시스템 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미완료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47" name="Group 7"/>
            <p:cNvGrpSpPr/>
            <p:nvPr/>
          </p:nvGrpSpPr>
          <p:grpSpPr>
            <a:xfrm>
              <a:off x="3599640" y="1164960"/>
              <a:ext cx="5217120" cy="420120"/>
              <a:chOff x="3599640" y="1164960"/>
              <a:chExt cx="5217120" cy="420120"/>
            </a:xfrm>
          </p:grpSpPr>
          <p:sp>
            <p:nvSpPr>
              <p:cNvPr id="248" name="AutoShape 8"/>
              <p:cNvSpPr/>
              <p:nvPr/>
            </p:nvSpPr>
            <p:spPr>
              <a:xfrm>
                <a:off x="3599640" y="1164960"/>
                <a:ext cx="5217120" cy="420120"/>
              </a:xfrm>
              <a:prstGeom prst="roundRect">
                <a:avLst>
                  <a:gd name="adj" fmla="val 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</a:rPr>
                  <a:t>90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9" name="AutoShape 9"/>
              <p:cNvSpPr/>
              <p:nvPr/>
            </p:nvSpPr>
            <p:spPr>
              <a:xfrm>
                <a:off x="3599640" y="1164960"/>
                <a:ext cx="5037840" cy="420120"/>
              </a:xfrm>
              <a:prstGeom prst="roundRect">
                <a:avLst>
                  <a:gd name="adj" fmla="val 375"/>
                </a:avLst>
              </a:prstGeom>
              <a:solidFill>
                <a:srgbClr val="aec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굴림"/>
                  </a:rPr>
                  <a:t>95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50" name="Group 10"/>
          <p:cNvGrpSpPr/>
          <p:nvPr/>
        </p:nvGrpSpPr>
        <p:grpSpPr>
          <a:xfrm>
            <a:off x="534960" y="3182760"/>
            <a:ext cx="8823240" cy="1854360"/>
            <a:chOff x="534960" y="3182760"/>
            <a:chExt cx="8823240" cy="1854360"/>
          </a:xfrm>
        </p:grpSpPr>
        <p:sp>
          <p:nvSpPr>
            <p:cNvPr id="251" name="AutoShape 11"/>
            <p:cNvSpPr/>
            <p:nvPr/>
          </p:nvSpPr>
          <p:spPr>
            <a:xfrm>
              <a:off x="534960" y="3182760"/>
              <a:ext cx="8823240" cy="1854360"/>
            </a:xfrm>
            <a:prstGeom prst="foldedCorner">
              <a:avLst>
                <a:gd name="adj" fmla="val 12500"/>
              </a:avLst>
            </a:prstGeom>
            <a:solidFill>
              <a:srgbClr val="004586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2" name="Text Box 12"/>
            <p:cNvSpPr/>
            <p:nvPr/>
          </p:nvSpPr>
          <p:spPr>
            <a:xfrm>
              <a:off x="647280" y="3281040"/>
              <a:ext cx="2771280" cy="49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83caff"/>
                  </a:solidFill>
                  <a:latin typeface="굴림"/>
                </a:rPr>
                <a:t>서버 부분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20360" y="3982320"/>
              <a:ext cx="8457840" cy="87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GRBS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데이타베이스 서버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,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회수기 관련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UDP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소켓통신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-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포인트적립 등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실시간 정보 시스템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미완료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54" name="Group 14"/>
            <p:cNvGrpSpPr/>
            <p:nvPr/>
          </p:nvGrpSpPr>
          <p:grpSpPr>
            <a:xfrm>
              <a:off x="3599640" y="3347640"/>
              <a:ext cx="5217120" cy="431640"/>
              <a:chOff x="3599640" y="3347640"/>
              <a:chExt cx="5217120" cy="431640"/>
            </a:xfrm>
          </p:grpSpPr>
          <p:sp>
            <p:nvSpPr>
              <p:cNvPr id="255" name="AutoShape 15"/>
              <p:cNvSpPr/>
              <p:nvPr/>
            </p:nvSpPr>
            <p:spPr>
              <a:xfrm>
                <a:off x="3599640" y="3347640"/>
                <a:ext cx="5217120" cy="431640"/>
              </a:xfrm>
              <a:prstGeom prst="roundRect">
                <a:avLst>
                  <a:gd name="adj" fmla="val 36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</a:rPr>
                  <a:t>90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6" name="AutoShape 16"/>
              <p:cNvSpPr/>
              <p:nvPr/>
            </p:nvSpPr>
            <p:spPr>
              <a:xfrm>
                <a:off x="3599640" y="3347640"/>
                <a:ext cx="4498200" cy="431640"/>
              </a:xfrm>
              <a:prstGeom prst="roundRect">
                <a:avLst>
                  <a:gd name="adj" fmla="val 366"/>
                </a:avLst>
              </a:prstGeom>
              <a:solidFill>
                <a:srgbClr val="83ca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굴림"/>
                  </a:rPr>
                  <a:t>85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257" name="Group 17"/>
          <p:cNvGrpSpPr/>
          <p:nvPr/>
        </p:nvGrpSpPr>
        <p:grpSpPr>
          <a:xfrm>
            <a:off x="539640" y="5400720"/>
            <a:ext cx="8818560" cy="1746360"/>
            <a:chOff x="539640" y="5400720"/>
            <a:chExt cx="8818560" cy="1746360"/>
          </a:xfrm>
        </p:grpSpPr>
        <p:sp>
          <p:nvSpPr>
            <p:cNvPr id="258" name="AutoShape 18"/>
            <p:cNvSpPr/>
            <p:nvPr/>
          </p:nvSpPr>
          <p:spPr>
            <a:xfrm>
              <a:off x="539640" y="5400720"/>
              <a:ext cx="8818560" cy="1746360"/>
            </a:xfrm>
            <a:prstGeom prst="foldedCorner">
              <a:avLst>
                <a:gd name="adj" fmla="val 12500"/>
              </a:avLst>
            </a:prstGeom>
            <a:solidFill>
              <a:srgbClr val="800000"/>
            </a:solidFill>
            <a:ln w="36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9" name="Text Box 19"/>
            <p:cNvSpPr/>
            <p:nvPr/>
          </p:nvSpPr>
          <p:spPr>
            <a:xfrm>
              <a:off x="612360" y="5516280"/>
              <a:ext cx="2878920" cy="4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800" spc="-1" strike="noStrike">
                  <a:solidFill>
                    <a:srgbClr val="ffcc99"/>
                  </a:solidFill>
                  <a:latin typeface="굴림"/>
                </a:rPr>
                <a:t>관리자 시스템</a:t>
              </a:r>
              <a:endParaRPr b="0" lang="en-US" sz="2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0" name="Text Box 20"/>
            <p:cNvSpPr/>
            <p:nvPr/>
          </p:nvSpPr>
          <p:spPr>
            <a:xfrm>
              <a:off x="720360" y="6136560"/>
              <a:ext cx="8457840" cy="8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프로그램 레이아웃 및 인터페이스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완료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세부 관리시스템별 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DB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액세스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부분 완료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cccccc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사용자 인증 및 사용자별 권한 설정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미완료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999999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261" name="Group 21"/>
            <p:cNvGrpSpPr/>
            <p:nvPr/>
          </p:nvGrpSpPr>
          <p:grpSpPr>
            <a:xfrm>
              <a:off x="3602880" y="5516280"/>
              <a:ext cx="5217120" cy="421920"/>
              <a:chOff x="3602880" y="5516280"/>
              <a:chExt cx="5217120" cy="421920"/>
            </a:xfrm>
          </p:grpSpPr>
          <p:sp>
            <p:nvSpPr>
              <p:cNvPr id="262" name="AutoShape 22"/>
              <p:cNvSpPr/>
              <p:nvPr/>
            </p:nvSpPr>
            <p:spPr>
              <a:xfrm>
                <a:off x="3602880" y="5516280"/>
                <a:ext cx="5217120" cy="421920"/>
              </a:xfrm>
              <a:prstGeom prst="roundRect">
                <a:avLst>
                  <a:gd name="adj" fmla="val 37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</a:rPr>
                  <a:t>90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3" name="AutoShape 23"/>
              <p:cNvSpPr/>
              <p:nvPr/>
            </p:nvSpPr>
            <p:spPr>
              <a:xfrm>
                <a:off x="3602880" y="5516280"/>
                <a:ext cx="3953880" cy="421920"/>
              </a:xfrm>
              <a:prstGeom prst="roundRect">
                <a:avLst>
                  <a:gd name="adj" fmla="val 375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Autofit/>
              </a:bodyPr>
              <a:p>
                <a:pPr algn="ctr">
                  <a:lnSpc>
                    <a:spcPct val="96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굴림"/>
                  </a:rPr>
                  <a:t>75%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8099280" y="366840"/>
            <a:ext cx="1914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향후 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3419640" y="227160"/>
            <a:ext cx="36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발전 방향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179280" y="2592360"/>
            <a:ext cx="9718560" cy="1727280"/>
            <a:chOff x="179280" y="2592360"/>
            <a:chExt cx="9718560" cy="1727280"/>
          </a:xfrm>
        </p:grpSpPr>
        <p:sp>
          <p:nvSpPr>
            <p:cNvPr id="267" name="AutoShape 4"/>
            <p:cNvSpPr/>
            <p:nvPr/>
          </p:nvSpPr>
          <p:spPr>
            <a:xfrm>
              <a:off x="1618920" y="2592360"/>
              <a:ext cx="8278920" cy="1727280"/>
            </a:xfrm>
            <a:prstGeom prst="foldedCorner">
              <a:avLst>
                <a:gd name="adj" fmla="val 12500"/>
              </a:avLst>
            </a:prstGeom>
            <a:solidFill>
              <a:srgbClr val="198a8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8" name="AutoShape 5"/>
            <p:cNvSpPr/>
            <p:nvPr/>
          </p:nvSpPr>
          <p:spPr>
            <a:xfrm>
              <a:off x="179280" y="3060000"/>
              <a:ext cx="1439640" cy="89892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198a8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확장성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6"/>
            <p:cNvSpPr/>
            <p:nvPr/>
          </p:nvSpPr>
          <p:spPr>
            <a:xfrm>
              <a:off x="1618920" y="2700000"/>
              <a:ext cx="8278920" cy="14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전자태그가 부착된 물품으로 정확한 분류정보 파악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회수 가능한 재활용 품목의 다양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저전력 시스템 구축으로 회수기 유지비용 절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0" name="Group 7"/>
          <p:cNvGrpSpPr/>
          <p:nvPr/>
        </p:nvGrpSpPr>
        <p:grpSpPr>
          <a:xfrm>
            <a:off x="179280" y="4788000"/>
            <a:ext cx="9718560" cy="1869840"/>
            <a:chOff x="179280" y="4788000"/>
            <a:chExt cx="9718560" cy="1869840"/>
          </a:xfrm>
        </p:grpSpPr>
        <p:sp>
          <p:nvSpPr>
            <p:cNvPr id="271" name="AutoShape 8"/>
            <p:cNvSpPr/>
            <p:nvPr/>
          </p:nvSpPr>
          <p:spPr>
            <a:xfrm>
              <a:off x="179280" y="5218920"/>
              <a:ext cx="1439640" cy="89892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서비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2" name="AutoShape 9"/>
            <p:cNvSpPr/>
            <p:nvPr/>
          </p:nvSpPr>
          <p:spPr>
            <a:xfrm>
              <a:off x="1618920" y="4788000"/>
              <a:ext cx="8278920" cy="1869840"/>
            </a:xfrm>
            <a:prstGeom prst="foldedCorner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10"/>
            <p:cNvSpPr/>
            <p:nvPr/>
          </p:nvSpPr>
          <p:spPr>
            <a:xfrm>
              <a:off x="1618920" y="4897080"/>
              <a:ext cx="82789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카드정보로  웹서비스 및 이동 통신기기를 통한 적립금 등의 확인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사용자 식별부분을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USIM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카드로 대체하여 카드의 발급에 대한 부담감 완화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이동 통신기기를 </a:t>
              </a:r>
              <a:r>
                <a:rPr b="1" lang="ko-KR" sz="1800" spc="-1" strike="noStrike">
                  <a:solidFill>
                    <a:srgbClr val="ffffff"/>
                  </a:solidFill>
                  <a:latin typeface="굴림"/>
                </a:rPr>
                <a:t>이용한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회수기 관련 각종 실시간 정보 </a:t>
              </a:r>
              <a:r>
                <a:rPr b="1" lang="ko-KR" sz="1800" spc="-1" strike="noStrike">
                  <a:solidFill>
                    <a:srgbClr val="ffffff"/>
                  </a:solidFill>
                  <a:latin typeface="굴림"/>
                </a:rPr>
                <a:t>확인으로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 관리</a:t>
              </a:r>
              <a:r>
                <a:rPr b="1" lang="ko-KR" sz="1800" spc="-1" strike="noStrike">
                  <a:solidFill>
                    <a:srgbClr val="ffffff"/>
                  </a:solidFill>
                  <a:latin typeface="굴림"/>
                </a:rPr>
                <a:t>의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효율성 </a:t>
              </a:r>
              <a:r>
                <a:rPr b="1" lang="ko-KR" sz="1800" spc="-1" strike="noStrike">
                  <a:solidFill>
                    <a:srgbClr val="ffffff"/>
                  </a:solidFill>
                  <a:latin typeface="굴림"/>
                </a:rPr>
                <a:t>증대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74" name="Group 11"/>
          <p:cNvGrpSpPr/>
          <p:nvPr/>
        </p:nvGrpSpPr>
        <p:grpSpPr>
          <a:xfrm>
            <a:off x="179280" y="1260360"/>
            <a:ext cx="9718560" cy="898560"/>
            <a:chOff x="179280" y="1260360"/>
            <a:chExt cx="9718560" cy="898560"/>
          </a:xfrm>
        </p:grpSpPr>
        <p:sp>
          <p:nvSpPr>
            <p:cNvPr id="275" name="AutoShape 12"/>
            <p:cNvSpPr/>
            <p:nvPr/>
          </p:nvSpPr>
          <p:spPr>
            <a:xfrm>
              <a:off x="1618920" y="1260360"/>
              <a:ext cx="8278920" cy="898560"/>
            </a:xfrm>
            <a:prstGeom prst="foldedCorner">
              <a:avLst>
                <a:gd name="adj" fmla="val 12500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6" name="AutoShape 13"/>
            <p:cNvSpPr/>
            <p:nvPr/>
          </p:nvSpPr>
          <p:spPr>
            <a:xfrm>
              <a:off x="179280" y="1260360"/>
              <a:ext cx="1439640" cy="898560"/>
            </a:xfrm>
            <a:custGeom>
              <a:avLst/>
              <a:gdLst>
                <a:gd name="textAreaLeft" fmla="*/ 0 w 1439640"/>
                <a:gd name="textAreaRight" fmla="*/ 1440000 w 143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적립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활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Text Box 14"/>
            <p:cNvSpPr/>
            <p:nvPr/>
          </p:nvSpPr>
          <p:spPr>
            <a:xfrm>
              <a:off x="1618920" y="1402920"/>
              <a:ext cx="82789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*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기존 결제 시스템과 호환된 적립금 사용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 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(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대중교통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영화예매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음식점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백화점 등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)</a:t>
              </a:r>
              <a:r>
                <a:rPr b="1" lang="en-US" sz="1800" spc="-1" strike="noStrike">
                  <a:solidFill>
                    <a:srgbClr val="ffffff"/>
                  </a:solidFill>
                  <a:latin typeface="굴림"/>
                </a:rPr>
                <a:t>‏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2700360" y="720720"/>
            <a:ext cx="4680000" cy="6300720"/>
          </a:xfrm>
          <a:custGeom>
            <a:avLst/>
            <a:gdLst>
              <a:gd name="textAreaLeft" fmla="*/ 158040 w 4680000"/>
              <a:gd name="textAreaRight" fmla="*/ 4521960 w 4680000"/>
              <a:gd name="textAreaTop" fmla="*/ 158040 h 6300720"/>
              <a:gd name="textAreaBottom" fmla="*/ 6142680 h 6300720"/>
            </a:gdLst>
            <a:ahLst/>
            <a:rect l="textAreaLeft" t="textAreaTop" r="textAreaRight" b="textAreaBottom"/>
            <a:pathLst>
              <a:path w="21600" h="29080">
                <a:moveTo>
                  <a:pt x="2491" y="0"/>
                </a:moveTo>
                <a:arcTo wR="2491" hR="2491" stAng="16200000" swAng="-5400000"/>
                <a:lnTo>
                  <a:pt x="0" y="26589"/>
                </a:lnTo>
                <a:arcTo wR="2491" hR="2491" stAng="10800000" swAng="-5400000"/>
                <a:lnTo>
                  <a:pt x="19109" y="29080"/>
                </a:lnTo>
                <a:arcTo wR="2491" hR="2491" stAng="5400000" swAng="-5400000"/>
                <a:lnTo>
                  <a:pt x="21600" y="2491"/>
                </a:lnTo>
                <a:arcTo wR="2491" hR="2491" stAng="0" swAng="-5400000"/>
                <a:close/>
              </a:path>
            </a:pathLst>
          </a:custGeom>
          <a:solidFill>
            <a:srgbClr val="4b1f6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GRBS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시스템 개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개발 배경 및 목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개발 환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세부 시스템별 기능 및 적용기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회수기 시스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관리자 시스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화면 구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회수기 시스템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관리자 시스템 화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시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향후 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개발 진행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3780000" y="179280"/>
            <a:ext cx="2700000" cy="900360"/>
          </a:xfrm>
          <a:prstGeom prst="roundRect">
            <a:avLst>
              <a:gd name="adj" fmla="val 50000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굴림"/>
              </a:rPr>
              <a:t>목  차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2160720" y="1673280"/>
            <a:ext cx="5759280" cy="33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1. GRBS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스템 소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개발 배경 및 목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개발 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GRBS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시스템 개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7559640" y="360360"/>
            <a:ext cx="2519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AutoShape 2"/>
          <p:cNvSpPr/>
          <p:nvPr/>
        </p:nvSpPr>
        <p:spPr>
          <a:xfrm>
            <a:off x="900000" y="1079640"/>
            <a:ext cx="144000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개 요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27240" y="1619280"/>
            <a:ext cx="777240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GRBS (Gold Recycling Bank System)</a:t>
            </a: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자원이 부족한 시대에 황금알 같은 역할을 하는 재활용을 누구나 쉽게 할 수 있도록 하기위해서 임베디드 시스템을 이용한 효과적인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  <a:ea typeface="굴림"/>
              </a:rPr>
              <a:t>재활용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시스템 구축에 목적이 있다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조작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PDA/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폰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/PC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재고 처리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U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게임 형식의 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U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QT UI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회수 가능한 용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캔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플라스틱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/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병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431640" indent="-323640">
              <a:lnSpc>
                <a:spcPct val="9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회수 현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863640" indent="-287280">
              <a:lnSpc>
                <a:spcPct val="96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  <a:ea typeface="굴림"/>
              </a:rPr>
              <a:t>포인트 적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700360" y="227160"/>
            <a:ext cx="45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GRBS</a:t>
            </a: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시스템 개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7559640" y="360360"/>
            <a:ext cx="2519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700360" y="227160"/>
            <a:ext cx="45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GRBS</a:t>
            </a: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시스템 개요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6360" y="882720"/>
            <a:ext cx="10079280" cy="67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7559640" y="360360"/>
            <a:ext cx="2519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2700360" y="227160"/>
            <a:ext cx="45007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개발 배경 및 목적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539640" y="1079640"/>
            <a:ext cx="180036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개발 배경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1260360" y="2805120"/>
            <a:ext cx="7197480" cy="791640"/>
            <a:chOff x="1260360" y="2805120"/>
            <a:chExt cx="7197480" cy="791640"/>
          </a:xfrm>
        </p:grpSpPr>
        <p:sp>
          <p:nvSpPr>
            <p:cNvPr id="68" name="AutoShape 5"/>
            <p:cNvSpPr/>
            <p:nvPr/>
          </p:nvSpPr>
          <p:spPr>
            <a:xfrm>
              <a:off x="4500000" y="2805120"/>
              <a:ext cx="1260000" cy="718920"/>
            </a:xfrm>
            <a:prstGeom prst="roundRect">
              <a:avLst>
                <a:gd name="adj" fmla="val 21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분리수거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AutoShape 6"/>
            <p:cNvSpPr/>
            <p:nvPr/>
          </p:nvSpPr>
          <p:spPr>
            <a:xfrm>
              <a:off x="1800000" y="2805120"/>
              <a:ext cx="720360" cy="3070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AutoShape 7"/>
            <p:cNvSpPr/>
            <p:nvPr/>
          </p:nvSpPr>
          <p:spPr>
            <a:xfrm>
              <a:off x="2700000" y="2908080"/>
              <a:ext cx="1618920" cy="307080"/>
            </a:xfrm>
            <a:prstGeom prst="rightArrow">
              <a:avLst>
                <a:gd name="adj1" fmla="val 52167"/>
                <a:gd name="adj2" fmla="val 159770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Text Box 8"/>
            <p:cNvSpPr/>
            <p:nvPr/>
          </p:nvSpPr>
          <p:spPr>
            <a:xfrm>
              <a:off x="2868120" y="3215160"/>
              <a:ext cx="127152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직접 투입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AutoShape 9"/>
            <p:cNvSpPr/>
            <p:nvPr/>
          </p:nvSpPr>
          <p:spPr>
            <a:xfrm>
              <a:off x="1260360" y="3010680"/>
              <a:ext cx="720360" cy="3088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AutoShape 10"/>
            <p:cNvSpPr/>
            <p:nvPr/>
          </p:nvSpPr>
          <p:spPr>
            <a:xfrm>
              <a:off x="1800000" y="3215160"/>
              <a:ext cx="720360" cy="30744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P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AutoShape 11"/>
            <p:cNvSpPr/>
            <p:nvPr/>
          </p:nvSpPr>
          <p:spPr>
            <a:xfrm>
              <a:off x="5939280" y="2908080"/>
              <a:ext cx="1618920" cy="307080"/>
            </a:xfrm>
            <a:prstGeom prst="rightArrow">
              <a:avLst>
                <a:gd name="adj1" fmla="val 52167"/>
                <a:gd name="adj2" fmla="val 159770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Text Box 12"/>
            <p:cNvSpPr/>
            <p:nvPr/>
          </p:nvSpPr>
          <p:spPr>
            <a:xfrm>
              <a:off x="7523280" y="2998080"/>
              <a:ext cx="9345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재분류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6" name="Group 13"/>
          <p:cNvGrpSpPr/>
          <p:nvPr/>
        </p:nvGrpSpPr>
        <p:grpSpPr>
          <a:xfrm>
            <a:off x="1260360" y="1800360"/>
            <a:ext cx="7018200" cy="791640"/>
            <a:chOff x="1260360" y="1800360"/>
            <a:chExt cx="7018200" cy="791640"/>
          </a:xfrm>
        </p:grpSpPr>
        <p:sp>
          <p:nvSpPr>
            <p:cNvPr id="77" name="AutoShape 14"/>
            <p:cNvSpPr/>
            <p:nvPr/>
          </p:nvSpPr>
          <p:spPr>
            <a:xfrm>
              <a:off x="4500000" y="1800360"/>
              <a:ext cx="1260000" cy="719280"/>
            </a:xfrm>
            <a:prstGeom prst="roundRect">
              <a:avLst>
                <a:gd name="adj" fmla="val 21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쓰레기통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AutoShape 15"/>
            <p:cNvSpPr/>
            <p:nvPr/>
          </p:nvSpPr>
          <p:spPr>
            <a:xfrm>
              <a:off x="1800000" y="1800360"/>
              <a:ext cx="720360" cy="3070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AutoShape 16"/>
            <p:cNvSpPr/>
            <p:nvPr/>
          </p:nvSpPr>
          <p:spPr>
            <a:xfrm>
              <a:off x="2700000" y="1902960"/>
              <a:ext cx="1618920" cy="307440"/>
            </a:xfrm>
            <a:prstGeom prst="rightArrow">
              <a:avLst>
                <a:gd name="adj1" fmla="val 52167"/>
                <a:gd name="adj2" fmla="val 159583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2630160" y="2210400"/>
              <a:ext cx="16887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일반쓰레기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AutoShape 18"/>
            <p:cNvSpPr/>
            <p:nvPr/>
          </p:nvSpPr>
          <p:spPr>
            <a:xfrm>
              <a:off x="1260360" y="2004120"/>
              <a:ext cx="720360" cy="3088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AutoShape 19"/>
            <p:cNvSpPr/>
            <p:nvPr/>
          </p:nvSpPr>
          <p:spPr>
            <a:xfrm>
              <a:off x="1800000" y="2210400"/>
              <a:ext cx="720360" cy="307080"/>
            </a:xfrm>
            <a:prstGeom prst="roundRect">
              <a:avLst>
                <a:gd name="adj" fmla="val 51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P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AutoShape 20"/>
            <p:cNvSpPr/>
            <p:nvPr/>
          </p:nvSpPr>
          <p:spPr>
            <a:xfrm>
              <a:off x="5939280" y="1902960"/>
              <a:ext cx="1618920" cy="307440"/>
            </a:xfrm>
            <a:prstGeom prst="rightArrow">
              <a:avLst>
                <a:gd name="adj1" fmla="val 52167"/>
                <a:gd name="adj2" fmla="val 159583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Text Box 21"/>
            <p:cNvSpPr/>
            <p:nvPr/>
          </p:nvSpPr>
          <p:spPr>
            <a:xfrm>
              <a:off x="7594920" y="2004120"/>
              <a:ext cx="6836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폐기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" name="AutoShape 22"/>
          <p:cNvSpPr/>
          <p:nvPr/>
        </p:nvSpPr>
        <p:spPr>
          <a:xfrm>
            <a:off x="539640" y="4500720"/>
            <a:ext cx="1800360" cy="539640"/>
          </a:xfrm>
          <a:prstGeom prst="roundRect">
            <a:avLst>
              <a:gd name="adj" fmla="val 292"/>
            </a:avLst>
          </a:prstGeom>
          <a:solidFill>
            <a:srgbClr val="aec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굴림"/>
              </a:rPr>
              <a:t>개발 목적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" name="Group 23"/>
          <p:cNvGrpSpPr/>
          <p:nvPr/>
        </p:nvGrpSpPr>
        <p:grpSpPr>
          <a:xfrm>
            <a:off x="1079640" y="5649840"/>
            <a:ext cx="8278200" cy="1007640"/>
            <a:chOff x="1079640" y="5649840"/>
            <a:chExt cx="8278200" cy="1007640"/>
          </a:xfrm>
        </p:grpSpPr>
        <p:sp>
          <p:nvSpPr>
            <p:cNvPr id="87" name="AutoShape 24"/>
            <p:cNvSpPr/>
            <p:nvPr/>
          </p:nvSpPr>
          <p:spPr>
            <a:xfrm>
              <a:off x="4318920" y="5649840"/>
              <a:ext cx="1260000" cy="898560"/>
            </a:xfrm>
            <a:prstGeom prst="roundRect">
              <a:avLst>
                <a:gd name="adj" fmla="val 176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자동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96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분리수거기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AutoShape 25"/>
            <p:cNvSpPr/>
            <p:nvPr/>
          </p:nvSpPr>
          <p:spPr>
            <a:xfrm>
              <a:off x="1618920" y="5649840"/>
              <a:ext cx="720360" cy="385200"/>
            </a:xfrm>
            <a:prstGeom prst="roundRect">
              <a:avLst>
                <a:gd name="adj" fmla="val 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캔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Text Box 26"/>
            <p:cNvSpPr/>
            <p:nvPr/>
          </p:nvSpPr>
          <p:spPr>
            <a:xfrm>
              <a:off x="2915640" y="6275520"/>
              <a:ext cx="683640" cy="3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투입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AutoShape 27"/>
            <p:cNvSpPr/>
            <p:nvPr/>
          </p:nvSpPr>
          <p:spPr>
            <a:xfrm>
              <a:off x="1079640" y="5906520"/>
              <a:ext cx="720360" cy="384840"/>
            </a:xfrm>
            <a:prstGeom prst="roundRect">
              <a:avLst>
                <a:gd name="adj" fmla="val 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병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AutoShape 28"/>
            <p:cNvSpPr/>
            <p:nvPr/>
          </p:nvSpPr>
          <p:spPr>
            <a:xfrm>
              <a:off x="1618920" y="6163200"/>
              <a:ext cx="720360" cy="385200"/>
            </a:xfrm>
            <a:prstGeom prst="roundRect">
              <a:avLst>
                <a:gd name="adj" fmla="val 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pPr algn="ctr"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PT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AutoShape 29"/>
            <p:cNvSpPr/>
            <p:nvPr/>
          </p:nvSpPr>
          <p:spPr>
            <a:xfrm>
              <a:off x="5758200" y="5906520"/>
              <a:ext cx="1618920" cy="384840"/>
            </a:xfrm>
            <a:prstGeom prst="rightArrow">
              <a:avLst>
                <a:gd name="adj1" fmla="val 52167"/>
                <a:gd name="adj2" fmla="val 127487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Text Box 30"/>
            <p:cNvSpPr/>
            <p:nvPr/>
          </p:nvSpPr>
          <p:spPr>
            <a:xfrm>
              <a:off x="7498080" y="6019200"/>
              <a:ext cx="185976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723960"/>
                  <a:tab algn="l" pos="144792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수거 및 재활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AutoShape 31"/>
            <p:cNvSpPr/>
            <p:nvPr/>
          </p:nvSpPr>
          <p:spPr>
            <a:xfrm>
              <a:off x="2518920" y="5906520"/>
              <a:ext cx="1618920" cy="384840"/>
            </a:xfrm>
            <a:prstGeom prst="leftRightArrow">
              <a:avLst>
                <a:gd name="adj1" fmla="val 50000"/>
                <a:gd name="adj2" fmla="val 83745"/>
              </a:avLst>
            </a:prstGeom>
            <a:solidFill>
              <a:srgbClr val="ff950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5" name="AutoShape 32"/>
          <p:cNvSpPr/>
          <p:nvPr/>
        </p:nvSpPr>
        <p:spPr>
          <a:xfrm>
            <a:off x="2700360" y="4859280"/>
            <a:ext cx="3600360" cy="539640"/>
          </a:xfrm>
          <a:prstGeom prst="wedgeRoundRectCallout">
            <a:avLst>
              <a:gd name="adj1" fmla="val -31601"/>
              <a:gd name="adj2" fmla="val 162055"/>
              <a:gd name="adj3" fmla="val 16667"/>
            </a:avLst>
          </a:prstGeom>
          <a:solidFill>
            <a:srgbClr val="4b1f6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사용자 카드에 포인트 적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7559640" y="360360"/>
            <a:ext cx="25192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. GRBS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시스템 소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959280" y="227160"/>
            <a:ext cx="2700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d320"/>
                </a:solidFill>
                <a:latin typeface="굴림"/>
              </a:rPr>
              <a:t>개발 환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360360" y="1800360"/>
            <a:ext cx="1440000" cy="216036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160360"/>
              <a:gd name="textAreaBottom" fmla="*/ 2160000 h 2160360"/>
            </a:gdLst>
            <a:ahLst/>
            <a:rect l="textAreaLeft" t="textAreaTop" r="textAreaRight" b="textAreaBottom"/>
            <a:pathLst>
              <a:path w="21600" h="32403">
                <a:moveTo>
                  <a:pt x="23" y="0"/>
                </a:moveTo>
                <a:arcTo wR="23" hR="23" stAng="16200000" swAng="-5400000"/>
                <a:lnTo>
                  <a:pt x="0" y="32380"/>
                </a:lnTo>
                <a:arcTo wR="23" hR="23" stAng="10800000" swAng="-5400000"/>
                <a:lnTo>
                  <a:pt x="21577" y="32403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서버 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클라이언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2411280" y="1187280"/>
            <a:ext cx="1908360" cy="613080"/>
          </a:xfrm>
          <a:custGeom>
            <a:avLst/>
            <a:gdLst>
              <a:gd name="textAreaLeft" fmla="*/ 0 w 1908360"/>
              <a:gd name="textAreaRight" fmla="*/ 1908720 w 1908360"/>
              <a:gd name="textAreaTop" fmla="*/ 0 h 613080"/>
              <a:gd name="textAreaBottom" fmla="*/ 613080 h 6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ec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굴림"/>
              </a:rPr>
              <a:t>개발 언어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6300720" y="1187280"/>
            <a:ext cx="2519280" cy="6130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613080"/>
              <a:gd name="textAreaBottom" fmla="*/ 613080 h 6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ec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돋움체"/>
                <a:ea typeface="돋움체"/>
              </a:rPr>
              <a:t>사용 시스템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1800360" y="1800360"/>
            <a:ext cx="3060720" cy="2160360"/>
          </a:xfrm>
          <a:prstGeom prst="roundRect">
            <a:avLst>
              <a:gd name="adj" fmla="val 69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gcc (ver 4.1.2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g++ (ver 4.1.2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AutoShape 7"/>
          <p:cNvSpPr/>
          <p:nvPr/>
        </p:nvSpPr>
        <p:spPr>
          <a:xfrm>
            <a:off x="360360" y="4140360"/>
            <a:ext cx="1440000" cy="2700000"/>
          </a:xfrm>
          <a:custGeom>
            <a:avLst/>
            <a:gdLst>
              <a:gd name="textAreaLeft" fmla="*/ 360 w 1440000"/>
              <a:gd name="textAreaRight" fmla="*/ 1439640 w 1440000"/>
              <a:gd name="textAreaTop" fmla="*/ 360 h 2700000"/>
              <a:gd name="textAreaBottom" fmla="*/ 2699640 h 2700000"/>
            </a:gdLst>
            <a:ahLst/>
            <a:rect l="textAreaLeft" t="textAreaTop" r="textAreaRight" b="textAreaBottom"/>
            <a:pathLst>
              <a:path w="21600" h="40495">
                <a:moveTo>
                  <a:pt x="23" y="0"/>
                </a:moveTo>
                <a:arcTo wR="23" hR="23" stAng="16200000" swAng="-5400000"/>
                <a:lnTo>
                  <a:pt x="0" y="40472"/>
                </a:lnTo>
                <a:arcTo wR="23" hR="23" stAng="10800000" swAng="-5400000"/>
                <a:lnTo>
                  <a:pt x="21577" y="40495"/>
                </a:lnTo>
                <a:arcTo wR="23" hR="23" stAng="5400000" swAng="-5400000"/>
                <a:lnTo>
                  <a:pt x="21600" y="23"/>
                </a:lnTo>
                <a:arcTo wR="23" hR="23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타겟 보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회수기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4859280" y="1800360"/>
            <a:ext cx="5219640" cy="2160360"/>
          </a:xfrm>
          <a:prstGeom prst="roundRect">
            <a:avLst>
              <a:gd name="adj" fmla="val 69"/>
            </a:avLst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Linux kernel 2.6.20 x86 P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ySQL 5.0.2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pache 2.2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Qt 3.3.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AutoShape 9"/>
          <p:cNvSpPr/>
          <p:nvPr/>
        </p:nvSpPr>
        <p:spPr>
          <a:xfrm>
            <a:off x="1800360" y="4140360"/>
            <a:ext cx="3060720" cy="2700000"/>
          </a:xfrm>
          <a:prstGeom prst="roundRect">
            <a:avLst>
              <a:gd name="adj" fmla="val 56"/>
            </a:avLst>
          </a:prstGeom>
          <a:solidFill>
            <a:srgbClr val="ffd32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rm-linux-gcc (ver 2.95.3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rm-linux-g++ (ver 2.95.3)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AutoShape 10"/>
          <p:cNvSpPr/>
          <p:nvPr/>
        </p:nvSpPr>
        <p:spPr>
          <a:xfrm>
            <a:off x="4859280" y="4140360"/>
            <a:ext cx="5219640" cy="2700000"/>
          </a:xfrm>
          <a:prstGeom prst="roundRect">
            <a:avLst>
              <a:gd name="adj" fmla="val 56"/>
            </a:avLst>
          </a:prstGeom>
          <a:solidFill>
            <a:srgbClr val="83ca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V2440 boar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ARM920T 16/32bit RISC, LCD 240*320 touch panel)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Linux kernel 2.4.20 AR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qt/embedded 3.3.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FID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모듈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(13.56MHz, ISO 15693, RS232 serial)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WEB CAM (Logitech pro 4000)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2138400" y="2160720"/>
            <a:ext cx="704196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세부 시스템별 기능 및 적용기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회수기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6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관리자 시스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J Lee</dc:creator>
  <dc:description/>
  <dc:language>en-US</dc:language>
  <cp:lastModifiedBy>Windows XP</cp:lastModifiedBy>
  <dcterms:modified xsi:type="dcterms:W3CDTF">2008-10-10T09:43:41Z</dcterms:modified>
  <cp:revision>4</cp:revision>
  <dc:subject/>
  <dc:title>슬라이드 1</dc:title>
</cp:coreProperties>
</file>