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4DF-8D36-42B4-932F-5245B3AA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0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00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693-22C4-412B-AED2-3A5F4008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00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17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00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17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E38-95A6-4E65-90FE-984B2243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00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2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5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0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2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5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CB2-16B3-4B38-9569-685AB268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223B-683E-45A1-AAFA-D67ECEB2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A04A-F3D3-4212-80C1-64502978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AA4E-A847-453B-B3C8-62B4C5D6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0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17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686B-CEF2-4CC0-AAA7-04AD31F4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5D72-FD44-4823-865E-DB403223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0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5AF5-6AD3-46C8-8481-24A4C62A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00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7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00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F8B7-D74D-4D71-9737-08F65A8B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82E3-02F9-4911-960E-5BC59906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00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7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17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0291-84D3-424F-847A-A5CEBF19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0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17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00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BE86-77C1-4B7A-A21A-278C419A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00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00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3B3B-BA49-4B03-A20C-05A8427F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00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7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0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17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A079-D4F5-4882-B11C-C9045BFE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0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82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5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00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82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5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C02A-37E9-4AC5-96E4-108811E1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257-00E3-4FF0-AC1B-F39E85C3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7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6AC-5EDA-443B-BBE0-52711593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8DAF-056C-4274-BC13-4E6E9233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0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8E8-04D5-4497-9308-D2BD715A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00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7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00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748-CA71-4084-B075-36F7B359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00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7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17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EDD-1FC7-4166-B61D-AAAD00FE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00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17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00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E1F-691D-4876-B21D-423FEE57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6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908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95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C012-3BE3-4C86-A19F-88E0A564C16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직사각형 6"/>
          <p:cNvSpPr/>
          <p:nvPr/>
        </p:nvSpPr>
        <p:spPr>
          <a:xfrm>
            <a:off x="285840" y="0"/>
            <a:ext cx="357120" cy="6858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120" y="-21960"/>
            <a:ext cx="34776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맑은 고딕"/>
                <a:ea typeface="맑은 고딕"/>
              </a:rPr>
              <a:t>2008 Open Source Software Contest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6"/>
          <p:cNvSpPr/>
          <p:nvPr/>
        </p:nvSpPr>
        <p:spPr>
          <a:xfrm>
            <a:off x="285840" y="0"/>
            <a:ext cx="357120" cy="6858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6120" y="-21960"/>
            <a:ext cx="34776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맑은 고딕"/>
                <a:ea typeface="맑은 고딕"/>
              </a:rPr>
              <a:t>2008 Open Source Software Contest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Picture 2" descr="C:\Documents and Settings\Administrator\바탕 화면\moon.png"/>
          <p:cNvPicPr/>
          <p:nvPr/>
        </p:nvPicPr>
        <p:blipFill>
          <a:blip r:embed="rId2"/>
          <a:stretch/>
        </p:blipFill>
        <p:spPr>
          <a:xfrm>
            <a:off x="7715160" y="5286240"/>
            <a:ext cx="1698840" cy="1731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236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908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95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DDFF-C54B-48E5-B4BE-0854DD3F4B1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85720" y="2730600"/>
            <a:ext cx="46292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맑은 고딕"/>
              </a:rPr>
              <a:t>DALSONG PLAYER</a:t>
            </a: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234040" y="42908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맑은 고딕"/>
                <a:ea typeface="맑은 고딕"/>
              </a:rPr>
              <a:t>CHOI HEE SU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5376960" y="5253120"/>
            <a:ext cx="247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2f2f2"/>
                </a:solidFill>
                <a:latin typeface="맑은 고딕"/>
                <a:ea typeface="맑은 고딕"/>
              </a:rPr>
              <a:t>KANGWON NATIONAL UNIVERS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2f2f2"/>
                </a:solidFill>
                <a:latin typeface="맑은 고딕"/>
                <a:ea typeface="맑은 고딕"/>
              </a:rPr>
              <a:t>COMPUTER ENGNEER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사각형 5"/>
          <p:cNvSpPr/>
          <p:nvPr/>
        </p:nvSpPr>
        <p:spPr>
          <a:xfrm>
            <a:off x="3440160" y="2583000"/>
            <a:ext cx="4429080" cy="2142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Demonstration</a:t>
            </a: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353600" y="2714760"/>
            <a:ext cx="471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lsong</a:t>
            </a: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Music"/>
          <p:cNvSpPr/>
          <p:nvPr/>
        </p:nvSpPr>
        <p:spPr>
          <a:xfrm rot="1401600">
            <a:off x="6215040" y="2285640"/>
            <a:ext cx="1214640" cy="1214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4" descr="C:\Documents and Settings\Administrator\Local Settings\Temporary Internet Files\Content.IE5\WFMZ6J8F\MCj03700180000[1].wmf"/>
          <p:cNvPicPr/>
          <p:nvPr/>
        </p:nvPicPr>
        <p:blipFill>
          <a:blip r:embed="rId1"/>
          <a:stretch/>
        </p:blipFill>
        <p:spPr>
          <a:xfrm>
            <a:off x="5214960" y="2428920"/>
            <a:ext cx="3571920" cy="2976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Next Plan</a:t>
            </a: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00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Various features by collaborative people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More than two lyric servers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Question and Answer</a:t>
            </a: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3865680" y="3784680"/>
            <a:ext cx="3952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MS UI Gothic"/>
                <a:ea typeface="MS UI Gothic"/>
              </a:rPr>
              <a:t>Q&amp;A</a:t>
            </a:r>
            <a:endParaRPr b="0" lang="en-US" sz="1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1498680" y="1789200"/>
            <a:ext cx="12063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e46c0a"/>
                </a:solidFill>
                <a:latin typeface="MS UI Gothic"/>
                <a:ea typeface="MS UI Gothic"/>
              </a:rPr>
              <a:t>!</a:t>
            </a:r>
            <a:endParaRPr b="0" lang="en-US" sz="3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Box 7"/>
          <p:cNvSpPr/>
          <p:nvPr/>
        </p:nvSpPr>
        <p:spPr>
          <a:xfrm rot="1092000">
            <a:off x="2098440" y="1470600"/>
            <a:ext cx="1834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ac090"/>
                </a:solidFill>
                <a:latin typeface="MS UI Gothic"/>
                <a:ea typeface="MS UI Gothic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4222800" y="385776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Lath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Latha"/>
              </a:rPr>
              <a:t>I Have a Question!!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5"/>
          <p:cNvSpPr/>
          <p:nvPr/>
        </p:nvSpPr>
        <p:spPr>
          <a:xfrm>
            <a:off x="2143080" y="1357200"/>
            <a:ext cx="585792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lSo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Multi-platform Java mp3 play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Synchronized Song lyric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Use Alsong lyrics serv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Administrator\Local Settings\Temporary Internet Files\Content.IE5\IJEL4567\MCj03517480000[1].wmf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77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C:\Documents and Settings\Administrator\바탕 화면\Untitled-1.png"/>
          <p:cNvPicPr/>
          <p:nvPr/>
        </p:nvPicPr>
        <p:blipFill>
          <a:blip r:embed="rId2"/>
          <a:stretch/>
        </p:blipFill>
        <p:spPr>
          <a:xfrm>
            <a:off x="1071720" y="85716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418120" y="1500120"/>
            <a:ext cx="56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lsong is the best mp3 player!!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1618920" y="3286080"/>
            <a:ext cx="281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Why??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316880" y="4500720"/>
            <a:ext cx="76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1,000,000 Song Lyrics Synchroniza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C:\Documents and Settings\Administrator\바탕 화면\images.jpg"/>
          <p:cNvPicPr/>
          <p:nvPr/>
        </p:nvPicPr>
        <p:blipFill>
          <a:blip r:embed="rId1"/>
          <a:stretch/>
        </p:blipFill>
        <p:spPr>
          <a:xfrm>
            <a:off x="1071720" y="785880"/>
            <a:ext cx="1249200" cy="148104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1987920" y="1071720"/>
            <a:ext cx="67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What about Linux Users?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357280" y="2571840"/>
            <a:ext cx="46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LTERNATIVE PLAY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marok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Rhythmbox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직사각형 10"/>
          <p:cNvSpPr/>
          <p:nvPr/>
        </p:nvSpPr>
        <p:spPr>
          <a:xfrm>
            <a:off x="1357200" y="4429080"/>
            <a:ext cx="6929640" cy="1643040"/>
          </a:xfrm>
          <a:prstGeom prst="rect">
            <a:avLst/>
          </a:prstGeom>
          <a:noFill/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Inconvenien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: You must install add-on script prog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Insuffici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: It doesn’t have enough Korean lyrics as many as Alsong ha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5"/>
          <p:cNvSpPr/>
          <p:nvPr/>
        </p:nvSpPr>
        <p:spPr>
          <a:xfrm>
            <a:off x="1285920" y="571680"/>
            <a:ext cx="75722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lSong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an provid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ynchronized song 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lyrics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on your </a:t>
            </a:r>
            <a:r>
              <a:rPr b="1" lang="en-US" sz="3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Linux Desktop</a:t>
            </a:r>
            <a:r>
              <a:rPr b="1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485784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사각형 5"/>
          <p:cNvSpPr/>
          <p:nvPr/>
        </p:nvSpPr>
        <p:spPr>
          <a:xfrm>
            <a:off x="1214280" y="2500200"/>
            <a:ext cx="4143600" cy="35006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lSong Bod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Architecture</a:t>
            </a: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5" name="원통 3"/>
          <p:cNvSpPr/>
          <p:nvPr/>
        </p:nvSpPr>
        <p:spPr>
          <a:xfrm>
            <a:off x="6715080" y="3143160"/>
            <a:ext cx="1643040" cy="2143080"/>
          </a:xfrm>
          <a:prstGeom prst="can">
            <a:avLst>
              <a:gd name="adj" fmla="val 19166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lso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Lyric Serv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(SOAP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4"/>
          <p:cNvSpPr/>
          <p:nvPr/>
        </p:nvSpPr>
        <p:spPr>
          <a:xfrm>
            <a:off x="1357200" y="4714920"/>
            <a:ext cx="3857760" cy="1071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Layer1.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MP3 library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사각형 6"/>
          <p:cNvSpPr/>
          <p:nvPr/>
        </p:nvSpPr>
        <p:spPr>
          <a:xfrm>
            <a:off x="1357200" y="3143160"/>
            <a:ext cx="1143000" cy="1500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lay Lis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사각형 7"/>
          <p:cNvSpPr/>
          <p:nvPr/>
        </p:nvSpPr>
        <p:spPr>
          <a:xfrm>
            <a:off x="2571840" y="3143160"/>
            <a:ext cx="1143000" cy="1500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yric Wind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왼쪽 화살표 9"/>
          <p:cNvSpPr/>
          <p:nvPr/>
        </p:nvSpPr>
        <p:spPr>
          <a:xfrm>
            <a:off x="5214960" y="4143240"/>
            <a:ext cx="1357200" cy="571680"/>
          </a:xfrm>
          <a:prstGeom prst="leftArrow">
            <a:avLst>
              <a:gd name="adj1" fmla="val 50000"/>
              <a:gd name="adj2" fmla="val 49976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사각형 10"/>
          <p:cNvSpPr/>
          <p:nvPr/>
        </p:nvSpPr>
        <p:spPr>
          <a:xfrm>
            <a:off x="3786120" y="3143160"/>
            <a:ext cx="1428840" cy="5000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ntagged Audio Tag libra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직사각형 13"/>
          <p:cNvSpPr/>
          <p:nvPr/>
        </p:nvSpPr>
        <p:spPr>
          <a:xfrm>
            <a:off x="3786120" y="4214880"/>
            <a:ext cx="1428840" cy="428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JD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직사각형 11"/>
          <p:cNvSpPr/>
          <p:nvPr/>
        </p:nvSpPr>
        <p:spPr>
          <a:xfrm>
            <a:off x="3786120" y="3714840"/>
            <a:ext cx="1428840" cy="428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OAPClient4X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왼쪽 화살표 14"/>
          <p:cNvSpPr/>
          <p:nvPr/>
        </p:nvSpPr>
        <p:spPr>
          <a:xfrm flipH="1">
            <a:off x="5285520" y="3643200"/>
            <a:ext cx="1357560" cy="571680"/>
          </a:xfrm>
          <a:prstGeom prst="leftArrow">
            <a:avLst>
              <a:gd name="adj1" fmla="val 50000"/>
              <a:gd name="adj2" fmla="val 49989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직사각형 15"/>
          <p:cNvSpPr/>
          <p:nvPr/>
        </p:nvSpPr>
        <p:spPr>
          <a:xfrm>
            <a:off x="1071720" y="1357200"/>
            <a:ext cx="7572240" cy="471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Structure of MP3</a:t>
            </a: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116" name="Picture 9" descr="http://pds9.egloos.com/pds/200803/14/26/f0008826_47d9e7c9cad32.gif"/>
          <p:cNvPicPr/>
          <p:nvPr/>
        </p:nvPicPr>
        <p:blipFill>
          <a:blip r:embed="rId1"/>
          <a:stretch/>
        </p:blipFill>
        <p:spPr>
          <a:xfrm>
            <a:off x="1428840" y="2333520"/>
            <a:ext cx="1609560" cy="2952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http://pds7.egloos.com/pds/200803/14/26/f0008826_47d9e7d26a65c.gif"/>
          <p:cNvPicPr/>
          <p:nvPr/>
        </p:nvPicPr>
        <p:blipFill>
          <a:blip r:embed="rId2"/>
          <a:stretch/>
        </p:blipFill>
        <p:spPr>
          <a:xfrm>
            <a:off x="3786120" y="2214720"/>
            <a:ext cx="1657440" cy="3124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http://pds8.egloos.com/pds/200803/14/26/f0008826_47d9e7dcdfcf1.gif"/>
          <p:cNvPicPr/>
          <p:nvPr/>
        </p:nvPicPr>
        <p:blipFill>
          <a:blip r:embed="rId3"/>
          <a:stretch/>
        </p:blipFill>
        <p:spPr>
          <a:xfrm>
            <a:off x="6143760" y="2071800"/>
            <a:ext cx="2181240" cy="337176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6"/>
          <p:cNvSpPr/>
          <p:nvPr/>
        </p:nvSpPr>
        <p:spPr>
          <a:xfrm>
            <a:off x="1214280" y="1500120"/>
            <a:ext cx="221472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D3 TA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직사각형 17"/>
          <p:cNvSpPr/>
          <p:nvPr/>
        </p:nvSpPr>
        <p:spPr>
          <a:xfrm>
            <a:off x="1571760" y="5500800"/>
            <a:ext cx="12859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1.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8"/>
          <p:cNvSpPr/>
          <p:nvPr/>
        </p:nvSpPr>
        <p:spPr>
          <a:xfrm>
            <a:off x="3929040" y="5500800"/>
            <a:ext cx="12859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1.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직사각형 19"/>
          <p:cNvSpPr/>
          <p:nvPr/>
        </p:nvSpPr>
        <p:spPr>
          <a:xfrm>
            <a:off x="6572160" y="5500800"/>
            <a:ext cx="12859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2.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1549800" y="6215040"/>
            <a:ext cx="65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We need the first audio frame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(163840byt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Request packet</a:t>
            </a: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5" name="직사각형 11"/>
          <p:cNvSpPr/>
          <p:nvPr/>
        </p:nvSpPr>
        <p:spPr>
          <a:xfrm>
            <a:off x="785880" y="1714680"/>
            <a:ext cx="8143920" cy="392904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POST /alsongwebservice/service1.asmx HTTP/1.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Host: lyrics.alsong.co.kr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User-Agent: gSOAP/2.7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Content-Type: application/soap+xml; charset=utf-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Content-Length: 699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Connection: clos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SOAPAction: "ALSongWebServer/GetLyric5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&lt;SOAP-ENV:Envelope xmlns:SOAP-ENV="http://www.w3.org/2003/05/soap-envelope" xmlns:SOAP-ENC="http://www.w3.org/2003/05/soap-encoding" xmlns:xsi="http://www.w3.org/2001/XMLSchema-instance" xmlns:xsd="http://www.w3.org/2001/XMLSchema" xmlns:ns2="ALSongWebServer/Service1Soap" xmlns:ns1="ALSongWebServer" xmlns:ns3="ALSongWebServer/Service1Soap12"&gt;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&lt;?xml version="1.0" encoding="UTF-8"?&gt;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  &lt;SOAP-ENV:Body&gt;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    &lt;ns1:GetLyric5&gt;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    &lt;ns1:stQuery&gt;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    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</a:rPr>
              <a:t>&lt;ns1:strChecksum&gt;45c0c42832c579505401c31d0984e551&lt;/ns1:strChecksum&gt;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    &lt;ns1:strVersion&gt;1.93&lt;/ns1:strVersion&gt;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    &lt;ns1:strMACAddress&gt;00ff667f9a08&lt;/ns1:strMACAddress&gt;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    &lt;ns1:strIPAddress&gt;xxx.xxx.xxx.xxx&lt;/ns1:strIPAddress&gt;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    &lt;/ns1:stQuery&gt;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    &lt;/ns1:GetLyric5&gt;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  &lt;/SOAP-ENV:Body&gt;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맑은 고딕"/>
              </a:rPr>
              <a:t>&lt;/SOAP-ENV:Envelope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Response packet</a:t>
            </a:r>
            <a:endParaRPr b="0" lang="en-US" sz="4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7" name="직사각형 11"/>
          <p:cNvSpPr/>
          <p:nvPr/>
        </p:nvSpPr>
        <p:spPr>
          <a:xfrm>
            <a:off x="785880" y="1714680"/>
            <a:ext cx="8143920" cy="442908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?xml version="1.0" encoding="utf-8"?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oap:Envelope xmlns:soap="http://www.w3.org/2003/05/soap-envelope" xmlns:xsi="http://www.w3.org/2001/XMLSchema-instance" xmlns:xsd="http://www.w3.org/2001/XMLSchema"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oap:Body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GetLyric5Response xmlns="ALSongWebServer"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GetLyric5Result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StatusID&gt;1&lt;/strStatusID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InfoID&gt;2194425&lt;/strInfoID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RegistDate&gt;2008-04-06 21:10:07.000&lt;/strRegistDate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Title&gt;</a:t>
            </a:r>
            <a:r>
              <a:rPr b="0" lang="ko-KR" sz="9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다시 내곁으로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(duet with </a:t>
            </a:r>
            <a:r>
              <a:rPr b="0" lang="ko-KR" sz="9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손호영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)&lt;/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strTitle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Artist&gt;As One(</a:t>
            </a:r>
            <a:r>
              <a:rPr b="0" lang="ko-KR" sz="9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에즈원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)&lt;/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strArtist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Album&gt;</a:t>
            </a:r>
            <a:r>
              <a:rPr b="0" lang="ko-KR" sz="9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우리가 알고 있는 사랑이야기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/strAlbum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CountGood&gt;0&lt;/strCountGood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CountBad&gt;0&lt;/strCountBad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맑은 고딕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</a:rPr>
              <a:t>&lt;strLyric&gt;......</a:t>
            </a:r>
            <a:r>
              <a:rPr b="0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가사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.....&lt;/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</a:rPr>
              <a:t>strLyric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RegisterFirstName&gt;</a:t>
            </a:r>
            <a:r>
              <a:rPr b="0" lang="ko-KR" sz="9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첫번째등록자명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/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strRegisterFirstName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RegisterFirstEMail /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RegisterFirstURL&gt;www.altools.co.kr&lt;/strRegisterFirstURL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RegisterFirstPhone /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RegisterFirstComment /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RegisterName&gt;123&lt;/strRegisterName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RegisterEMail /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RegisterURL /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RegisterPhone /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strRegisterComment /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/GetLyric5Result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/GetLyric5Response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/soap:Body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맑은 고딕"/>
              </a:rPr>
              <a:t>&lt;/soap:Envelope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48530" t="0" r="0" b="0"/>
          <a:stretch/>
        </p:blipFill>
        <p:spPr>
          <a:xfrm>
            <a:off x="5143680" y="2357280"/>
            <a:ext cx="34290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3:26:20Z</dcterms:created>
  <dc:creator>snoopy</dc:creator>
  <dc:description/>
  <dc:language>en-US</dc:language>
  <cp:lastModifiedBy>MICRO</cp:lastModifiedBy>
  <dcterms:modified xsi:type="dcterms:W3CDTF">2008-10-08T03:21:14Z</dcterms:modified>
  <cp:revision>42</cp:revision>
  <dc:subject/>
  <dc:title>슬라이드 1</dc:title>
</cp:coreProperties>
</file>